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0A7-E454-4A5E-8514-6FF706B7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959-A63C-4064-BF6D-A92BC00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E60-8622-4D54-A13E-AFAEEFAF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B22-B4A4-434B-AFB4-EDCD8837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58B4-0F12-46DE-88DB-EC7A525E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A0D-EC22-4EC0-8DE4-6EB5451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E40-79F2-43BC-85D5-09CEDA1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9968-AB6D-46D2-8E45-D72F00C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7C14-CDB3-4028-ADC5-D730B3C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ABA-F6E6-4BB5-B641-D9B455D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D81-B265-47F2-8C17-85D4EFE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218-6527-44E4-AE81-D6856834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18F5-25E0-4999-83C9-ABD79FA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D611-D008-493E-B067-FA4E3FC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F84-20F8-407B-A4FE-4CB63B6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E91F-FDCD-472C-B24C-F71A6F15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15E-89A0-4DB3-A0A4-256D39CB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047-D62D-4215-A019-9F9D91D6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25F-13B7-4394-97A3-D30DC7F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71D-A758-4805-94AA-9CCC9AE4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E25-C81F-4154-8714-2C8898DF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C24-AB77-4451-B5E9-CEB188D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3EE-DD8D-48D0-98EC-EE282C8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16D-9E1B-4DD7-8C1D-F3B1FB3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B90-3841-47D0-929A-6827C0AA3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716-28E7-4EB6-B6B8-B4E1FFB8D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926-FEFA-4A88-AC33-C7FE0F7435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87692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(Rental.RentDate = Sale.SaleDate) AND (Rental.CustomerID = Sale.Customer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68588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95680" y="328608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C39-A3DE-4109-A666-C19F4471B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905120"/>
            <a:ext cx="510552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join from Rental to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join from Sale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is new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option to include all 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2E3-6221-4F9D-BC7A-FF7330423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324400" cy="3019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1143000" y="41911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309920"/>
            <a:ext cx="8763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LEFT JOIN Rental ON Sale.CustomerID = Rent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58128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Properties: Left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24080" y="2514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3429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14880" y="1752480"/>
            <a:ext cx="3952800" cy="21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0E9-B5F1-4AE1-8C72-2DBCDB7DB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847880"/>
            <a:ext cx="3648240" cy="4095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590920"/>
            <a:ext cx="259092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ho purchased items without renting anything have missing (Null) values for the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495680" y="25146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572000" y="32000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72000" y="33526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95680" y="3505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35053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7F2-8AF2-4857-B6B3-617C09BAD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2057400"/>
            <a:ext cx="487692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CustomerID (use SQL):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9BF-E436-4952-9825-C6182E2F1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724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.CustomerID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86280" cy="308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61016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862-B729-4D39-823A-F06D60385F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752480"/>
            <a:ext cx="69343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 an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QuantityOnHand and sort it in de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ID, CategoryName, LowLimit, High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B9B-0C33-4A88-A798-F6526B543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62440" cy="303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41964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130-C4C9-4DC7-99D1-FF8762BABC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2652840"/>
            <a:ext cx="4114800" cy="155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8AB-F35E-4BDC-AE1D-6773A68350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981080"/>
            <a:ext cx="5257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ModelsOnHand and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view add the inequality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37A-3C3C-4AE3-A1B6-7927BD5956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A1E-13D1-4AB9-8DE4-ACE672E168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455840"/>
            <a:ext cx="4876920" cy="265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848040" cy="2877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629240"/>
            <a:ext cx="79250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odelsOnHand.ModelID, ModelsOnHand.SumOfQuantityOnHand, SalesCategory.CategoryID, SalesCategory.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odelsOnHand INNER JOIN SalesCategory ON (ModelsOnHand.SumOfQuantityOnHand&gt;=SalesCategory.LowLimit) AND (ModelsOnHand.SumOfQuantityOnHand&lt;SalesCategory.HighLimi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6576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in cannot be displayed in design view and must be entered by hand in SQ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752480" y="2286000"/>
            <a:ext cx="152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5720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89F-1DDC-4FF5-822C-CF4C0C0C6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324320" cy="305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971800" cy="15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883-61CB-4C15-8B64-8BFF9378B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655344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January sale date in criteri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entir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ord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to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302-B19E-4330-BB98-27B0EC76D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51520" y="1749600"/>
            <a:ext cx="35589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it could be done with simple conditions, but it is good practice for UN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962520"/>
            <a:ext cx="853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Jan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1/1/2004# And #1/31/2004#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Mar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3/1/2004# And #3/31/2004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495680" cy="25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D77-90EC-425A-87C0-6E5A53C75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752480"/>
            <a:ext cx="54864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Category,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to sum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“Where” and criteria for RentDate to Between [Start Date] And [End Da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AD4-57BE-41EA-B73D-9FEC060012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734000" cy="4276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4572000"/>
            <a:ext cx="2114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D8B-71FD-4D34-841C-4A312A66F0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1981080"/>
            <a:ext cx="487692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4FC-C76A-4653-98EF-52BB3D343C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7C2-CF3B-486A-878B-A2760E1A28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905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3AA-AB34-4E20-92AB-517C177E68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586728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INSERT command: INSERT INTO Customer (LastName, FirstName, City, Gender) 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A14-AC13-4551-852C-900B557168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34200" cy="3095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3840" y="46846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3305160" cy="26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743-65EB-4D5D-A9F5-F5BEF5370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D32-13F4-481D-AB77-93C5371366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710-8A2B-44F1-8747-BF0888326C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1905120"/>
            <a:ext cx="594360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, ModelYear,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Category=”Board” And ModelYear=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Cost set Update To: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A6E-458A-42F4-BA0F-2DBEA752F2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486400" cy="4321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333072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/ 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288960" y="1882440"/>
            <a:ext cx="1282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76720" y="355932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99000" y="49356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118120" y="478260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79132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temModel SET Cost =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Board") AND (ModelYear=200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249228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76920" y="2111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365-1346-4D13-817E-33FFE60089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2057400"/>
            <a:ext cx="426744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ID, LName, F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ID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Dele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24F-D8F0-4008-97F2-693976E87D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4572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D &gt;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423864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BEF-27ED-45B1-A730-119F75A197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8AA-B565-4AD1-B0AF-5528261378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057400"/>
            <a:ext cx="502920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SalesValue: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SalesValue, Group By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query as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and select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C95-91D0-497A-8901-87639FF5F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9051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vg(CustomerSales.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41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4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800360" cy="30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C7E-3D06-47CB-BA7D-2164EC523A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33720"/>
            <a:ext cx="586728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SalesValue (enter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C8F-5E67-4146-9465-914660E71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753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.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sValue &gt; 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alesValu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33920" cy="303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914920" cy="29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6BA-2FF9-455B-B586-17EC571837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9528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Rental.CustomerID = 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95720" cy="3247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15296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D29-20BB-491F-BCD1-049DA53122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828800"/>
            <a:ext cx="51818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RentDate=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0CA-BAA3-45EA-8247-5ECF3D341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49Z</dcterms:modified>
  <cp:revision>35</cp:revision>
  <dc:subject/>
  <dc:title>All Powder Board and Ski</dc:title>
</cp:coreProperties>
</file>