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38C-9F9F-478E-8295-AA443DFD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CBD-FC00-472B-BCDC-6F2D8D7D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40A-7ADF-4609-A11E-7CDB6D91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B3A-661B-4B4F-A095-7413922E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D648-EB81-486D-85ED-7C0F06FA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0E4C-F19F-4320-A708-3190531E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AC03-02BB-4B75-BD8A-0F3EBCF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2256-2267-41EE-A444-A730406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C6D0-397F-4B06-AE9F-71DCB16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A556-5736-4576-B309-0CA1AE5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275E-8999-47BE-8988-31478C5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787-12FD-41FE-9A34-1E0D595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FED8-E000-47B7-A29C-628751E4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7DFA-CE78-4689-A3E9-BC241AD6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F7C2-AD40-414C-ABEC-2C1BE07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891-04F5-44D0-8430-B233B1DC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FD66-5C6F-45CF-98A3-9FA201EC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F00-080C-47AF-8FE9-C4FA8D5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601-31AE-4DBB-B03E-24FDBBD6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5E9-3699-46AD-89E8-DBA61F5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BCC-8275-4097-A25C-EBE76866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E28-8D10-43E2-AEEE-8477D8F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C40-E9C3-49BA-8844-357FB4F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8E1-86BF-453B-AFB6-B9E5E23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4EB-EEBC-44B5-B713-3FFAE5012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F6B-D6DB-43E3-A75A-41C279D9A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A2E1-9165-4F58-A017-9299F80BA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0574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qryOldModels.Color, qryOldModels.ModelYear, qryOldModels.Graphics, qryOldModels.ItemMaterial, qryOldModels.ListPrice, qryOldModels.Style, qryOldModels.SkillLevel, qryOldModels.WeightMax, qryOldModels.WaistWidth, qryOldModel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D17-6BFB-49D0-99DE-AFA0FC79E9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84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88620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E53-A9E1-47B0-9019-9E1AB87E7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828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6852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336852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800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130-7725-4947-99AF-C6E2897926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KU, OldSales.QuantitySold, OldSales.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0D1-CB1B-4889-9C96-31E04A0732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905120"/>
            <a:ext cx="655308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, SaleItem, Inventory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hipState, PaymentMethod, SaleMonth with a format of “yyyy-mm”, and Value = 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98E-105D-4E36-803A-1EA0CFE657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6752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334120"/>
            <a:ext cx="3810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ll desired sale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39625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536904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Value as quantity time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162920" y="3581280"/>
            <a:ext cx="3045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57200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SaleDate as year and month: yyyy-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05520" y="35812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676520" y="396252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45A-580E-413B-8EB4-92E92DA3A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7680" y="2128680"/>
            <a:ext cx="3429000" cy="26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A6E-98A1-47B1-A4E2-F059A78B1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828800"/>
            <a:ext cx="6400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nsert/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utoForm: Pivo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av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aleMonth and drop it on the column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ategory and ShipState fields and drop them on the row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Value field and drop it in the middle Detai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other fields and drop them at the top as filter fields for fut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the main grid to the f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he Value field in the Totals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A47-BF2D-4CA5-A80D-BBF7F634B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47880" y="1752480"/>
            <a:ext cx="7143840" cy="39942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23623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columns (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15900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rows (State, 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724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Valu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562720" y="3047760"/>
            <a:ext cx="17524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200040" y="23623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495680" y="350496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33360" y="3048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43828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th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486400" y="48769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14800" y="4114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EE1-4D10-4653-BB33-9BCDB98400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981080"/>
            <a:ext cx="701064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quarterl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first month and right click on the third month to highligh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select the Group/Group Item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new cell SaleMonth1 and change its Caption property to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Group1 cell and set its caption to 2001-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he process for all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group the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lapse option to reduce the gri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1FA-6913-4C14-B397-41F6E119C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692-2805-46C8-931A-5F326E870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47960" y="2187720"/>
            <a:ext cx="6815160" cy="3603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590920"/>
            <a:ext cx="14479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lect all columns and choose  Hid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05120" y="281916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991-24E3-463C-AF20-4D1E4D40F2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7728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C4F-7CAB-4EA3-86BD-AB15500DE9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647712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Excel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/PivotTable and Pivot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ernal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Get Data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to your database and select the query built in the previou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the SaleMonth field as rows, the Category field as columns and Value as the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BDB-FB75-4540-931B-360D15A1C3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1752480"/>
            <a:ext cx="67816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PivotTable and select the PivotChart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ivotChart worksheet remove all categories except Boards, Skis, Boots, 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t the Chart Type as a Lin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each series and Add Tren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linear trend and forecast it for 3 periods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to improve the chart’s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CB9-C824-4FB1-A61B-344EB8B67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2133720"/>
            <a:ext cx="518184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Data Analysis Add-Ins are installed in Excel (Tools/Add-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-Test Two-sample with unequal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Board and Ski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345-61ED-4053-9526-A8E489B261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Exc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6800" y="1523880"/>
            <a:ext cx="7610400" cy="473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34F-346C-40CD-809A-FC0E22DB18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1828800"/>
            <a:ext cx="556272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Microsoft Map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Excel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rows for ShipState and columns for Board, Boots, Clothes, an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econd worksheet that copies the main data and titles from the PivotTable without the first titl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MapPoi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wizard instructions to add a North American map with pi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31A-84F7-49C3-8D79-94AABA575A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61920" y="1447920"/>
            <a:ext cx="5133960" cy="477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4382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votTable places the data into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562720"/>
            <a:ext cx="3504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copy of this sheet is used to remove the top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9520" y="60958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428640" y="2590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7EC-5ACE-40AC-AA2A-D092E87467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88620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9E4-7A35-496F-9555-E90D4DE313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5967360" cy="49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A1F-F245-4CEB-B101-0996336CF0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172200" cy="339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6334200" cy="34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2A4-1B77-4228-B3F4-7B48684F02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752480"/>
            <a:ext cx="701064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base command File/Get External Data/Import to read the demographic spreadshee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query to combine the sales data by state with the demograph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e three columns of data into a new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cel, choose Tools/Data Analysis/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alue column as the Y-range and the population and income columns as the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top row as labe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D16-DCF3-45D3-99C7-D141E8A9E0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by State for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54100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some states are missing from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14400" y="1905120"/>
            <a:ext cx="551520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9C2-44D8-4C81-BCAB-156ABFA974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28760" y="1371600"/>
            <a:ext cx="5010120" cy="491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5720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include the label row but be sure to check the box to show you includ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57400" y="36576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A20-DC1D-45C7-ACBD-082123BF10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780240" cy="2781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20574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R-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0400" y="2209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502920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s a significant predictor, incom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19360" y="4648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95288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EBD-E5E3-4AD8-B0AB-4F7AC442F4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981080"/>
            <a:ext cx="48006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File/Get External data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Sales spreadsheet into a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Rental data into another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entries for CustomerID and EmployeeID equal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6F7-91D5-4716-B0E2-097F7E771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405-0DB4-45B4-AF15-61CC5ADDE8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dSales.ModelID, OldSales.ManufacturerID, OldSales.Category, OldSales.Color, OldSales.ModelYear, OldSales.Graphics, OldSales.ItemMaterial, OldSales.ListPrice, OldSales.Style, OldSales.SkillLevel, OldSales.WeightMax, OldSales.WaistWidth, OldSale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67440" cy="292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AAB-D062-47B3-A642-3BDDA4E3DB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057400"/>
            <a:ext cx="548640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sale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rent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two queries with a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BA6-76F7-4489-BB96-544C4A5AF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5AC-1B3F-41EB-8412-6B68A1611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662940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i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imilar process to copy the Sales, Rental, SalesItem, and RentalItems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6D9-87C6-4CA5-B061-1033540B55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9:01Z</dcterms:modified>
  <cp:revision>70</cp:revision>
  <dc:subject/>
  <dc:title>All Powder Board and Ski</dc:title>
</cp:coreProperties>
</file>