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17B6-A83D-429A-8BA6-0126DEC6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B542-7990-423A-8684-03961154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452D-E2A0-4AFC-92A3-AC38D078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F46A-67D8-46A6-BDC7-A9DAEE12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3194-BF3F-4FA3-96D0-223B0EC0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FF8B-2856-400D-B153-2B5E1591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A4C4-B042-459B-A000-EC609A81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06AB-4CAD-46DE-A774-707AE442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F7C2-CD33-419E-8A3D-FB830CF1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F627-5746-454D-8588-C38BA547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82FA-8FF2-4181-A654-58C390DB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3B99-40F9-4E4B-A344-CF87ABB7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6774-4FDB-4599-AB70-3CDD11C5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F1DF-5B2A-40EA-B649-78D4F49E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9055-54EF-47E6-B910-F6653B4F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FBDE-2100-4CC7-B318-15DF7D6C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F681-1953-4F65-AB5B-35F5D192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828E-029A-417C-A6E5-CDBE91C1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8152-D598-4F06-A7FB-8BDDAF11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0B10-0B15-4525-8BCE-EC12FA06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7A5B-1A57-4368-9E43-A6861F07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7766-A7A1-4C68-9D64-4D5FA57A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5CFC-C2D5-44A3-8785-D86C6C43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DC2B-6C07-473A-B4E8-ABF7E154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E7E0-A473-434D-8D7B-312DB368E0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8AF8-9585-4171-982C-CC196618B2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1: Distributed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64FB-84B0-47FD-8042-2E26488833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ynchronized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609480" y="1600200"/>
          <a:ext cx="6019920" cy="2190600"/>
        </p:xfrm>
        <a:graphic>
          <a:graphicData uri="http://schemas.openxmlformats.org/drawingml/2006/table">
            <a:tbl>
              <a:tblPr/>
              <a:tblGrid>
                <a:gridCol w="1454400"/>
                <a:gridCol w="1225440"/>
                <a:gridCol w="1238400"/>
                <a:gridCol w="2101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t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ne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-222-3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ch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-444-9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-724-60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42435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-333-4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4267080" y="4267080"/>
            <a:ext cx="2590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databases pick up all of th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2895480" y="2286000"/>
            <a:ext cx="13716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2209320" y="3733920"/>
            <a:ext cx="2057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35FE-28F3-4092-97D7-65391E2FD1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681120" y="1752480"/>
            <a:ext cx="5414760" cy="419904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nflicts from Concurrent Chang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943600" y="4343400"/>
            <a:ext cx="1981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which version to ac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3657600" y="4648320"/>
            <a:ext cx="2286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5638320" y="46483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943600" y="1981080"/>
            <a:ext cx="2514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changes made before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2971440" y="2286000"/>
            <a:ext cx="2971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4723920" y="22860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3733920" y="2133360"/>
            <a:ext cx="2209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E92D-E49A-4641-A146-619A7048F6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90720" y="1981080"/>
            <a:ext cx="7162560" cy="19051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ages section, create a data access page by using the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Customer table with all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page as Custom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page and tes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page by opening it outside the database using a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6B6F-3760-40DE-AE75-3478F5F1F8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cess Web Pag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943600" y="1981080"/>
            <a:ext cx="274320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page wizard creates forms that run similar to Windows forms, but over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628560" y="1600200"/>
            <a:ext cx="5162760" cy="420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08F9-76BA-4FB1-B57C-1BDE1F5BC6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62120" y="1828800"/>
            <a:ext cx="7543800" cy="24382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ight the Employee tab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File/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type as Text/cs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file with a csv 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omma delimited and include the field names on the first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file and close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file in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0C68-D288-420C-BD6E-C408CD5C5F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XML: New Vendor Mod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4513320" cy="441936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5562720" y="2895480"/>
            <a:ext cx="274320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Explorer makes it easy to see the structure and data elements in an XML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F416-52CA-4A6C-8DA7-4DBCE5A3B6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XML in Text Edi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362320" y="152388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temMode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odelID&gt;BQQ-333&lt;/ModelI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anufacturerID&gt;23&lt;/ManufacturerI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ategory&gt;Board&lt;/Categor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lor&gt;Black&lt;/Colo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st&gt;137.50&lt;/Co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odelYear&gt;2005&lt;/ModelYea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temMaterial&gt;Composite&lt;/ItemMateria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ListPrice&gt;224.99&lt;/ListPri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tyle&gt;Downhill&lt;/Sty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killLevel&gt;6&lt;/SkillLeve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aistWidth&gt;159&lt;/WaistWidt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ffectiveEdge&gt;1021&lt;/EffectiveEd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BindingStyle&gt;Strap&lt;/BindingSty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RentalRate&gt;20&lt;/RentalR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ItemMode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7F9E-54E8-4D95-ACFC-16729DC808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95280" y="1981080"/>
            <a:ext cx="6400800" cy="19814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ModelSample.xml file with Wordpad and verify that the fields match your column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file if needed and sav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database, choose File/Get External Data/Im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file and append the data to your ItemMode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028F-AEB8-48E0-BB7F-AA4FDB16B1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3867120" cy="372456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mport XML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33520" y="3048120"/>
            <a:ext cx="289548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XML data does not match the existing table, import into a new table and use SQL to clean and transfer the desi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429000" y="3809880"/>
            <a:ext cx="1066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E8BB-1B2B-4925-9CDC-E4C40B6D65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49160" y="2354400"/>
            <a:ext cx="3594240" cy="546120"/>
          </a:xfrm>
          <a:custGeom>
            <a:avLst/>
            <a:gdLst/>
            <a:ahLst/>
            <a:rect l="l" t="t" r="r" b="b"/>
            <a:pathLst>
              <a:path w="2264" h="344">
                <a:moveTo>
                  <a:pt x="2264" y="344"/>
                </a:moveTo>
                <a:cubicBezTo>
                  <a:pt x="2224" y="232"/>
                  <a:pt x="2184" y="120"/>
                  <a:pt x="2024" y="104"/>
                </a:cubicBezTo>
                <a:cubicBezTo>
                  <a:pt x="1864" y="88"/>
                  <a:pt x="1520" y="264"/>
                  <a:pt x="1304" y="248"/>
                </a:cubicBezTo>
                <a:cubicBezTo>
                  <a:pt x="1088" y="232"/>
                  <a:pt x="936" y="16"/>
                  <a:pt x="728" y="8"/>
                </a:cubicBezTo>
                <a:cubicBezTo>
                  <a:pt x="520" y="0"/>
                  <a:pt x="112" y="160"/>
                  <a:pt x="56" y="200"/>
                </a:cubicBezTo>
                <a:cubicBezTo>
                  <a:pt x="0" y="240"/>
                  <a:pt x="196" y="244"/>
                  <a:pt x="392" y="2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2633760"/>
            <a:ext cx="1231920" cy="2781360"/>
          </a:xfrm>
          <a:custGeom>
            <a:avLst/>
            <a:gdLst/>
            <a:ahLst/>
            <a:rect l="l" t="t" r="r" b="b"/>
            <a:pathLst>
              <a:path w="776" h="1752">
                <a:moveTo>
                  <a:pt x="0" y="264"/>
                </a:moveTo>
                <a:cubicBezTo>
                  <a:pt x="8" y="212"/>
                  <a:pt x="16" y="160"/>
                  <a:pt x="96" y="120"/>
                </a:cubicBezTo>
                <a:cubicBezTo>
                  <a:pt x="176" y="80"/>
                  <a:pt x="384" y="32"/>
                  <a:pt x="480" y="24"/>
                </a:cubicBezTo>
                <a:cubicBezTo>
                  <a:pt x="576" y="16"/>
                  <a:pt x="656" y="0"/>
                  <a:pt x="672" y="72"/>
                </a:cubicBezTo>
                <a:cubicBezTo>
                  <a:pt x="688" y="144"/>
                  <a:pt x="648" y="312"/>
                  <a:pt x="576" y="456"/>
                </a:cubicBezTo>
                <a:cubicBezTo>
                  <a:pt x="504" y="600"/>
                  <a:pt x="208" y="816"/>
                  <a:pt x="240" y="936"/>
                </a:cubicBezTo>
                <a:cubicBezTo>
                  <a:pt x="272" y="1056"/>
                  <a:pt x="760" y="1040"/>
                  <a:pt x="768" y="1176"/>
                </a:cubicBezTo>
                <a:cubicBezTo>
                  <a:pt x="776" y="1312"/>
                  <a:pt x="532" y="1532"/>
                  <a:pt x="288" y="17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3332160"/>
            <a:ext cx="1066680" cy="190440"/>
          </a:xfrm>
          <a:custGeom>
            <a:avLst/>
            <a:gdLst/>
            <a:ahLst/>
            <a:rect l="l" t="t" r="r" b="b"/>
            <a:pathLst>
              <a:path w="672" h="120">
                <a:moveTo>
                  <a:pt x="0" y="64"/>
                </a:moveTo>
                <a:cubicBezTo>
                  <a:pt x="52" y="60"/>
                  <a:pt x="104" y="56"/>
                  <a:pt x="144" y="64"/>
                </a:cubicBezTo>
                <a:cubicBezTo>
                  <a:pt x="184" y="72"/>
                  <a:pt x="184" y="120"/>
                  <a:pt x="240" y="112"/>
                </a:cubicBezTo>
                <a:cubicBezTo>
                  <a:pt x="296" y="104"/>
                  <a:pt x="416" y="32"/>
                  <a:pt x="480" y="16"/>
                </a:cubicBezTo>
                <a:cubicBezTo>
                  <a:pt x="544" y="0"/>
                  <a:pt x="592" y="8"/>
                  <a:pt x="624" y="16"/>
                </a:cubicBezTo>
                <a:cubicBezTo>
                  <a:pt x="656" y="24"/>
                  <a:pt x="664" y="44"/>
                  <a:pt x="672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3395520"/>
            <a:ext cx="457200" cy="266760"/>
          </a:xfrm>
          <a:custGeom>
            <a:avLst/>
            <a:gdLst/>
            <a:ahLst/>
            <a:rect l="l" t="t" r="r" b="b"/>
            <a:pathLst>
              <a:path w="288" h="168">
                <a:moveTo>
                  <a:pt x="0" y="24"/>
                </a:moveTo>
                <a:cubicBezTo>
                  <a:pt x="72" y="12"/>
                  <a:pt x="144" y="0"/>
                  <a:pt x="192" y="24"/>
                </a:cubicBezTo>
                <a:cubicBezTo>
                  <a:pt x="240" y="48"/>
                  <a:pt x="264" y="108"/>
                  <a:pt x="288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ll Powder LA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389088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s/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4424400"/>
            <a:ext cx="1295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95680" y="1523880"/>
            <a:ext cx="573120" cy="89388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6196320" y="3513960"/>
            <a:ext cx="675720" cy="773280"/>
            <a:chOff x="6196320" y="3513960"/>
            <a:chExt cx="675720" cy="773280"/>
          </a:xfrm>
        </p:grpSpPr>
        <p:sp>
          <p:nvSpPr>
            <p:cNvPr id="102" name=""/>
            <p:cNvSpPr/>
            <p:nvPr/>
          </p:nvSpPr>
          <p:spPr>
            <a:xfrm>
              <a:off x="6196320" y="4067640"/>
              <a:ext cx="673560" cy="203040"/>
            </a:xfrm>
            <a:custGeom>
              <a:avLst/>
              <a:gdLst/>
              <a:ahLst/>
              <a:rect l="l" t="t" r="r" b="b"/>
              <a:pathLst>
                <a:path w="3937" h="1133">
                  <a:moveTo>
                    <a:pt x="644" y="0"/>
                  </a:moveTo>
                  <a:lnTo>
                    <a:pt x="0" y="247"/>
                  </a:lnTo>
                  <a:lnTo>
                    <a:pt x="29" y="1030"/>
                  </a:lnTo>
                  <a:lnTo>
                    <a:pt x="3764" y="1133"/>
                  </a:lnTo>
                  <a:lnTo>
                    <a:pt x="3937" y="821"/>
                  </a:lnTo>
                  <a:lnTo>
                    <a:pt x="3908" y="7"/>
                  </a:lnTo>
                  <a:lnTo>
                    <a:pt x="2443" y="0"/>
                  </a:lnTo>
                  <a:lnTo>
                    <a:pt x="644" y="0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80560" y="3515040"/>
              <a:ext cx="533880" cy="479880"/>
            </a:xfrm>
            <a:custGeom>
              <a:avLst/>
              <a:gdLst/>
              <a:ahLst/>
              <a:rect l="l" t="t" r="r" b="b"/>
              <a:pathLst>
                <a:path w="3120" h="2672">
                  <a:moveTo>
                    <a:pt x="101" y="0"/>
                  </a:moveTo>
                  <a:lnTo>
                    <a:pt x="3068" y="28"/>
                  </a:lnTo>
                  <a:lnTo>
                    <a:pt x="3120" y="72"/>
                  </a:lnTo>
                  <a:lnTo>
                    <a:pt x="3097" y="2425"/>
                  </a:lnTo>
                  <a:lnTo>
                    <a:pt x="2916" y="2556"/>
                  </a:lnTo>
                  <a:lnTo>
                    <a:pt x="2800" y="2672"/>
                  </a:lnTo>
                  <a:lnTo>
                    <a:pt x="196" y="2549"/>
                  </a:lnTo>
                  <a:lnTo>
                    <a:pt x="0" y="2410"/>
                  </a:lnTo>
                  <a:lnTo>
                    <a:pt x="29" y="108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11520" y="3961800"/>
              <a:ext cx="458280" cy="52200"/>
            </a:xfrm>
            <a:custGeom>
              <a:avLst/>
              <a:gdLst/>
              <a:ahLst/>
              <a:rect l="l" t="t" r="r" b="b"/>
              <a:pathLst>
                <a:path w="2676" h="290">
                  <a:moveTo>
                    <a:pt x="0" y="0"/>
                  </a:moveTo>
                  <a:lnTo>
                    <a:pt x="0" y="203"/>
                  </a:lnTo>
                  <a:lnTo>
                    <a:pt x="2480" y="290"/>
                  </a:lnTo>
                  <a:lnTo>
                    <a:pt x="2676" y="9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68920" y="4123080"/>
              <a:ext cx="10080" cy="134280"/>
            </a:xfrm>
            <a:custGeom>
              <a:avLst/>
              <a:gdLst/>
              <a:ahLst/>
              <a:rect l="l" t="t" r="r" b="b"/>
              <a:pathLst>
                <a:path w="59" h="751">
                  <a:moveTo>
                    <a:pt x="59" y="4"/>
                  </a:moveTo>
                  <a:lnTo>
                    <a:pt x="40" y="739"/>
                  </a:lnTo>
                  <a:lnTo>
                    <a:pt x="0" y="751"/>
                  </a:lnTo>
                  <a:lnTo>
                    <a:pt x="8" y="0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07840" y="4107240"/>
              <a:ext cx="631800" cy="172440"/>
            </a:xfrm>
            <a:custGeom>
              <a:avLst/>
              <a:gdLst/>
              <a:ahLst/>
              <a:rect l="l" t="t" r="r" b="b"/>
              <a:pathLst>
                <a:path w="3691" h="962">
                  <a:moveTo>
                    <a:pt x="59" y="0"/>
                  </a:moveTo>
                  <a:lnTo>
                    <a:pt x="89" y="48"/>
                  </a:lnTo>
                  <a:lnTo>
                    <a:pt x="74" y="407"/>
                  </a:lnTo>
                  <a:lnTo>
                    <a:pt x="2109" y="451"/>
                  </a:lnTo>
                  <a:lnTo>
                    <a:pt x="3607" y="491"/>
                  </a:lnTo>
                  <a:lnTo>
                    <a:pt x="3643" y="531"/>
                  </a:lnTo>
                  <a:lnTo>
                    <a:pt x="66" y="458"/>
                  </a:lnTo>
                  <a:lnTo>
                    <a:pt x="55" y="763"/>
                  </a:lnTo>
                  <a:lnTo>
                    <a:pt x="2113" y="791"/>
                  </a:lnTo>
                  <a:lnTo>
                    <a:pt x="3681" y="816"/>
                  </a:lnTo>
                  <a:lnTo>
                    <a:pt x="3691" y="962"/>
                  </a:lnTo>
                  <a:lnTo>
                    <a:pt x="1203" y="930"/>
                  </a:lnTo>
                  <a:lnTo>
                    <a:pt x="49" y="901"/>
                  </a:lnTo>
                  <a:lnTo>
                    <a:pt x="3" y="861"/>
                  </a:lnTo>
                  <a:lnTo>
                    <a:pt x="0" y="82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08360" y="4122000"/>
              <a:ext cx="151920" cy="41760"/>
            </a:xfrm>
            <a:custGeom>
              <a:avLst/>
              <a:gdLst/>
              <a:ahLst/>
              <a:rect l="l" t="t" r="r" b="b"/>
              <a:pathLst>
                <a:path w="887" h="234">
                  <a:moveTo>
                    <a:pt x="0" y="2"/>
                  </a:moveTo>
                  <a:lnTo>
                    <a:pt x="0" y="222"/>
                  </a:lnTo>
                  <a:lnTo>
                    <a:pt x="887" y="234"/>
                  </a:lnTo>
                  <a:lnTo>
                    <a:pt x="876" y="131"/>
                  </a:lnTo>
                  <a:lnTo>
                    <a:pt x="621" y="131"/>
                  </a:lnTo>
                  <a:lnTo>
                    <a:pt x="598" y="160"/>
                  </a:lnTo>
                  <a:lnTo>
                    <a:pt x="292" y="156"/>
                  </a:lnTo>
                  <a:lnTo>
                    <a:pt x="273" y="127"/>
                  </a:lnTo>
                  <a:lnTo>
                    <a:pt x="68" y="131"/>
                  </a:lnTo>
                  <a:lnTo>
                    <a:pt x="6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79720" y="4151160"/>
              <a:ext cx="200520" cy="10800"/>
            </a:xfrm>
            <a:custGeom>
              <a:avLst/>
              <a:gdLst/>
              <a:ahLst/>
              <a:rect l="l" t="t" r="r" b="b"/>
              <a:pathLst>
                <a:path w="1173" h="62">
                  <a:moveTo>
                    <a:pt x="0" y="0"/>
                  </a:moveTo>
                  <a:lnTo>
                    <a:pt x="1173" y="15"/>
                  </a:lnTo>
                  <a:lnTo>
                    <a:pt x="1173" y="62"/>
                  </a:lnTo>
                  <a:lnTo>
                    <a:pt x="2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15040" y="4062600"/>
              <a:ext cx="645480" cy="57960"/>
            </a:xfrm>
            <a:custGeom>
              <a:avLst/>
              <a:gdLst/>
              <a:ahLst/>
              <a:rect l="l" t="t" r="r" b="b"/>
              <a:pathLst>
                <a:path w="3771" h="325">
                  <a:moveTo>
                    <a:pt x="0" y="240"/>
                  </a:moveTo>
                  <a:lnTo>
                    <a:pt x="899" y="261"/>
                  </a:lnTo>
                  <a:lnTo>
                    <a:pt x="1046" y="124"/>
                  </a:lnTo>
                  <a:lnTo>
                    <a:pt x="1738" y="101"/>
                  </a:lnTo>
                  <a:lnTo>
                    <a:pt x="2785" y="181"/>
                  </a:lnTo>
                  <a:lnTo>
                    <a:pt x="2981" y="80"/>
                  </a:lnTo>
                  <a:lnTo>
                    <a:pt x="2988" y="137"/>
                  </a:lnTo>
                  <a:lnTo>
                    <a:pt x="2851" y="312"/>
                  </a:lnTo>
                  <a:lnTo>
                    <a:pt x="3604" y="325"/>
                  </a:lnTo>
                  <a:lnTo>
                    <a:pt x="3771" y="44"/>
                  </a:lnTo>
                  <a:lnTo>
                    <a:pt x="2597" y="29"/>
                  </a:lnTo>
                  <a:lnTo>
                    <a:pt x="1262" y="0"/>
                  </a:lnTo>
                  <a:lnTo>
                    <a:pt x="531" y="14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75680" y="4034880"/>
              <a:ext cx="153720" cy="33840"/>
            </a:xfrm>
            <a:custGeom>
              <a:avLst/>
              <a:gdLst/>
              <a:ahLst/>
              <a:rect l="l" t="t" r="r" b="b"/>
              <a:pathLst>
                <a:path w="899" h="190">
                  <a:moveTo>
                    <a:pt x="15" y="0"/>
                  </a:moveTo>
                  <a:lnTo>
                    <a:pt x="0" y="190"/>
                  </a:lnTo>
                  <a:lnTo>
                    <a:pt x="886" y="190"/>
                  </a:lnTo>
                  <a:lnTo>
                    <a:pt x="899" y="1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75680" y="4040280"/>
              <a:ext cx="19800" cy="30600"/>
            </a:xfrm>
            <a:custGeom>
              <a:avLst/>
              <a:gdLst/>
              <a:ahLst/>
              <a:rect l="l" t="t" r="r" b="b"/>
              <a:pathLst>
                <a:path w="116" h="173">
                  <a:moveTo>
                    <a:pt x="116" y="13"/>
                  </a:moveTo>
                  <a:lnTo>
                    <a:pt x="80" y="173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116" y="13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73960" y="4037400"/>
              <a:ext cx="43200" cy="34920"/>
            </a:xfrm>
            <a:custGeom>
              <a:avLst/>
              <a:gdLst/>
              <a:ahLst/>
              <a:rect l="l" t="t" r="r" b="b"/>
              <a:pathLst>
                <a:path w="253" h="195">
                  <a:moveTo>
                    <a:pt x="0" y="0"/>
                  </a:moveTo>
                  <a:lnTo>
                    <a:pt x="72" y="195"/>
                  </a:lnTo>
                  <a:lnTo>
                    <a:pt x="232" y="182"/>
                  </a:lnTo>
                  <a:lnTo>
                    <a:pt x="253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47880" y="4098960"/>
              <a:ext cx="384480" cy="21600"/>
            </a:xfrm>
            <a:custGeom>
              <a:avLst/>
              <a:gdLst/>
              <a:ahLst/>
              <a:rect l="l" t="t" r="r" b="b"/>
              <a:pathLst>
                <a:path w="2248" h="121">
                  <a:moveTo>
                    <a:pt x="0" y="57"/>
                  </a:moveTo>
                  <a:lnTo>
                    <a:pt x="2248" y="121"/>
                  </a:lnTo>
                  <a:lnTo>
                    <a:pt x="2161" y="57"/>
                  </a:lnTo>
                  <a:lnTo>
                    <a:pt x="66" y="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34960" y="4077000"/>
              <a:ext cx="32040" cy="204120"/>
            </a:xfrm>
            <a:custGeom>
              <a:avLst/>
              <a:gdLst/>
              <a:ahLst/>
              <a:rect l="l" t="t" r="r" b="b"/>
              <a:pathLst>
                <a:path w="189" h="1139">
                  <a:moveTo>
                    <a:pt x="189" y="0"/>
                  </a:moveTo>
                  <a:lnTo>
                    <a:pt x="0" y="327"/>
                  </a:lnTo>
                  <a:lnTo>
                    <a:pt x="21" y="1139"/>
                  </a:lnTo>
                  <a:lnTo>
                    <a:pt x="189" y="783"/>
                  </a:lnTo>
                  <a:lnTo>
                    <a:pt x="189" y="0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93920" y="3527640"/>
              <a:ext cx="18360" cy="440640"/>
            </a:xfrm>
            <a:custGeom>
              <a:avLst/>
              <a:gdLst/>
              <a:ahLst/>
              <a:rect l="l" t="t" r="r" b="b"/>
              <a:pathLst>
                <a:path w="108" h="2456">
                  <a:moveTo>
                    <a:pt x="108" y="0"/>
                  </a:moveTo>
                  <a:lnTo>
                    <a:pt x="8" y="66"/>
                  </a:lnTo>
                  <a:lnTo>
                    <a:pt x="0" y="2456"/>
                  </a:lnTo>
                  <a:lnTo>
                    <a:pt x="108" y="2302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80920" y="3527640"/>
              <a:ext cx="452880" cy="428760"/>
            </a:xfrm>
            <a:custGeom>
              <a:avLst/>
              <a:gdLst/>
              <a:ahLst/>
              <a:rect l="l" t="t" r="r" b="b"/>
              <a:pathLst>
                <a:path w="2648" h="2389">
                  <a:moveTo>
                    <a:pt x="31" y="66"/>
                  </a:moveTo>
                  <a:lnTo>
                    <a:pt x="124" y="0"/>
                  </a:lnTo>
                  <a:lnTo>
                    <a:pt x="2597" y="36"/>
                  </a:lnTo>
                  <a:lnTo>
                    <a:pt x="1713" y="87"/>
                  </a:lnTo>
                  <a:lnTo>
                    <a:pt x="2597" y="139"/>
                  </a:lnTo>
                  <a:lnTo>
                    <a:pt x="1705" y="159"/>
                  </a:lnTo>
                  <a:lnTo>
                    <a:pt x="2604" y="234"/>
                  </a:lnTo>
                  <a:lnTo>
                    <a:pt x="1713" y="234"/>
                  </a:lnTo>
                  <a:lnTo>
                    <a:pt x="2597" y="306"/>
                  </a:lnTo>
                  <a:lnTo>
                    <a:pt x="299" y="291"/>
                  </a:lnTo>
                  <a:lnTo>
                    <a:pt x="291" y="2098"/>
                  </a:lnTo>
                  <a:lnTo>
                    <a:pt x="1682" y="2142"/>
                  </a:lnTo>
                  <a:lnTo>
                    <a:pt x="2648" y="2165"/>
                  </a:lnTo>
                  <a:lnTo>
                    <a:pt x="1785" y="2229"/>
                  </a:lnTo>
                  <a:lnTo>
                    <a:pt x="2648" y="2252"/>
                  </a:lnTo>
                  <a:lnTo>
                    <a:pt x="1893" y="2296"/>
                  </a:lnTo>
                  <a:lnTo>
                    <a:pt x="2648" y="2353"/>
                  </a:lnTo>
                  <a:lnTo>
                    <a:pt x="2118" y="2389"/>
                  </a:lnTo>
                  <a:lnTo>
                    <a:pt x="0" y="2345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49320" y="3596040"/>
              <a:ext cx="378360" cy="306000"/>
            </a:xfrm>
            <a:custGeom>
              <a:avLst/>
              <a:gdLst/>
              <a:ahLst/>
              <a:rect l="l" t="t" r="r" b="b"/>
              <a:pathLst>
                <a:path w="2213" h="1707">
                  <a:moveTo>
                    <a:pt x="16" y="0"/>
                  </a:moveTo>
                  <a:lnTo>
                    <a:pt x="2213" y="15"/>
                  </a:lnTo>
                  <a:lnTo>
                    <a:pt x="2190" y="1707"/>
                  </a:lnTo>
                  <a:lnTo>
                    <a:pt x="0" y="162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94960" y="3514680"/>
              <a:ext cx="520920" cy="469440"/>
            </a:xfrm>
            <a:custGeom>
              <a:avLst/>
              <a:gdLst/>
              <a:ahLst/>
              <a:rect l="l" t="t" r="r" b="b"/>
              <a:pathLst>
                <a:path w="3043" h="2615">
                  <a:moveTo>
                    <a:pt x="19" y="21"/>
                  </a:moveTo>
                  <a:lnTo>
                    <a:pt x="2950" y="59"/>
                  </a:lnTo>
                  <a:lnTo>
                    <a:pt x="3007" y="100"/>
                  </a:lnTo>
                  <a:lnTo>
                    <a:pt x="2998" y="2406"/>
                  </a:lnTo>
                  <a:lnTo>
                    <a:pt x="2935" y="2488"/>
                  </a:lnTo>
                  <a:lnTo>
                    <a:pt x="2802" y="2545"/>
                  </a:lnTo>
                  <a:lnTo>
                    <a:pt x="0" y="2478"/>
                  </a:lnTo>
                  <a:lnTo>
                    <a:pt x="108" y="2545"/>
                  </a:lnTo>
                  <a:lnTo>
                    <a:pt x="2762" y="2615"/>
                  </a:lnTo>
                  <a:lnTo>
                    <a:pt x="2922" y="2566"/>
                  </a:lnTo>
                  <a:lnTo>
                    <a:pt x="3017" y="2431"/>
                  </a:lnTo>
                  <a:lnTo>
                    <a:pt x="3043" y="2324"/>
                  </a:lnTo>
                  <a:lnTo>
                    <a:pt x="3043" y="85"/>
                  </a:lnTo>
                  <a:lnTo>
                    <a:pt x="2980" y="13"/>
                  </a:lnTo>
                  <a:lnTo>
                    <a:pt x="34" y="0"/>
                  </a:lnTo>
                  <a:lnTo>
                    <a:pt x="19" y="21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78400" y="3513960"/>
              <a:ext cx="498960" cy="450000"/>
            </a:xfrm>
            <a:custGeom>
              <a:avLst/>
              <a:gdLst/>
              <a:ahLst/>
              <a:rect l="l" t="t" r="r" b="b"/>
              <a:pathLst>
                <a:path w="2918" h="2507">
                  <a:moveTo>
                    <a:pt x="145" y="4"/>
                  </a:moveTo>
                  <a:lnTo>
                    <a:pt x="67" y="118"/>
                  </a:lnTo>
                  <a:lnTo>
                    <a:pt x="42" y="2397"/>
                  </a:lnTo>
                  <a:lnTo>
                    <a:pt x="97" y="2418"/>
                  </a:lnTo>
                  <a:lnTo>
                    <a:pt x="2918" y="2482"/>
                  </a:lnTo>
                  <a:lnTo>
                    <a:pt x="2789" y="2507"/>
                  </a:lnTo>
                  <a:lnTo>
                    <a:pt x="46" y="2444"/>
                  </a:lnTo>
                  <a:lnTo>
                    <a:pt x="0" y="2414"/>
                  </a:lnTo>
                  <a:lnTo>
                    <a:pt x="31" y="108"/>
                  </a:lnTo>
                  <a:lnTo>
                    <a:pt x="126" y="0"/>
                  </a:lnTo>
                  <a:lnTo>
                    <a:pt x="145" y="4"/>
                  </a:lnTo>
                  <a:lnTo>
                    <a:pt x="14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47800" y="3967560"/>
              <a:ext cx="513360" cy="126360"/>
            </a:xfrm>
            <a:custGeom>
              <a:avLst/>
              <a:gdLst/>
              <a:ahLst/>
              <a:rect l="l" t="t" r="r" b="b"/>
              <a:pathLst>
                <a:path w="3000" h="705">
                  <a:moveTo>
                    <a:pt x="375" y="0"/>
                  </a:moveTo>
                  <a:lnTo>
                    <a:pt x="375" y="217"/>
                  </a:lnTo>
                  <a:lnTo>
                    <a:pt x="765" y="238"/>
                  </a:lnTo>
                  <a:lnTo>
                    <a:pt x="770" y="386"/>
                  </a:lnTo>
                  <a:lnTo>
                    <a:pt x="1304" y="401"/>
                  </a:lnTo>
                  <a:lnTo>
                    <a:pt x="1310" y="521"/>
                  </a:lnTo>
                  <a:lnTo>
                    <a:pt x="339" y="504"/>
                  </a:lnTo>
                  <a:lnTo>
                    <a:pt x="0" y="680"/>
                  </a:lnTo>
                  <a:lnTo>
                    <a:pt x="647" y="690"/>
                  </a:lnTo>
                  <a:lnTo>
                    <a:pt x="755" y="705"/>
                  </a:lnTo>
                  <a:lnTo>
                    <a:pt x="806" y="597"/>
                  </a:lnTo>
                  <a:lnTo>
                    <a:pt x="1561" y="602"/>
                  </a:lnTo>
                  <a:lnTo>
                    <a:pt x="1747" y="561"/>
                  </a:lnTo>
                  <a:lnTo>
                    <a:pt x="1371" y="536"/>
                  </a:lnTo>
                  <a:lnTo>
                    <a:pt x="1377" y="452"/>
                  </a:lnTo>
                  <a:lnTo>
                    <a:pt x="1645" y="431"/>
                  </a:lnTo>
                  <a:lnTo>
                    <a:pt x="2034" y="449"/>
                  </a:lnTo>
                  <a:lnTo>
                    <a:pt x="2095" y="492"/>
                  </a:lnTo>
                  <a:lnTo>
                    <a:pt x="2044" y="542"/>
                  </a:lnTo>
                  <a:lnTo>
                    <a:pt x="1859" y="587"/>
                  </a:lnTo>
                  <a:lnTo>
                    <a:pt x="2059" y="621"/>
                  </a:lnTo>
                  <a:lnTo>
                    <a:pt x="2610" y="648"/>
                  </a:lnTo>
                  <a:lnTo>
                    <a:pt x="2745" y="585"/>
                  </a:lnTo>
                  <a:lnTo>
                    <a:pt x="2291" y="536"/>
                  </a:lnTo>
                  <a:lnTo>
                    <a:pt x="2291" y="458"/>
                  </a:lnTo>
                  <a:lnTo>
                    <a:pt x="2682" y="452"/>
                  </a:lnTo>
                  <a:lnTo>
                    <a:pt x="2728" y="319"/>
                  </a:lnTo>
                  <a:lnTo>
                    <a:pt x="3000" y="217"/>
                  </a:lnTo>
                  <a:lnTo>
                    <a:pt x="420" y="139"/>
                  </a:lnTo>
                  <a:lnTo>
                    <a:pt x="375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72360" y="4082400"/>
              <a:ext cx="358560" cy="29880"/>
            </a:xfrm>
            <a:custGeom>
              <a:avLst/>
              <a:gdLst/>
              <a:ahLst/>
              <a:rect l="l" t="t" r="r" b="b"/>
              <a:pathLst>
                <a:path w="2097" h="169">
                  <a:moveTo>
                    <a:pt x="42" y="76"/>
                  </a:moveTo>
                  <a:lnTo>
                    <a:pt x="1943" y="138"/>
                  </a:lnTo>
                  <a:lnTo>
                    <a:pt x="2087" y="0"/>
                  </a:lnTo>
                  <a:lnTo>
                    <a:pt x="2097" y="36"/>
                  </a:lnTo>
                  <a:lnTo>
                    <a:pt x="1970" y="169"/>
                  </a:lnTo>
                  <a:lnTo>
                    <a:pt x="0" y="112"/>
                  </a:lnTo>
                  <a:lnTo>
                    <a:pt x="42" y="76"/>
                  </a:lnTo>
                  <a:lnTo>
                    <a:pt x="4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11800" y="4058280"/>
              <a:ext cx="660240" cy="228960"/>
            </a:xfrm>
            <a:custGeom>
              <a:avLst/>
              <a:gdLst/>
              <a:ahLst/>
              <a:rect l="l" t="t" r="r" b="b"/>
              <a:pathLst>
                <a:path w="3859" h="1275">
                  <a:moveTo>
                    <a:pt x="0" y="1151"/>
                  </a:moveTo>
                  <a:lnTo>
                    <a:pt x="3648" y="1224"/>
                  </a:lnTo>
                  <a:lnTo>
                    <a:pt x="3808" y="868"/>
                  </a:lnTo>
                  <a:lnTo>
                    <a:pt x="3808" y="91"/>
                  </a:lnTo>
                  <a:lnTo>
                    <a:pt x="3000" y="72"/>
                  </a:lnTo>
                  <a:lnTo>
                    <a:pt x="2557" y="0"/>
                  </a:lnTo>
                  <a:lnTo>
                    <a:pt x="3848" y="39"/>
                  </a:lnTo>
                  <a:lnTo>
                    <a:pt x="3859" y="901"/>
                  </a:lnTo>
                  <a:lnTo>
                    <a:pt x="3673" y="1275"/>
                  </a:lnTo>
                  <a:lnTo>
                    <a:pt x="19" y="1191"/>
                  </a:lnTo>
                  <a:lnTo>
                    <a:pt x="0" y="1151"/>
                  </a:lnTo>
                  <a:lnTo>
                    <a:pt x="0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20800" y="4113360"/>
              <a:ext cx="608760" cy="21240"/>
            </a:xfrm>
            <a:custGeom>
              <a:avLst/>
              <a:gdLst/>
              <a:ahLst/>
              <a:rect l="l" t="t" r="r" b="b"/>
              <a:pathLst>
                <a:path w="3558" h="119">
                  <a:moveTo>
                    <a:pt x="3" y="0"/>
                  </a:moveTo>
                  <a:lnTo>
                    <a:pt x="3527" y="83"/>
                  </a:lnTo>
                  <a:lnTo>
                    <a:pt x="3558" y="119"/>
                  </a:lnTo>
                  <a:lnTo>
                    <a:pt x="0" y="3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05840" y="4120560"/>
              <a:ext cx="156240" cy="44640"/>
            </a:xfrm>
            <a:custGeom>
              <a:avLst/>
              <a:gdLst/>
              <a:ahLst/>
              <a:rect l="l" t="t" r="r" b="b"/>
              <a:pathLst>
                <a:path w="914" h="249">
                  <a:moveTo>
                    <a:pt x="0" y="4"/>
                  </a:moveTo>
                  <a:lnTo>
                    <a:pt x="4" y="238"/>
                  </a:lnTo>
                  <a:lnTo>
                    <a:pt x="914" y="249"/>
                  </a:lnTo>
                  <a:lnTo>
                    <a:pt x="914" y="19"/>
                  </a:lnTo>
                  <a:lnTo>
                    <a:pt x="886" y="19"/>
                  </a:lnTo>
                  <a:lnTo>
                    <a:pt x="886" y="234"/>
                  </a:lnTo>
                  <a:lnTo>
                    <a:pt x="34" y="217"/>
                  </a:lnTo>
                  <a:lnTo>
                    <a:pt x="2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16840" y="4186800"/>
              <a:ext cx="619560" cy="17280"/>
            </a:xfrm>
            <a:custGeom>
              <a:avLst/>
              <a:gdLst/>
              <a:ahLst/>
              <a:rect l="l" t="t" r="r" b="b"/>
              <a:pathLst>
                <a:path w="3621" h="99">
                  <a:moveTo>
                    <a:pt x="0" y="0"/>
                  </a:moveTo>
                  <a:lnTo>
                    <a:pt x="3621" y="71"/>
                  </a:lnTo>
                  <a:lnTo>
                    <a:pt x="3609" y="99"/>
                  </a:lnTo>
                  <a:lnTo>
                    <a:pt x="26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41320" y="4137480"/>
              <a:ext cx="23400" cy="25560"/>
            </a:xfrm>
            <a:custGeom>
              <a:avLst/>
              <a:gdLst/>
              <a:ahLst/>
              <a:rect l="l" t="t" r="r" b="b"/>
              <a:pathLst>
                <a:path w="137" h="144">
                  <a:moveTo>
                    <a:pt x="0" y="51"/>
                  </a:moveTo>
                  <a:lnTo>
                    <a:pt x="12" y="17"/>
                  </a:lnTo>
                  <a:lnTo>
                    <a:pt x="46" y="0"/>
                  </a:lnTo>
                  <a:lnTo>
                    <a:pt x="92" y="0"/>
                  </a:lnTo>
                  <a:lnTo>
                    <a:pt x="124" y="22"/>
                  </a:lnTo>
                  <a:lnTo>
                    <a:pt x="137" y="55"/>
                  </a:lnTo>
                  <a:lnTo>
                    <a:pt x="135" y="95"/>
                  </a:lnTo>
                  <a:lnTo>
                    <a:pt x="109" y="129"/>
                  </a:lnTo>
                  <a:lnTo>
                    <a:pt x="65" y="144"/>
                  </a:lnTo>
                  <a:lnTo>
                    <a:pt x="27" y="134"/>
                  </a:lnTo>
                  <a:lnTo>
                    <a:pt x="65" y="129"/>
                  </a:lnTo>
                  <a:lnTo>
                    <a:pt x="101" y="108"/>
                  </a:lnTo>
                  <a:lnTo>
                    <a:pt x="109" y="66"/>
                  </a:lnTo>
                  <a:lnTo>
                    <a:pt x="88" y="34"/>
                  </a:lnTo>
                  <a:lnTo>
                    <a:pt x="57" y="26"/>
                  </a:lnTo>
                  <a:lnTo>
                    <a:pt x="27" y="32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83800" y="4139280"/>
              <a:ext cx="23400" cy="25560"/>
            </a:xfrm>
            <a:custGeom>
              <a:avLst/>
              <a:gdLst/>
              <a:ahLst/>
              <a:rect l="l" t="t" r="r" b="b"/>
              <a:pathLst>
                <a:path w="138" h="144">
                  <a:moveTo>
                    <a:pt x="0" y="53"/>
                  </a:moveTo>
                  <a:lnTo>
                    <a:pt x="13" y="17"/>
                  </a:lnTo>
                  <a:lnTo>
                    <a:pt x="47" y="0"/>
                  </a:lnTo>
                  <a:lnTo>
                    <a:pt x="93" y="0"/>
                  </a:lnTo>
                  <a:lnTo>
                    <a:pt x="123" y="23"/>
                  </a:lnTo>
                  <a:lnTo>
                    <a:pt x="138" y="57"/>
                  </a:lnTo>
                  <a:lnTo>
                    <a:pt x="136" y="97"/>
                  </a:lnTo>
                  <a:lnTo>
                    <a:pt x="110" y="129"/>
                  </a:lnTo>
                  <a:lnTo>
                    <a:pt x="66" y="144"/>
                  </a:lnTo>
                  <a:lnTo>
                    <a:pt x="28" y="137"/>
                  </a:lnTo>
                  <a:lnTo>
                    <a:pt x="66" y="131"/>
                  </a:lnTo>
                  <a:lnTo>
                    <a:pt x="100" y="110"/>
                  </a:lnTo>
                  <a:lnTo>
                    <a:pt x="110" y="67"/>
                  </a:lnTo>
                  <a:lnTo>
                    <a:pt x="89" y="36"/>
                  </a:lnTo>
                  <a:lnTo>
                    <a:pt x="57" y="29"/>
                  </a:lnTo>
                  <a:lnTo>
                    <a:pt x="28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22760" y="4128120"/>
              <a:ext cx="129240" cy="17280"/>
            </a:xfrm>
            <a:custGeom>
              <a:avLst/>
              <a:gdLst/>
              <a:ahLst/>
              <a:rect l="l" t="t" r="r" b="b"/>
              <a:pathLst>
                <a:path w="757" h="97">
                  <a:moveTo>
                    <a:pt x="0" y="29"/>
                  </a:moveTo>
                  <a:lnTo>
                    <a:pt x="224" y="27"/>
                  </a:lnTo>
                  <a:lnTo>
                    <a:pt x="230" y="0"/>
                  </a:lnTo>
                  <a:lnTo>
                    <a:pt x="513" y="8"/>
                  </a:lnTo>
                  <a:lnTo>
                    <a:pt x="523" y="36"/>
                  </a:lnTo>
                  <a:lnTo>
                    <a:pt x="755" y="34"/>
                  </a:lnTo>
                  <a:lnTo>
                    <a:pt x="757" y="78"/>
                  </a:lnTo>
                  <a:lnTo>
                    <a:pt x="525" y="74"/>
                  </a:lnTo>
                  <a:lnTo>
                    <a:pt x="513" y="97"/>
                  </a:lnTo>
                  <a:lnTo>
                    <a:pt x="228" y="93"/>
                  </a:lnTo>
                  <a:lnTo>
                    <a:pt x="213" y="69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98560" y="3526920"/>
              <a:ext cx="491040" cy="433080"/>
            </a:xfrm>
            <a:custGeom>
              <a:avLst/>
              <a:gdLst/>
              <a:ahLst/>
              <a:rect l="l" t="t" r="r" b="b"/>
              <a:pathLst>
                <a:path w="2868" h="2414">
                  <a:moveTo>
                    <a:pt x="25" y="0"/>
                  </a:moveTo>
                  <a:lnTo>
                    <a:pt x="2824" y="31"/>
                  </a:lnTo>
                  <a:lnTo>
                    <a:pt x="2868" y="80"/>
                  </a:lnTo>
                  <a:lnTo>
                    <a:pt x="2859" y="2384"/>
                  </a:lnTo>
                  <a:lnTo>
                    <a:pt x="2819" y="2414"/>
                  </a:lnTo>
                  <a:lnTo>
                    <a:pt x="2834" y="105"/>
                  </a:lnTo>
                  <a:lnTo>
                    <a:pt x="2800" y="55"/>
                  </a:lnTo>
                  <a:lnTo>
                    <a:pt x="0" y="31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78640" y="4138560"/>
              <a:ext cx="204480" cy="27000"/>
            </a:xfrm>
            <a:custGeom>
              <a:avLst/>
              <a:gdLst/>
              <a:ahLst/>
              <a:rect l="l" t="t" r="r" b="b"/>
              <a:pathLst>
                <a:path w="1197" h="152">
                  <a:moveTo>
                    <a:pt x="0" y="0"/>
                  </a:moveTo>
                  <a:lnTo>
                    <a:pt x="0" y="133"/>
                  </a:lnTo>
                  <a:lnTo>
                    <a:pt x="1197" y="152"/>
                  </a:lnTo>
                  <a:lnTo>
                    <a:pt x="1195" y="19"/>
                  </a:lnTo>
                  <a:lnTo>
                    <a:pt x="1167" y="17"/>
                  </a:lnTo>
                  <a:lnTo>
                    <a:pt x="1161" y="120"/>
                  </a:lnTo>
                  <a:lnTo>
                    <a:pt x="32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67840" y="4123440"/>
              <a:ext cx="6120" cy="132480"/>
            </a:xfrm>
            <a:custGeom>
              <a:avLst/>
              <a:gdLst/>
              <a:ahLst/>
              <a:rect l="l" t="t" r="r" b="b"/>
              <a:pathLst>
                <a:path w="36" h="739">
                  <a:moveTo>
                    <a:pt x="5" y="0"/>
                  </a:moveTo>
                  <a:lnTo>
                    <a:pt x="0" y="739"/>
                  </a:lnTo>
                  <a:lnTo>
                    <a:pt x="21" y="732"/>
                  </a:lnTo>
                  <a:lnTo>
                    <a:pt x="36" y="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89240" y="4130640"/>
              <a:ext cx="4320" cy="129600"/>
            </a:xfrm>
            <a:custGeom>
              <a:avLst/>
              <a:gdLst/>
              <a:ahLst/>
              <a:rect l="l" t="t" r="r" b="b"/>
              <a:pathLst>
                <a:path w="27" h="724">
                  <a:moveTo>
                    <a:pt x="0" y="2"/>
                  </a:moveTo>
                  <a:lnTo>
                    <a:pt x="2" y="724"/>
                  </a:lnTo>
                  <a:lnTo>
                    <a:pt x="27" y="724"/>
                  </a:lnTo>
                  <a:lnTo>
                    <a:pt x="23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98600" y="4152600"/>
              <a:ext cx="23400" cy="25560"/>
            </a:xfrm>
            <a:custGeom>
              <a:avLst/>
              <a:gdLst/>
              <a:ahLst/>
              <a:rect l="l" t="t" r="r" b="b"/>
              <a:pathLst>
                <a:path w="137" h="145">
                  <a:moveTo>
                    <a:pt x="0" y="53"/>
                  </a:moveTo>
                  <a:lnTo>
                    <a:pt x="12" y="19"/>
                  </a:lnTo>
                  <a:lnTo>
                    <a:pt x="46" y="0"/>
                  </a:lnTo>
                  <a:lnTo>
                    <a:pt x="92" y="0"/>
                  </a:lnTo>
                  <a:lnTo>
                    <a:pt x="122" y="23"/>
                  </a:lnTo>
                  <a:lnTo>
                    <a:pt x="137" y="57"/>
                  </a:lnTo>
                  <a:lnTo>
                    <a:pt x="135" y="97"/>
                  </a:lnTo>
                  <a:lnTo>
                    <a:pt x="109" y="129"/>
                  </a:lnTo>
                  <a:lnTo>
                    <a:pt x="65" y="145"/>
                  </a:lnTo>
                  <a:lnTo>
                    <a:pt x="27" y="137"/>
                  </a:lnTo>
                  <a:lnTo>
                    <a:pt x="65" y="131"/>
                  </a:lnTo>
                  <a:lnTo>
                    <a:pt x="101" y="110"/>
                  </a:lnTo>
                  <a:lnTo>
                    <a:pt x="109" y="67"/>
                  </a:lnTo>
                  <a:lnTo>
                    <a:pt x="88" y="36"/>
                  </a:lnTo>
                  <a:lnTo>
                    <a:pt x="57" y="29"/>
                  </a:lnTo>
                  <a:lnTo>
                    <a:pt x="27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10480" y="4266000"/>
              <a:ext cx="432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36000" y="3576960"/>
              <a:ext cx="401400" cy="313560"/>
            </a:xfrm>
            <a:custGeom>
              <a:avLst/>
              <a:gdLst/>
              <a:ahLst/>
              <a:rect l="l" t="t" r="r" b="b"/>
              <a:pathLst>
                <a:path w="2347" h="1747">
                  <a:moveTo>
                    <a:pt x="0" y="0"/>
                  </a:moveTo>
                  <a:lnTo>
                    <a:pt x="47" y="111"/>
                  </a:lnTo>
                  <a:lnTo>
                    <a:pt x="36" y="1150"/>
                  </a:lnTo>
                  <a:lnTo>
                    <a:pt x="39" y="1747"/>
                  </a:lnTo>
                  <a:lnTo>
                    <a:pt x="153" y="1709"/>
                  </a:lnTo>
                  <a:lnTo>
                    <a:pt x="174" y="139"/>
                  </a:lnTo>
                  <a:lnTo>
                    <a:pt x="914" y="124"/>
                  </a:lnTo>
                  <a:lnTo>
                    <a:pt x="2280" y="158"/>
                  </a:lnTo>
                  <a:lnTo>
                    <a:pt x="2347" y="107"/>
                  </a:lnTo>
                  <a:lnTo>
                    <a:pt x="1762" y="92"/>
                  </a:lnTo>
                  <a:lnTo>
                    <a:pt x="752" y="67"/>
                  </a:lnTo>
                  <a:lnTo>
                    <a:pt x="102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44280" y="3595680"/>
              <a:ext cx="392040" cy="316440"/>
            </a:xfrm>
            <a:custGeom>
              <a:avLst/>
              <a:gdLst/>
              <a:ahLst/>
              <a:rect l="l" t="t" r="r" b="b"/>
              <a:pathLst>
                <a:path w="2292" h="1764">
                  <a:moveTo>
                    <a:pt x="0" y="1650"/>
                  </a:moveTo>
                  <a:lnTo>
                    <a:pt x="859" y="1696"/>
                  </a:lnTo>
                  <a:lnTo>
                    <a:pt x="2173" y="1713"/>
                  </a:lnTo>
                  <a:lnTo>
                    <a:pt x="2289" y="1764"/>
                  </a:lnTo>
                  <a:lnTo>
                    <a:pt x="2277" y="1696"/>
                  </a:lnTo>
                  <a:lnTo>
                    <a:pt x="2292" y="0"/>
                  </a:lnTo>
                  <a:lnTo>
                    <a:pt x="2197" y="36"/>
                  </a:lnTo>
                  <a:lnTo>
                    <a:pt x="2190" y="1618"/>
                  </a:lnTo>
                  <a:lnTo>
                    <a:pt x="1410" y="1641"/>
                  </a:lnTo>
                  <a:lnTo>
                    <a:pt x="449" y="1610"/>
                  </a:lnTo>
                  <a:lnTo>
                    <a:pt x="72" y="1593"/>
                  </a:lnTo>
                  <a:lnTo>
                    <a:pt x="0" y="1650"/>
                  </a:lnTo>
                  <a:lnTo>
                    <a:pt x="0" y="16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98240" y="4266000"/>
              <a:ext cx="4320" cy="12240"/>
            </a:xfrm>
            <a:custGeom>
              <a:avLst/>
              <a:gdLst/>
              <a:ahLst/>
              <a:rect l="l" t="t" r="r" b="b"/>
              <a:pathLst>
                <a:path w="24" h="70">
                  <a:moveTo>
                    <a:pt x="0" y="0"/>
                  </a:moveTo>
                  <a:lnTo>
                    <a:pt x="1" y="70"/>
                  </a:lnTo>
                  <a:lnTo>
                    <a:pt x="24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86000" y="42656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73760" y="42652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61160" y="426492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" y="73"/>
                  </a:lnTo>
                  <a:lnTo>
                    <a:pt x="25" y="73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49280" y="4264560"/>
              <a:ext cx="360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0" y="72"/>
                  </a:lnTo>
                  <a:lnTo>
                    <a:pt x="23" y="72"/>
                  </a:lnTo>
                  <a:lnTo>
                    <a:pt x="2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37040" y="426456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24440" y="426456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11840" y="426384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99600" y="4263480"/>
              <a:ext cx="3960" cy="1296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0"/>
                  </a:moveTo>
                  <a:lnTo>
                    <a:pt x="1" y="72"/>
                  </a:lnTo>
                  <a:lnTo>
                    <a:pt x="22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87360" y="4263480"/>
              <a:ext cx="432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75120" y="426312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62520" y="426312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" y="72"/>
                  </a:lnTo>
                  <a:lnTo>
                    <a:pt x="25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50280" y="426276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38400" y="426276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26160" y="426276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0"/>
                  </a:moveTo>
                  <a:lnTo>
                    <a:pt x="2" y="71"/>
                  </a:lnTo>
                  <a:lnTo>
                    <a:pt x="23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13200" y="426204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0" y="0"/>
                  </a:moveTo>
                  <a:lnTo>
                    <a:pt x="2" y="73"/>
                  </a:lnTo>
                  <a:lnTo>
                    <a:pt x="23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00960" y="426204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3">
                  <a:moveTo>
                    <a:pt x="0" y="0"/>
                  </a:moveTo>
                  <a:lnTo>
                    <a:pt x="2" y="73"/>
                  </a:lnTo>
                  <a:lnTo>
                    <a:pt x="22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88720" y="4262040"/>
              <a:ext cx="3960" cy="1224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0"/>
                  </a:moveTo>
                  <a:lnTo>
                    <a:pt x="2" y="71"/>
                  </a:lnTo>
                  <a:lnTo>
                    <a:pt x="23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76480" y="426132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64240" y="426096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51640" y="426060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39400" y="426024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1" y="72"/>
                  </a:lnTo>
                  <a:lnTo>
                    <a:pt x="24" y="72"/>
                  </a:lnTo>
                  <a:lnTo>
                    <a:pt x="2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27520" y="426024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14920" y="4260240"/>
              <a:ext cx="396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02320" y="425952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90080" y="425916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77840" y="425916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65600" y="425880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53000" y="42584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" y="73"/>
                  </a:lnTo>
                  <a:lnTo>
                    <a:pt x="25" y="73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40760" y="425844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0"/>
                  </a:moveTo>
                  <a:lnTo>
                    <a:pt x="1" y="73"/>
                  </a:lnTo>
                  <a:lnTo>
                    <a:pt x="24" y="73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28520" y="425844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4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16640" y="4257720"/>
              <a:ext cx="3600" cy="1260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03680" y="425772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91440" y="425700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0"/>
                  </a:moveTo>
                  <a:lnTo>
                    <a:pt x="1" y="72"/>
                  </a:lnTo>
                  <a:lnTo>
                    <a:pt x="22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79200" y="4256640"/>
              <a:ext cx="3960" cy="1296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66960" y="42566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54720" y="42566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42120" y="425664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29880" y="425592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4" y="72"/>
                  </a:lnTo>
                  <a:lnTo>
                    <a:pt x="25" y="72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17640" y="425592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4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05400" y="425592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92800" y="425520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3">
                  <a:moveTo>
                    <a:pt x="0" y="0"/>
                  </a:moveTo>
                  <a:lnTo>
                    <a:pt x="2" y="73"/>
                  </a:lnTo>
                  <a:lnTo>
                    <a:pt x="22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80560" y="425520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0" y="0"/>
                  </a:moveTo>
                  <a:lnTo>
                    <a:pt x="2" y="73"/>
                  </a:lnTo>
                  <a:lnTo>
                    <a:pt x="23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68320" y="425520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56080" y="425484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43480" y="425412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31240" y="425412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" y="72"/>
                  </a:lnTo>
                  <a:lnTo>
                    <a:pt x="25" y="72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12160" y="4136040"/>
              <a:ext cx="627120" cy="143640"/>
            </a:xfrm>
            <a:custGeom>
              <a:avLst/>
              <a:gdLst/>
              <a:ahLst/>
              <a:rect l="l" t="t" r="r" b="b"/>
              <a:pathLst>
                <a:path w="3667" h="802">
                  <a:moveTo>
                    <a:pt x="0" y="616"/>
                  </a:moveTo>
                  <a:lnTo>
                    <a:pt x="3635" y="675"/>
                  </a:lnTo>
                  <a:lnTo>
                    <a:pt x="3616" y="0"/>
                  </a:lnTo>
                  <a:lnTo>
                    <a:pt x="3642" y="15"/>
                  </a:lnTo>
                  <a:lnTo>
                    <a:pt x="3667" y="802"/>
                  </a:lnTo>
                  <a:lnTo>
                    <a:pt x="3623" y="703"/>
                  </a:lnTo>
                  <a:lnTo>
                    <a:pt x="80" y="644"/>
                  </a:lnTo>
                  <a:lnTo>
                    <a:pt x="0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70560" y="3606480"/>
              <a:ext cx="340200" cy="270720"/>
            </a:xfrm>
            <a:custGeom>
              <a:avLst/>
              <a:gdLst/>
              <a:ahLst/>
              <a:rect l="l" t="t" r="r" b="b"/>
              <a:pathLst>
                <a:path w="1988" h="1509">
                  <a:moveTo>
                    <a:pt x="0" y="0"/>
                  </a:moveTo>
                  <a:lnTo>
                    <a:pt x="1988" y="28"/>
                  </a:lnTo>
                  <a:lnTo>
                    <a:pt x="1988" y="1509"/>
                  </a:lnTo>
                  <a:lnTo>
                    <a:pt x="21" y="14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79720" y="4132440"/>
              <a:ext cx="202680" cy="10440"/>
            </a:xfrm>
            <a:custGeom>
              <a:avLst/>
              <a:gdLst/>
              <a:ahLst/>
              <a:rect l="l" t="t" r="r" b="b"/>
              <a:pathLst>
                <a:path w="1186" h="59">
                  <a:moveTo>
                    <a:pt x="0" y="30"/>
                  </a:moveTo>
                  <a:lnTo>
                    <a:pt x="1186" y="59"/>
                  </a:lnTo>
                  <a:lnTo>
                    <a:pt x="1186" y="38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43880" y="3976200"/>
              <a:ext cx="32040" cy="31320"/>
            </a:xfrm>
            <a:custGeom>
              <a:avLst/>
              <a:gdLst/>
              <a:ahLst/>
              <a:rect l="l" t="t" r="r" b="b"/>
              <a:pathLst>
                <a:path w="188" h="175">
                  <a:moveTo>
                    <a:pt x="36" y="38"/>
                  </a:moveTo>
                  <a:lnTo>
                    <a:pt x="0" y="175"/>
                  </a:lnTo>
                  <a:lnTo>
                    <a:pt x="116" y="175"/>
                  </a:lnTo>
                  <a:lnTo>
                    <a:pt x="188" y="0"/>
                  </a:lnTo>
                  <a:lnTo>
                    <a:pt x="36" y="38"/>
                  </a:lnTo>
                  <a:lnTo>
                    <a:pt x="3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805800" y="3209040"/>
            <a:ext cx="676080" cy="773640"/>
            <a:chOff x="6805800" y="3209040"/>
            <a:chExt cx="676080" cy="773640"/>
          </a:xfrm>
        </p:grpSpPr>
        <p:sp>
          <p:nvSpPr>
            <p:cNvPr id="189" name=""/>
            <p:cNvSpPr/>
            <p:nvPr/>
          </p:nvSpPr>
          <p:spPr>
            <a:xfrm>
              <a:off x="6805800" y="3763080"/>
              <a:ext cx="673920" cy="203040"/>
            </a:xfrm>
            <a:custGeom>
              <a:avLst/>
              <a:gdLst/>
              <a:ahLst/>
              <a:rect l="l" t="t" r="r" b="b"/>
              <a:pathLst>
                <a:path w="3937" h="1133">
                  <a:moveTo>
                    <a:pt x="644" y="0"/>
                  </a:moveTo>
                  <a:lnTo>
                    <a:pt x="0" y="247"/>
                  </a:lnTo>
                  <a:lnTo>
                    <a:pt x="29" y="1030"/>
                  </a:lnTo>
                  <a:lnTo>
                    <a:pt x="3764" y="1133"/>
                  </a:lnTo>
                  <a:lnTo>
                    <a:pt x="3937" y="821"/>
                  </a:lnTo>
                  <a:lnTo>
                    <a:pt x="3908" y="7"/>
                  </a:lnTo>
                  <a:lnTo>
                    <a:pt x="2443" y="0"/>
                  </a:lnTo>
                  <a:lnTo>
                    <a:pt x="644" y="0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90400" y="3210120"/>
              <a:ext cx="533880" cy="479880"/>
            </a:xfrm>
            <a:custGeom>
              <a:avLst/>
              <a:gdLst/>
              <a:ahLst/>
              <a:rect l="l" t="t" r="r" b="b"/>
              <a:pathLst>
                <a:path w="3120" h="2672">
                  <a:moveTo>
                    <a:pt x="101" y="0"/>
                  </a:moveTo>
                  <a:lnTo>
                    <a:pt x="3068" y="28"/>
                  </a:lnTo>
                  <a:lnTo>
                    <a:pt x="3120" y="72"/>
                  </a:lnTo>
                  <a:lnTo>
                    <a:pt x="3097" y="2425"/>
                  </a:lnTo>
                  <a:lnTo>
                    <a:pt x="2916" y="2556"/>
                  </a:lnTo>
                  <a:lnTo>
                    <a:pt x="2800" y="2672"/>
                  </a:lnTo>
                  <a:lnTo>
                    <a:pt x="196" y="2549"/>
                  </a:lnTo>
                  <a:lnTo>
                    <a:pt x="0" y="2410"/>
                  </a:lnTo>
                  <a:lnTo>
                    <a:pt x="29" y="108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1000" y="3656880"/>
              <a:ext cx="458280" cy="52200"/>
            </a:xfrm>
            <a:custGeom>
              <a:avLst/>
              <a:gdLst/>
              <a:ahLst/>
              <a:rect l="l" t="t" r="r" b="b"/>
              <a:pathLst>
                <a:path w="2676" h="290">
                  <a:moveTo>
                    <a:pt x="0" y="0"/>
                  </a:moveTo>
                  <a:lnTo>
                    <a:pt x="0" y="203"/>
                  </a:lnTo>
                  <a:lnTo>
                    <a:pt x="2480" y="290"/>
                  </a:lnTo>
                  <a:lnTo>
                    <a:pt x="2676" y="9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78760" y="3818160"/>
              <a:ext cx="10080" cy="134640"/>
            </a:xfrm>
            <a:custGeom>
              <a:avLst/>
              <a:gdLst/>
              <a:ahLst/>
              <a:rect l="l" t="t" r="r" b="b"/>
              <a:pathLst>
                <a:path w="59" h="751">
                  <a:moveTo>
                    <a:pt x="59" y="4"/>
                  </a:moveTo>
                  <a:lnTo>
                    <a:pt x="40" y="739"/>
                  </a:lnTo>
                  <a:lnTo>
                    <a:pt x="0" y="751"/>
                  </a:lnTo>
                  <a:lnTo>
                    <a:pt x="8" y="0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17320" y="3802320"/>
              <a:ext cx="632160" cy="172440"/>
            </a:xfrm>
            <a:custGeom>
              <a:avLst/>
              <a:gdLst/>
              <a:ahLst/>
              <a:rect l="l" t="t" r="r" b="b"/>
              <a:pathLst>
                <a:path w="3691" h="962">
                  <a:moveTo>
                    <a:pt x="59" y="0"/>
                  </a:moveTo>
                  <a:lnTo>
                    <a:pt x="89" y="48"/>
                  </a:lnTo>
                  <a:lnTo>
                    <a:pt x="74" y="407"/>
                  </a:lnTo>
                  <a:lnTo>
                    <a:pt x="2109" y="451"/>
                  </a:lnTo>
                  <a:lnTo>
                    <a:pt x="3607" y="491"/>
                  </a:lnTo>
                  <a:lnTo>
                    <a:pt x="3643" y="531"/>
                  </a:lnTo>
                  <a:lnTo>
                    <a:pt x="66" y="458"/>
                  </a:lnTo>
                  <a:lnTo>
                    <a:pt x="55" y="763"/>
                  </a:lnTo>
                  <a:lnTo>
                    <a:pt x="2113" y="791"/>
                  </a:lnTo>
                  <a:lnTo>
                    <a:pt x="3681" y="816"/>
                  </a:lnTo>
                  <a:lnTo>
                    <a:pt x="3691" y="962"/>
                  </a:lnTo>
                  <a:lnTo>
                    <a:pt x="1203" y="930"/>
                  </a:lnTo>
                  <a:lnTo>
                    <a:pt x="49" y="901"/>
                  </a:lnTo>
                  <a:lnTo>
                    <a:pt x="3" y="861"/>
                  </a:lnTo>
                  <a:lnTo>
                    <a:pt x="0" y="82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17840" y="3817080"/>
              <a:ext cx="151920" cy="41760"/>
            </a:xfrm>
            <a:custGeom>
              <a:avLst/>
              <a:gdLst/>
              <a:ahLst/>
              <a:rect l="l" t="t" r="r" b="b"/>
              <a:pathLst>
                <a:path w="887" h="234">
                  <a:moveTo>
                    <a:pt x="0" y="2"/>
                  </a:moveTo>
                  <a:lnTo>
                    <a:pt x="0" y="222"/>
                  </a:lnTo>
                  <a:lnTo>
                    <a:pt x="887" y="234"/>
                  </a:lnTo>
                  <a:lnTo>
                    <a:pt x="876" y="131"/>
                  </a:lnTo>
                  <a:lnTo>
                    <a:pt x="621" y="131"/>
                  </a:lnTo>
                  <a:lnTo>
                    <a:pt x="598" y="160"/>
                  </a:lnTo>
                  <a:lnTo>
                    <a:pt x="292" y="156"/>
                  </a:lnTo>
                  <a:lnTo>
                    <a:pt x="273" y="127"/>
                  </a:lnTo>
                  <a:lnTo>
                    <a:pt x="68" y="131"/>
                  </a:lnTo>
                  <a:lnTo>
                    <a:pt x="6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89560" y="3846600"/>
              <a:ext cx="200520" cy="10800"/>
            </a:xfrm>
            <a:custGeom>
              <a:avLst/>
              <a:gdLst/>
              <a:ahLst/>
              <a:rect l="l" t="t" r="r" b="b"/>
              <a:pathLst>
                <a:path w="1173" h="62">
                  <a:moveTo>
                    <a:pt x="0" y="0"/>
                  </a:moveTo>
                  <a:lnTo>
                    <a:pt x="1173" y="15"/>
                  </a:lnTo>
                  <a:lnTo>
                    <a:pt x="1173" y="62"/>
                  </a:lnTo>
                  <a:lnTo>
                    <a:pt x="2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24880" y="3758040"/>
              <a:ext cx="645840" cy="57960"/>
            </a:xfrm>
            <a:custGeom>
              <a:avLst/>
              <a:gdLst/>
              <a:ahLst/>
              <a:rect l="l" t="t" r="r" b="b"/>
              <a:pathLst>
                <a:path w="3771" h="325">
                  <a:moveTo>
                    <a:pt x="0" y="240"/>
                  </a:moveTo>
                  <a:lnTo>
                    <a:pt x="899" y="261"/>
                  </a:lnTo>
                  <a:lnTo>
                    <a:pt x="1046" y="124"/>
                  </a:lnTo>
                  <a:lnTo>
                    <a:pt x="1738" y="101"/>
                  </a:lnTo>
                  <a:lnTo>
                    <a:pt x="2785" y="181"/>
                  </a:lnTo>
                  <a:lnTo>
                    <a:pt x="2981" y="80"/>
                  </a:lnTo>
                  <a:lnTo>
                    <a:pt x="2988" y="137"/>
                  </a:lnTo>
                  <a:lnTo>
                    <a:pt x="2851" y="312"/>
                  </a:lnTo>
                  <a:lnTo>
                    <a:pt x="3604" y="325"/>
                  </a:lnTo>
                  <a:lnTo>
                    <a:pt x="3771" y="44"/>
                  </a:lnTo>
                  <a:lnTo>
                    <a:pt x="2597" y="29"/>
                  </a:lnTo>
                  <a:lnTo>
                    <a:pt x="1262" y="0"/>
                  </a:lnTo>
                  <a:lnTo>
                    <a:pt x="531" y="14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85520" y="3730320"/>
              <a:ext cx="153720" cy="33840"/>
            </a:xfrm>
            <a:custGeom>
              <a:avLst/>
              <a:gdLst/>
              <a:ahLst/>
              <a:rect l="l" t="t" r="r" b="b"/>
              <a:pathLst>
                <a:path w="899" h="190">
                  <a:moveTo>
                    <a:pt x="15" y="0"/>
                  </a:moveTo>
                  <a:lnTo>
                    <a:pt x="0" y="190"/>
                  </a:lnTo>
                  <a:lnTo>
                    <a:pt x="886" y="190"/>
                  </a:lnTo>
                  <a:lnTo>
                    <a:pt x="899" y="1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85520" y="3735720"/>
              <a:ext cx="19800" cy="30600"/>
            </a:xfrm>
            <a:custGeom>
              <a:avLst/>
              <a:gdLst/>
              <a:ahLst/>
              <a:rect l="l" t="t" r="r" b="b"/>
              <a:pathLst>
                <a:path w="116" h="173">
                  <a:moveTo>
                    <a:pt x="116" y="13"/>
                  </a:moveTo>
                  <a:lnTo>
                    <a:pt x="80" y="173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116" y="13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83800" y="3732840"/>
              <a:ext cx="43200" cy="34920"/>
            </a:xfrm>
            <a:custGeom>
              <a:avLst/>
              <a:gdLst/>
              <a:ahLst/>
              <a:rect l="l" t="t" r="r" b="b"/>
              <a:pathLst>
                <a:path w="253" h="195">
                  <a:moveTo>
                    <a:pt x="0" y="0"/>
                  </a:moveTo>
                  <a:lnTo>
                    <a:pt x="72" y="195"/>
                  </a:lnTo>
                  <a:lnTo>
                    <a:pt x="232" y="182"/>
                  </a:lnTo>
                  <a:lnTo>
                    <a:pt x="253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57720" y="3794400"/>
              <a:ext cx="384840" cy="21600"/>
            </a:xfrm>
            <a:custGeom>
              <a:avLst/>
              <a:gdLst/>
              <a:ahLst/>
              <a:rect l="l" t="t" r="r" b="b"/>
              <a:pathLst>
                <a:path w="2248" h="121">
                  <a:moveTo>
                    <a:pt x="0" y="57"/>
                  </a:moveTo>
                  <a:lnTo>
                    <a:pt x="2248" y="121"/>
                  </a:lnTo>
                  <a:lnTo>
                    <a:pt x="2161" y="57"/>
                  </a:lnTo>
                  <a:lnTo>
                    <a:pt x="66" y="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44800" y="3772440"/>
              <a:ext cx="32040" cy="204120"/>
            </a:xfrm>
            <a:custGeom>
              <a:avLst/>
              <a:gdLst/>
              <a:ahLst/>
              <a:rect l="l" t="t" r="r" b="b"/>
              <a:pathLst>
                <a:path w="189" h="1139">
                  <a:moveTo>
                    <a:pt x="189" y="0"/>
                  </a:moveTo>
                  <a:lnTo>
                    <a:pt x="0" y="327"/>
                  </a:lnTo>
                  <a:lnTo>
                    <a:pt x="21" y="1139"/>
                  </a:lnTo>
                  <a:lnTo>
                    <a:pt x="189" y="783"/>
                  </a:lnTo>
                  <a:lnTo>
                    <a:pt x="189" y="0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03400" y="3222720"/>
              <a:ext cx="18360" cy="440640"/>
            </a:xfrm>
            <a:custGeom>
              <a:avLst/>
              <a:gdLst/>
              <a:ahLst/>
              <a:rect l="l" t="t" r="r" b="b"/>
              <a:pathLst>
                <a:path w="108" h="2456">
                  <a:moveTo>
                    <a:pt x="108" y="0"/>
                  </a:moveTo>
                  <a:lnTo>
                    <a:pt x="8" y="66"/>
                  </a:lnTo>
                  <a:lnTo>
                    <a:pt x="0" y="2456"/>
                  </a:lnTo>
                  <a:lnTo>
                    <a:pt x="108" y="2302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90400" y="3222720"/>
              <a:ext cx="453240" cy="428760"/>
            </a:xfrm>
            <a:custGeom>
              <a:avLst/>
              <a:gdLst/>
              <a:ahLst/>
              <a:rect l="l" t="t" r="r" b="b"/>
              <a:pathLst>
                <a:path w="2648" h="2389">
                  <a:moveTo>
                    <a:pt x="31" y="66"/>
                  </a:moveTo>
                  <a:lnTo>
                    <a:pt x="124" y="0"/>
                  </a:lnTo>
                  <a:lnTo>
                    <a:pt x="2597" y="36"/>
                  </a:lnTo>
                  <a:lnTo>
                    <a:pt x="1713" y="87"/>
                  </a:lnTo>
                  <a:lnTo>
                    <a:pt x="2597" y="139"/>
                  </a:lnTo>
                  <a:lnTo>
                    <a:pt x="1705" y="159"/>
                  </a:lnTo>
                  <a:lnTo>
                    <a:pt x="2604" y="234"/>
                  </a:lnTo>
                  <a:lnTo>
                    <a:pt x="1713" y="234"/>
                  </a:lnTo>
                  <a:lnTo>
                    <a:pt x="2597" y="306"/>
                  </a:lnTo>
                  <a:lnTo>
                    <a:pt x="299" y="291"/>
                  </a:lnTo>
                  <a:lnTo>
                    <a:pt x="291" y="2098"/>
                  </a:lnTo>
                  <a:lnTo>
                    <a:pt x="1682" y="2142"/>
                  </a:lnTo>
                  <a:lnTo>
                    <a:pt x="2648" y="2165"/>
                  </a:lnTo>
                  <a:lnTo>
                    <a:pt x="1785" y="2229"/>
                  </a:lnTo>
                  <a:lnTo>
                    <a:pt x="2648" y="2252"/>
                  </a:lnTo>
                  <a:lnTo>
                    <a:pt x="1893" y="2296"/>
                  </a:lnTo>
                  <a:lnTo>
                    <a:pt x="2648" y="2353"/>
                  </a:lnTo>
                  <a:lnTo>
                    <a:pt x="2118" y="2389"/>
                  </a:lnTo>
                  <a:lnTo>
                    <a:pt x="0" y="2345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59160" y="3291120"/>
              <a:ext cx="378720" cy="306000"/>
            </a:xfrm>
            <a:custGeom>
              <a:avLst/>
              <a:gdLst/>
              <a:ahLst/>
              <a:rect l="l" t="t" r="r" b="b"/>
              <a:pathLst>
                <a:path w="2213" h="1707">
                  <a:moveTo>
                    <a:pt x="16" y="0"/>
                  </a:moveTo>
                  <a:lnTo>
                    <a:pt x="2213" y="15"/>
                  </a:lnTo>
                  <a:lnTo>
                    <a:pt x="2190" y="1707"/>
                  </a:lnTo>
                  <a:lnTo>
                    <a:pt x="0" y="162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04440" y="3209760"/>
              <a:ext cx="520920" cy="469440"/>
            </a:xfrm>
            <a:custGeom>
              <a:avLst/>
              <a:gdLst/>
              <a:ahLst/>
              <a:rect l="l" t="t" r="r" b="b"/>
              <a:pathLst>
                <a:path w="3043" h="2615">
                  <a:moveTo>
                    <a:pt x="19" y="21"/>
                  </a:moveTo>
                  <a:lnTo>
                    <a:pt x="2950" y="59"/>
                  </a:lnTo>
                  <a:lnTo>
                    <a:pt x="3007" y="100"/>
                  </a:lnTo>
                  <a:lnTo>
                    <a:pt x="2998" y="2406"/>
                  </a:lnTo>
                  <a:lnTo>
                    <a:pt x="2935" y="2488"/>
                  </a:lnTo>
                  <a:lnTo>
                    <a:pt x="2802" y="2545"/>
                  </a:lnTo>
                  <a:lnTo>
                    <a:pt x="0" y="2478"/>
                  </a:lnTo>
                  <a:lnTo>
                    <a:pt x="108" y="2545"/>
                  </a:lnTo>
                  <a:lnTo>
                    <a:pt x="2762" y="2615"/>
                  </a:lnTo>
                  <a:lnTo>
                    <a:pt x="2922" y="2566"/>
                  </a:lnTo>
                  <a:lnTo>
                    <a:pt x="3017" y="2431"/>
                  </a:lnTo>
                  <a:lnTo>
                    <a:pt x="3043" y="2324"/>
                  </a:lnTo>
                  <a:lnTo>
                    <a:pt x="3043" y="85"/>
                  </a:lnTo>
                  <a:lnTo>
                    <a:pt x="2980" y="13"/>
                  </a:lnTo>
                  <a:lnTo>
                    <a:pt x="34" y="0"/>
                  </a:lnTo>
                  <a:lnTo>
                    <a:pt x="19" y="21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88240" y="3209040"/>
              <a:ext cx="498960" cy="450000"/>
            </a:xfrm>
            <a:custGeom>
              <a:avLst/>
              <a:gdLst/>
              <a:ahLst/>
              <a:rect l="l" t="t" r="r" b="b"/>
              <a:pathLst>
                <a:path w="2918" h="2507">
                  <a:moveTo>
                    <a:pt x="145" y="4"/>
                  </a:moveTo>
                  <a:lnTo>
                    <a:pt x="67" y="118"/>
                  </a:lnTo>
                  <a:lnTo>
                    <a:pt x="42" y="2397"/>
                  </a:lnTo>
                  <a:lnTo>
                    <a:pt x="97" y="2418"/>
                  </a:lnTo>
                  <a:lnTo>
                    <a:pt x="2918" y="2482"/>
                  </a:lnTo>
                  <a:lnTo>
                    <a:pt x="2789" y="2507"/>
                  </a:lnTo>
                  <a:lnTo>
                    <a:pt x="46" y="2444"/>
                  </a:lnTo>
                  <a:lnTo>
                    <a:pt x="0" y="2414"/>
                  </a:lnTo>
                  <a:lnTo>
                    <a:pt x="31" y="108"/>
                  </a:lnTo>
                  <a:lnTo>
                    <a:pt x="126" y="0"/>
                  </a:lnTo>
                  <a:lnTo>
                    <a:pt x="145" y="4"/>
                  </a:lnTo>
                  <a:lnTo>
                    <a:pt x="14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7280" y="3662640"/>
              <a:ext cx="513720" cy="126360"/>
            </a:xfrm>
            <a:custGeom>
              <a:avLst/>
              <a:gdLst/>
              <a:ahLst/>
              <a:rect l="l" t="t" r="r" b="b"/>
              <a:pathLst>
                <a:path w="3000" h="705">
                  <a:moveTo>
                    <a:pt x="375" y="0"/>
                  </a:moveTo>
                  <a:lnTo>
                    <a:pt x="375" y="217"/>
                  </a:lnTo>
                  <a:lnTo>
                    <a:pt x="765" y="238"/>
                  </a:lnTo>
                  <a:lnTo>
                    <a:pt x="770" y="386"/>
                  </a:lnTo>
                  <a:lnTo>
                    <a:pt x="1304" y="401"/>
                  </a:lnTo>
                  <a:lnTo>
                    <a:pt x="1310" y="521"/>
                  </a:lnTo>
                  <a:lnTo>
                    <a:pt x="339" y="504"/>
                  </a:lnTo>
                  <a:lnTo>
                    <a:pt x="0" y="680"/>
                  </a:lnTo>
                  <a:lnTo>
                    <a:pt x="647" y="690"/>
                  </a:lnTo>
                  <a:lnTo>
                    <a:pt x="755" y="705"/>
                  </a:lnTo>
                  <a:lnTo>
                    <a:pt x="806" y="597"/>
                  </a:lnTo>
                  <a:lnTo>
                    <a:pt x="1561" y="602"/>
                  </a:lnTo>
                  <a:lnTo>
                    <a:pt x="1747" y="561"/>
                  </a:lnTo>
                  <a:lnTo>
                    <a:pt x="1371" y="536"/>
                  </a:lnTo>
                  <a:lnTo>
                    <a:pt x="1377" y="452"/>
                  </a:lnTo>
                  <a:lnTo>
                    <a:pt x="1645" y="431"/>
                  </a:lnTo>
                  <a:lnTo>
                    <a:pt x="2034" y="449"/>
                  </a:lnTo>
                  <a:lnTo>
                    <a:pt x="2095" y="492"/>
                  </a:lnTo>
                  <a:lnTo>
                    <a:pt x="2044" y="542"/>
                  </a:lnTo>
                  <a:lnTo>
                    <a:pt x="1859" y="587"/>
                  </a:lnTo>
                  <a:lnTo>
                    <a:pt x="2059" y="621"/>
                  </a:lnTo>
                  <a:lnTo>
                    <a:pt x="2610" y="648"/>
                  </a:lnTo>
                  <a:lnTo>
                    <a:pt x="2745" y="585"/>
                  </a:lnTo>
                  <a:lnTo>
                    <a:pt x="2291" y="536"/>
                  </a:lnTo>
                  <a:lnTo>
                    <a:pt x="2291" y="458"/>
                  </a:lnTo>
                  <a:lnTo>
                    <a:pt x="2682" y="452"/>
                  </a:lnTo>
                  <a:lnTo>
                    <a:pt x="2728" y="319"/>
                  </a:lnTo>
                  <a:lnTo>
                    <a:pt x="3000" y="217"/>
                  </a:lnTo>
                  <a:lnTo>
                    <a:pt x="420" y="139"/>
                  </a:lnTo>
                  <a:lnTo>
                    <a:pt x="375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81840" y="3777840"/>
              <a:ext cx="358920" cy="29880"/>
            </a:xfrm>
            <a:custGeom>
              <a:avLst/>
              <a:gdLst/>
              <a:ahLst/>
              <a:rect l="l" t="t" r="r" b="b"/>
              <a:pathLst>
                <a:path w="2097" h="169">
                  <a:moveTo>
                    <a:pt x="42" y="76"/>
                  </a:moveTo>
                  <a:lnTo>
                    <a:pt x="1943" y="138"/>
                  </a:lnTo>
                  <a:lnTo>
                    <a:pt x="2087" y="0"/>
                  </a:lnTo>
                  <a:lnTo>
                    <a:pt x="2097" y="36"/>
                  </a:lnTo>
                  <a:lnTo>
                    <a:pt x="1970" y="169"/>
                  </a:lnTo>
                  <a:lnTo>
                    <a:pt x="0" y="112"/>
                  </a:lnTo>
                  <a:lnTo>
                    <a:pt x="42" y="76"/>
                  </a:lnTo>
                  <a:lnTo>
                    <a:pt x="4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21280" y="3753720"/>
              <a:ext cx="660600" cy="228960"/>
            </a:xfrm>
            <a:custGeom>
              <a:avLst/>
              <a:gdLst/>
              <a:ahLst/>
              <a:rect l="l" t="t" r="r" b="b"/>
              <a:pathLst>
                <a:path w="3859" h="1275">
                  <a:moveTo>
                    <a:pt x="0" y="1151"/>
                  </a:moveTo>
                  <a:lnTo>
                    <a:pt x="3648" y="1224"/>
                  </a:lnTo>
                  <a:lnTo>
                    <a:pt x="3808" y="868"/>
                  </a:lnTo>
                  <a:lnTo>
                    <a:pt x="3808" y="91"/>
                  </a:lnTo>
                  <a:lnTo>
                    <a:pt x="3000" y="72"/>
                  </a:lnTo>
                  <a:lnTo>
                    <a:pt x="2557" y="0"/>
                  </a:lnTo>
                  <a:lnTo>
                    <a:pt x="3848" y="39"/>
                  </a:lnTo>
                  <a:lnTo>
                    <a:pt x="3859" y="901"/>
                  </a:lnTo>
                  <a:lnTo>
                    <a:pt x="3673" y="1275"/>
                  </a:lnTo>
                  <a:lnTo>
                    <a:pt x="19" y="1191"/>
                  </a:lnTo>
                  <a:lnTo>
                    <a:pt x="0" y="1151"/>
                  </a:lnTo>
                  <a:lnTo>
                    <a:pt x="0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30280" y="3808440"/>
              <a:ext cx="609120" cy="21240"/>
            </a:xfrm>
            <a:custGeom>
              <a:avLst/>
              <a:gdLst/>
              <a:ahLst/>
              <a:rect l="l" t="t" r="r" b="b"/>
              <a:pathLst>
                <a:path w="3558" h="119">
                  <a:moveTo>
                    <a:pt x="3" y="0"/>
                  </a:moveTo>
                  <a:lnTo>
                    <a:pt x="3527" y="83"/>
                  </a:lnTo>
                  <a:lnTo>
                    <a:pt x="3558" y="119"/>
                  </a:lnTo>
                  <a:lnTo>
                    <a:pt x="0" y="3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15680" y="3815640"/>
              <a:ext cx="156240" cy="44640"/>
            </a:xfrm>
            <a:custGeom>
              <a:avLst/>
              <a:gdLst/>
              <a:ahLst/>
              <a:rect l="l" t="t" r="r" b="b"/>
              <a:pathLst>
                <a:path w="914" h="249">
                  <a:moveTo>
                    <a:pt x="0" y="4"/>
                  </a:moveTo>
                  <a:lnTo>
                    <a:pt x="4" y="238"/>
                  </a:lnTo>
                  <a:lnTo>
                    <a:pt x="914" y="249"/>
                  </a:lnTo>
                  <a:lnTo>
                    <a:pt x="914" y="19"/>
                  </a:lnTo>
                  <a:lnTo>
                    <a:pt x="886" y="19"/>
                  </a:lnTo>
                  <a:lnTo>
                    <a:pt x="886" y="234"/>
                  </a:lnTo>
                  <a:lnTo>
                    <a:pt x="34" y="217"/>
                  </a:lnTo>
                  <a:lnTo>
                    <a:pt x="2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26320" y="3882240"/>
              <a:ext cx="619560" cy="17280"/>
            </a:xfrm>
            <a:custGeom>
              <a:avLst/>
              <a:gdLst/>
              <a:ahLst/>
              <a:rect l="l" t="t" r="r" b="b"/>
              <a:pathLst>
                <a:path w="3621" h="99">
                  <a:moveTo>
                    <a:pt x="0" y="0"/>
                  </a:moveTo>
                  <a:lnTo>
                    <a:pt x="3621" y="71"/>
                  </a:lnTo>
                  <a:lnTo>
                    <a:pt x="3609" y="99"/>
                  </a:lnTo>
                  <a:lnTo>
                    <a:pt x="26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50800" y="3832920"/>
              <a:ext cx="23400" cy="25560"/>
            </a:xfrm>
            <a:custGeom>
              <a:avLst/>
              <a:gdLst/>
              <a:ahLst/>
              <a:rect l="l" t="t" r="r" b="b"/>
              <a:pathLst>
                <a:path w="137" h="144">
                  <a:moveTo>
                    <a:pt x="0" y="51"/>
                  </a:moveTo>
                  <a:lnTo>
                    <a:pt x="12" y="17"/>
                  </a:lnTo>
                  <a:lnTo>
                    <a:pt x="46" y="0"/>
                  </a:lnTo>
                  <a:lnTo>
                    <a:pt x="92" y="0"/>
                  </a:lnTo>
                  <a:lnTo>
                    <a:pt x="124" y="22"/>
                  </a:lnTo>
                  <a:lnTo>
                    <a:pt x="137" y="55"/>
                  </a:lnTo>
                  <a:lnTo>
                    <a:pt x="135" y="95"/>
                  </a:lnTo>
                  <a:lnTo>
                    <a:pt x="109" y="129"/>
                  </a:lnTo>
                  <a:lnTo>
                    <a:pt x="65" y="144"/>
                  </a:lnTo>
                  <a:lnTo>
                    <a:pt x="27" y="134"/>
                  </a:lnTo>
                  <a:lnTo>
                    <a:pt x="65" y="129"/>
                  </a:lnTo>
                  <a:lnTo>
                    <a:pt x="101" y="108"/>
                  </a:lnTo>
                  <a:lnTo>
                    <a:pt x="109" y="66"/>
                  </a:lnTo>
                  <a:lnTo>
                    <a:pt x="88" y="34"/>
                  </a:lnTo>
                  <a:lnTo>
                    <a:pt x="57" y="26"/>
                  </a:lnTo>
                  <a:lnTo>
                    <a:pt x="27" y="32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93280" y="3834720"/>
              <a:ext cx="23400" cy="25560"/>
            </a:xfrm>
            <a:custGeom>
              <a:avLst/>
              <a:gdLst/>
              <a:ahLst/>
              <a:rect l="l" t="t" r="r" b="b"/>
              <a:pathLst>
                <a:path w="138" h="144">
                  <a:moveTo>
                    <a:pt x="0" y="53"/>
                  </a:moveTo>
                  <a:lnTo>
                    <a:pt x="13" y="17"/>
                  </a:lnTo>
                  <a:lnTo>
                    <a:pt x="47" y="0"/>
                  </a:lnTo>
                  <a:lnTo>
                    <a:pt x="93" y="0"/>
                  </a:lnTo>
                  <a:lnTo>
                    <a:pt x="123" y="23"/>
                  </a:lnTo>
                  <a:lnTo>
                    <a:pt x="138" y="57"/>
                  </a:lnTo>
                  <a:lnTo>
                    <a:pt x="136" y="97"/>
                  </a:lnTo>
                  <a:lnTo>
                    <a:pt x="110" y="129"/>
                  </a:lnTo>
                  <a:lnTo>
                    <a:pt x="66" y="144"/>
                  </a:lnTo>
                  <a:lnTo>
                    <a:pt x="28" y="137"/>
                  </a:lnTo>
                  <a:lnTo>
                    <a:pt x="66" y="131"/>
                  </a:lnTo>
                  <a:lnTo>
                    <a:pt x="100" y="110"/>
                  </a:lnTo>
                  <a:lnTo>
                    <a:pt x="110" y="67"/>
                  </a:lnTo>
                  <a:lnTo>
                    <a:pt x="89" y="36"/>
                  </a:lnTo>
                  <a:lnTo>
                    <a:pt x="57" y="29"/>
                  </a:lnTo>
                  <a:lnTo>
                    <a:pt x="28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2240" y="3823560"/>
              <a:ext cx="129240" cy="17280"/>
            </a:xfrm>
            <a:custGeom>
              <a:avLst/>
              <a:gdLst/>
              <a:ahLst/>
              <a:rect l="l" t="t" r="r" b="b"/>
              <a:pathLst>
                <a:path w="757" h="97">
                  <a:moveTo>
                    <a:pt x="0" y="29"/>
                  </a:moveTo>
                  <a:lnTo>
                    <a:pt x="224" y="27"/>
                  </a:lnTo>
                  <a:lnTo>
                    <a:pt x="230" y="0"/>
                  </a:lnTo>
                  <a:lnTo>
                    <a:pt x="513" y="8"/>
                  </a:lnTo>
                  <a:lnTo>
                    <a:pt x="523" y="36"/>
                  </a:lnTo>
                  <a:lnTo>
                    <a:pt x="755" y="34"/>
                  </a:lnTo>
                  <a:lnTo>
                    <a:pt x="757" y="78"/>
                  </a:lnTo>
                  <a:lnTo>
                    <a:pt x="525" y="74"/>
                  </a:lnTo>
                  <a:lnTo>
                    <a:pt x="513" y="97"/>
                  </a:lnTo>
                  <a:lnTo>
                    <a:pt x="228" y="93"/>
                  </a:lnTo>
                  <a:lnTo>
                    <a:pt x="213" y="69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08040" y="3222000"/>
              <a:ext cx="491400" cy="433080"/>
            </a:xfrm>
            <a:custGeom>
              <a:avLst/>
              <a:gdLst/>
              <a:ahLst/>
              <a:rect l="l" t="t" r="r" b="b"/>
              <a:pathLst>
                <a:path w="2868" h="2414">
                  <a:moveTo>
                    <a:pt x="25" y="0"/>
                  </a:moveTo>
                  <a:lnTo>
                    <a:pt x="2824" y="31"/>
                  </a:lnTo>
                  <a:lnTo>
                    <a:pt x="2868" y="80"/>
                  </a:lnTo>
                  <a:lnTo>
                    <a:pt x="2859" y="2384"/>
                  </a:lnTo>
                  <a:lnTo>
                    <a:pt x="2819" y="2414"/>
                  </a:lnTo>
                  <a:lnTo>
                    <a:pt x="2834" y="105"/>
                  </a:lnTo>
                  <a:lnTo>
                    <a:pt x="2800" y="55"/>
                  </a:lnTo>
                  <a:lnTo>
                    <a:pt x="0" y="31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88480" y="3834000"/>
              <a:ext cx="204480" cy="27000"/>
            </a:xfrm>
            <a:custGeom>
              <a:avLst/>
              <a:gdLst/>
              <a:ahLst/>
              <a:rect l="l" t="t" r="r" b="b"/>
              <a:pathLst>
                <a:path w="1197" h="152">
                  <a:moveTo>
                    <a:pt x="0" y="0"/>
                  </a:moveTo>
                  <a:lnTo>
                    <a:pt x="0" y="133"/>
                  </a:lnTo>
                  <a:lnTo>
                    <a:pt x="1197" y="152"/>
                  </a:lnTo>
                  <a:lnTo>
                    <a:pt x="1195" y="19"/>
                  </a:lnTo>
                  <a:lnTo>
                    <a:pt x="1167" y="17"/>
                  </a:lnTo>
                  <a:lnTo>
                    <a:pt x="1161" y="120"/>
                  </a:lnTo>
                  <a:lnTo>
                    <a:pt x="32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177680" y="3818520"/>
              <a:ext cx="6120" cy="132480"/>
            </a:xfrm>
            <a:custGeom>
              <a:avLst/>
              <a:gdLst/>
              <a:ahLst/>
              <a:rect l="l" t="t" r="r" b="b"/>
              <a:pathLst>
                <a:path w="36" h="739">
                  <a:moveTo>
                    <a:pt x="5" y="0"/>
                  </a:moveTo>
                  <a:lnTo>
                    <a:pt x="0" y="739"/>
                  </a:lnTo>
                  <a:lnTo>
                    <a:pt x="21" y="732"/>
                  </a:lnTo>
                  <a:lnTo>
                    <a:pt x="36" y="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399080" y="3825720"/>
              <a:ext cx="4320" cy="129960"/>
            </a:xfrm>
            <a:custGeom>
              <a:avLst/>
              <a:gdLst/>
              <a:ahLst/>
              <a:rect l="l" t="t" r="r" b="b"/>
              <a:pathLst>
                <a:path w="27" h="724">
                  <a:moveTo>
                    <a:pt x="0" y="2"/>
                  </a:moveTo>
                  <a:lnTo>
                    <a:pt x="2" y="724"/>
                  </a:lnTo>
                  <a:lnTo>
                    <a:pt x="27" y="724"/>
                  </a:lnTo>
                  <a:lnTo>
                    <a:pt x="23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08440" y="3848040"/>
              <a:ext cx="23400" cy="25560"/>
            </a:xfrm>
            <a:custGeom>
              <a:avLst/>
              <a:gdLst/>
              <a:ahLst/>
              <a:rect l="l" t="t" r="r" b="b"/>
              <a:pathLst>
                <a:path w="137" h="145">
                  <a:moveTo>
                    <a:pt x="0" y="53"/>
                  </a:moveTo>
                  <a:lnTo>
                    <a:pt x="12" y="19"/>
                  </a:lnTo>
                  <a:lnTo>
                    <a:pt x="46" y="0"/>
                  </a:lnTo>
                  <a:lnTo>
                    <a:pt x="92" y="0"/>
                  </a:lnTo>
                  <a:lnTo>
                    <a:pt x="122" y="23"/>
                  </a:lnTo>
                  <a:lnTo>
                    <a:pt x="137" y="57"/>
                  </a:lnTo>
                  <a:lnTo>
                    <a:pt x="135" y="97"/>
                  </a:lnTo>
                  <a:lnTo>
                    <a:pt x="109" y="129"/>
                  </a:lnTo>
                  <a:lnTo>
                    <a:pt x="65" y="145"/>
                  </a:lnTo>
                  <a:lnTo>
                    <a:pt x="27" y="137"/>
                  </a:lnTo>
                  <a:lnTo>
                    <a:pt x="65" y="131"/>
                  </a:lnTo>
                  <a:lnTo>
                    <a:pt x="101" y="110"/>
                  </a:lnTo>
                  <a:lnTo>
                    <a:pt x="109" y="67"/>
                  </a:lnTo>
                  <a:lnTo>
                    <a:pt x="88" y="36"/>
                  </a:lnTo>
                  <a:lnTo>
                    <a:pt x="57" y="29"/>
                  </a:lnTo>
                  <a:lnTo>
                    <a:pt x="27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20320" y="3961440"/>
              <a:ext cx="432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45840" y="3272040"/>
              <a:ext cx="401400" cy="313560"/>
            </a:xfrm>
            <a:custGeom>
              <a:avLst/>
              <a:gdLst/>
              <a:ahLst/>
              <a:rect l="l" t="t" r="r" b="b"/>
              <a:pathLst>
                <a:path w="2347" h="1747">
                  <a:moveTo>
                    <a:pt x="0" y="0"/>
                  </a:moveTo>
                  <a:lnTo>
                    <a:pt x="47" y="111"/>
                  </a:lnTo>
                  <a:lnTo>
                    <a:pt x="36" y="1150"/>
                  </a:lnTo>
                  <a:lnTo>
                    <a:pt x="39" y="1747"/>
                  </a:lnTo>
                  <a:lnTo>
                    <a:pt x="153" y="1709"/>
                  </a:lnTo>
                  <a:lnTo>
                    <a:pt x="174" y="139"/>
                  </a:lnTo>
                  <a:lnTo>
                    <a:pt x="914" y="124"/>
                  </a:lnTo>
                  <a:lnTo>
                    <a:pt x="2280" y="158"/>
                  </a:lnTo>
                  <a:lnTo>
                    <a:pt x="2347" y="107"/>
                  </a:lnTo>
                  <a:lnTo>
                    <a:pt x="1762" y="92"/>
                  </a:lnTo>
                  <a:lnTo>
                    <a:pt x="752" y="67"/>
                  </a:lnTo>
                  <a:lnTo>
                    <a:pt x="102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53760" y="3290760"/>
              <a:ext cx="392400" cy="316440"/>
            </a:xfrm>
            <a:custGeom>
              <a:avLst/>
              <a:gdLst/>
              <a:ahLst/>
              <a:rect l="l" t="t" r="r" b="b"/>
              <a:pathLst>
                <a:path w="2292" h="1764">
                  <a:moveTo>
                    <a:pt x="0" y="1650"/>
                  </a:moveTo>
                  <a:lnTo>
                    <a:pt x="859" y="1696"/>
                  </a:lnTo>
                  <a:lnTo>
                    <a:pt x="2173" y="1713"/>
                  </a:lnTo>
                  <a:lnTo>
                    <a:pt x="2289" y="1764"/>
                  </a:lnTo>
                  <a:lnTo>
                    <a:pt x="2277" y="1696"/>
                  </a:lnTo>
                  <a:lnTo>
                    <a:pt x="2292" y="0"/>
                  </a:lnTo>
                  <a:lnTo>
                    <a:pt x="2197" y="36"/>
                  </a:lnTo>
                  <a:lnTo>
                    <a:pt x="2190" y="1618"/>
                  </a:lnTo>
                  <a:lnTo>
                    <a:pt x="1410" y="1641"/>
                  </a:lnTo>
                  <a:lnTo>
                    <a:pt x="449" y="1610"/>
                  </a:lnTo>
                  <a:lnTo>
                    <a:pt x="72" y="1593"/>
                  </a:lnTo>
                  <a:lnTo>
                    <a:pt x="0" y="1650"/>
                  </a:lnTo>
                  <a:lnTo>
                    <a:pt x="0" y="16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08080" y="3961440"/>
              <a:ext cx="4320" cy="12240"/>
            </a:xfrm>
            <a:custGeom>
              <a:avLst/>
              <a:gdLst/>
              <a:ahLst/>
              <a:rect l="l" t="t" r="r" b="b"/>
              <a:pathLst>
                <a:path w="24" h="70">
                  <a:moveTo>
                    <a:pt x="0" y="0"/>
                  </a:moveTo>
                  <a:lnTo>
                    <a:pt x="1" y="70"/>
                  </a:lnTo>
                  <a:lnTo>
                    <a:pt x="24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95480" y="396108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83240" y="396072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71000" y="39603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" y="73"/>
                  </a:lnTo>
                  <a:lnTo>
                    <a:pt x="25" y="73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59120" y="3960000"/>
              <a:ext cx="360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0" y="72"/>
                  </a:lnTo>
                  <a:lnTo>
                    <a:pt x="23" y="72"/>
                  </a:lnTo>
                  <a:lnTo>
                    <a:pt x="2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46880" y="396000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34280" y="395964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21680" y="395928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309440" y="3958920"/>
              <a:ext cx="3960" cy="1296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0"/>
                  </a:moveTo>
                  <a:lnTo>
                    <a:pt x="1" y="72"/>
                  </a:lnTo>
                  <a:lnTo>
                    <a:pt x="22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297200" y="3958920"/>
              <a:ext cx="432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84600" y="39585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272360" y="39585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" y="72"/>
                  </a:lnTo>
                  <a:lnTo>
                    <a:pt x="25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60120" y="395820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48240" y="395820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35640" y="395820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0"/>
                  </a:moveTo>
                  <a:lnTo>
                    <a:pt x="2" y="71"/>
                  </a:lnTo>
                  <a:lnTo>
                    <a:pt x="23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23040" y="395748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0" y="0"/>
                  </a:moveTo>
                  <a:lnTo>
                    <a:pt x="2" y="73"/>
                  </a:lnTo>
                  <a:lnTo>
                    <a:pt x="23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10800" y="395712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3">
                  <a:moveTo>
                    <a:pt x="0" y="0"/>
                  </a:moveTo>
                  <a:lnTo>
                    <a:pt x="2" y="73"/>
                  </a:lnTo>
                  <a:lnTo>
                    <a:pt x="22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98560" y="3957120"/>
              <a:ext cx="3960" cy="1224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0"/>
                  </a:moveTo>
                  <a:lnTo>
                    <a:pt x="2" y="71"/>
                  </a:lnTo>
                  <a:lnTo>
                    <a:pt x="23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185960" y="39567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73720" y="395640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1480" y="395604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49240" y="395568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1" y="72"/>
                  </a:lnTo>
                  <a:lnTo>
                    <a:pt x="24" y="72"/>
                  </a:lnTo>
                  <a:lnTo>
                    <a:pt x="2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37000" y="395568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24400" y="3955320"/>
              <a:ext cx="396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12160" y="395496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99920" y="395460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7320" y="395460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75080" y="39542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62840" y="395388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" y="73"/>
                  </a:lnTo>
                  <a:lnTo>
                    <a:pt x="25" y="73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50600" y="395388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0"/>
                  </a:moveTo>
                  <a:lnTo>
                    <a:pt x="1" y="73"/>
                  </a:lnTo>
                  <a:lnTo>
                    <a:pt x="24" y="73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38360" y="39538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4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26120" y="3953160"/>
              <a:ext cx="3600" cy="1260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13520" y="395280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01280" y="395244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0"/>
                  </a:moveTo>
                  <a:lnTo>
                    <a:pt x="1" y="72"/>
                  </a:lnTo>
                  <a:lnTo>
                    <a:pt x="22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89040" y="3952080"/>
              <a:ext cx="3960" cy="1296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76440" y="395208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964200" y="395208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51960" y="395208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39720" y="39513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4" y="72"/>
                  </a:lnTo>
                  <a:lnTo>
                    <a:pt x="25" y="72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27120" y="395136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4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914880" y="395136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902640" y="395064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3">
                  <a:moveTo>
                    <a:pt x="0" y="0"/>
                  </a:moveTo>
                  <a:lnTo>
                    <a:pt x="2" y="73"/>
                  </a:lnTo>
                  <a:lnTo>
                    <a:pt x="22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90400" y="395028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0" y="0"/>
                  </a:moveTo>
                  <a:lnTo>
                    <a:pt x="2" y="73"/>
                  </a:lnTo>
                  <a:lnTo>
                    <a:pt x="23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77800" y="39502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65560" y="39502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53320" y="394956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41080" y="39495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" y="72"/>
                  </a:lnTo>
                  <a:lnTo>
                    <a:pt x="25" y="72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21640" y="3831480"/>
              <a:ext cx="627480" cy="144000"/>
            </a:xfrm>
            <a:custGeom>
              <a:avLst/>
              <a:gdLst/>
              <a:ahLst/>
              <a:rect l="l" t="t" r="r" b="b"/>
              <a:pathLst>
                <a:path w="3667" h="802">
                  <a:moveTo>
                    <a:pt x="0" y="616"/>
                  </a:moveTo>
                  <a:lnTo>
                    <a:pt x="3635" y="675"/>
                  </a:lnTo>
                  <a:lnTo>
                    <a:pt x="3616" y="0"/>
                  </a:lnTo>
                  <a:lnTo>
                    <a:pt x="3642" y="15"/>
                  </a:lnTo>
                  <a:lnTo>
                    <a:pt x="3667" y="802"/>
                  </a:lnTo>
                  <a:lnTo>
                    <a:pt x="3623" y="703"/>
                  </a:lnTo>
                  <a:lnTo>
                    <a:pt x="80" y="644"/>
                  </a:lnTo>
                  <a:lnTo>
                    <a:pt x="0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80400" y="3301560"/>
              <a:ext cx="340200" cy="271080"/>
            </a:xfrm>
            <a:custGeom>
              <a:avLst/>
              <a:gdLst/>
              <a:ahLst/>
              <a:rect l="l" t="t" r="r" b="b"/>
              <a:pathLst>
                <a:path w="1988" h="1509">
                  <a:moveTo>
                    <a:pt x="0" y="0"/>
                  </a:moveTo>
                  <a:lnTo>
                    <a:pt x="1988" y="28"/>
                  </a:lnTo>
                  <a:lnTo>
                    <a:pt x="1988" y="1509"/>
                  </a:lnTo>
                  <a:lnTo>
                    <a:pt x="21" y="14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89560" y="3827880"/>
              <a:ext cx="203040" cy="10440"/>
            </a:xfrm>
            <a:custGeom>
              <a:avLst/>
              <a:gdLst/>
              <a:ahLst/>
              <a:rect l="l" t="t" r="r" b="b"/>
              <a:pathLst>
                <a:path w="1186" h="59">
                  <a:moveTo>
                    <a:pt x="0" y="30"/>
                  </a:moveTo>
                  <a:lnTo>
                    <a:pt x="1186" y="59"/>
                  </a:lnTo>
                  <a:lnTo>
                    <a:pt x="1186" y="38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53720" y="3671280"/>
              <a:ext cx="32040" cy="31320"/>
            </a:xfrm>
            <a:custGeom>
              <a:avLst/>
              <a:gdLst/>
              <a:ahLst/>
              <a:rect l="l" t="t" r="r" b="b"/>
              <a:pathLst>
                <a:path w="188" h="175">
                  <a:moveTo>
                    <a:pt x="36" y="38"/>
                  </a:moveTo>
                  <a:lnTo>
                    <a:pt x="0" y="175"/>
                  </a:lnTo>
                  <a:lnTo>
                    <a:pt x="116" y="175"/>
                  </a:lnTo>
                  <a:lnTo>
                    <a:pt x="188" y="0"/>
                  </a:lnTo>
                  <a:lnTo>
                    <a:pt x="36" y="38"/>
                  </a:lnTo>
                  <a:lnTo>
                    <a:pt x="3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415280" y="2904480"/>
            <a:ext cx="676080" cy="773280"/>
            <a:chOff x="7415280" y="2904480"/>
            <a:chExt cx="676080" cy="773280"/>
          </a:xfrm>
        </p:grpSpPr>
        <p:sp>
          <p:nvSpPr>
            <p:cNvPr id="276" name=""/>
            <p:cNvSpPr/>
            <p:nvPr/>
          </p:nvSpPr>
          <p:spPr>
            <a:xfrm>
              <a:off x="7415280" y="3458160"/>
              <a:ext cx="673920" cy="203040"/>
            </a:xfrm>
            <a:custGeom>
              <a:avLst/>
              <a:gdLst/>
              <a:ahLst/>
              <a:rect l="l" t="t" r="r" b="b"/>
              <a:pathLst>
                <a:path w="3937" h="1133">
                  <a:moveTo>
                    <a:pt x="644" y="0"/>
                  </a:moveTo>
                  <a:lnTo>
                    <a:pt x="0" y="247"/>
                  </a:lnTo>
                  <a:lnTo>
                    <a:pt x="29" y="1030"/>
                  </a:lnTo>
                  <a:lnTo>
                    <a:pt x="3764" y="1133"/>
                  </a:lnTo>
                  <a:lnTo>
                    <a:pt x="3937" y="821"/>
                  </a:lnTo>
                  <a:lnTo>
                    <a:pt x="3908" y="7"/>
                  </a:lnTo>
                  <a:lnTo>
                    <a:pt x="2443" y="0"/>
                  </a:lnTo>
                  <a:lnTo>
                    <a:pt x="644" y="0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99880" y="2905560"/>
              <a:ext cx="533880" cy="479880"/>
            </a:xfrm>
            <a:custGeom>
              <a:avLst/>
              <a:gdLst/>
              <a:ahLst/>
              <a:rect l="l" t="t" r="r" b="b"/>
              <a:pathLst>
                <a:path w="3120" h="2672">
                  <a:moveTo>
                    <a:pt x="101" y="0"/>
                  </a:moveTo>
                  <a:lnTo>
                    <a:pt x="3068" y="28"/>
                  </a:lnTo>
                  <a:lnTo>
                    <a:pt x="3120" y="72"/>
                  </a:lnTo>
                  <a:lnTo>
                    <a:pt x="3097" y="2425"/>
                  </a:lnTo>
                  <a:lnTo>
                    <a:pt x="2916" y="2556"/>
                  </a:lnTo>
                  <a:lnTo>
                    <a:pt x="2800" y="2672"/>
                  </a:lnTo>
                  <a:lnTo>
                    <a:pt x="196" y="2549"/>
                  </a:lnTo>
                  <a:lnTo>
                    <a:pt x="0" y="2410"/>
                  </a:lnTo>
                  <a:lnTo>
                    <a:pt x="29" y="108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30480" y="3352320"/>
              <a:ext cx="458280" cy="52200"/>
            </a:xfrm>
            <a:custGeom>
              <a:avLst/>
              <a:gdLst/>
              <a:ahLst/>
              <a:rect l="l" t="t" r="r" b="b"/>
              <a:pathLst>
                <a:path w="2676" h="290">
                  <a:moveTo>
                    <a:pt x="0" y="0"/>
                  </a:moveTo>
                  <a:lnTo>
                    <a:pt x="0" y="203"/>
                  </a:lnTo>
                  <a:lnTo>
                    <a:pt x="2480" y="290"/>
                  </a:lnTo>
                  <a:lnTo>
                    <a:pt x="2676" y="9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788240" y="3513600"/>
              <a:ext cx="10080" cy="134280"/>
            </a:xfrm>
            <a:custGeom>
              <a:avLst/>
              <a:gdLst/>
              <a:ahLst/>
              <a:rect l="l" t="t" r="r" b="b"/>
              <a:pathLst>
                <a:path w="59" h="751">
                  <a:moveTo>
                    <a:pt x="59" y="4"/>
                  </a:moveTo>
                  <a:lnTo>
                    <a:pt x="40" y="739"/>
                  </a:lnTo>
                  <a:lnTo>
                    <a:pt x="0" y="751"/>
                  </a:lnTo>
                  <a:lnTo>
                    <a:pt x="8" y="0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26800" y="3497760"/>
              <a:ext cx="632160" cy="172440"/>
            </a:xfrm>
            <a:custGeom>
              <a:avLst/>
              <a:gdLst/>
              <a:ahLst/>
              <a:rect l="l" t="t" r="r" b="b"/>
              <a:pathLst>
                <a:path w="3691" h="962">
                  <a:moveTo>
                    <a:pt x="59" y="0"/>
                  </a:moveTo>
                  <a:lnTo>
                    <a:pt x="89" y="48"/>
                  </a:lnTo>
                  <a:lnTo>
                    <a:pt x="74" y="407"/>
                  </a:lnTo>
                  <a:lnTo>
                    <a:pt x="2109" y="451"/>
                  </a:lnTo>
                  <a:lnTo>
                    <a:pt x="3607" y="491"/>
                  </a:lnTo>
                  <a:lnTo>
                    <a:pt x="3643" y="531"/>
                  </a:lnTo>
                  <a:lnTo>
                    <a:pt x="66" y="458"/>
                  </a:lnTo>
                  <a:lnTo>
                    <a:pt x="55" y="763"/>
                  </a:lnTo>
                  <a:lnTo>
                    <a:pt x="2113" y="791"/>
                  </a:lnTo>
                  <a:lnTo>
                    <a:pt x="3681" y="816"/>
                  </a:lnTo>
                  <a:lnTo>
                    <a:pt x="3691" y="962"/>
                  </a:lnTo>
                  <a:lnTo>
                    <a:pt x="1203" y="930"/>
                  </a:lnTo>
                  <a:lnTo>
                    <a:pt x="49" y="901"/>
                  </a:lnTo>
                  <a:lnTo>
                    <a:pt x="3" y="861"/>
                  </a:lnTo>
                  <a:lnTo>
                    <a:pt x="0" y="82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27320" y="3512520"/>
              <a:ext cx="151920" cy="41760"/>
            </a:xfrm>
            <a:custGeom>
              <a:avLst/>
              <a:gdLst/>
              <a:ahLst/>
              <a:rect l="l" t="t" r="r" b="b"/>
              <a:pathLst>
                <a:path w="887" h="234">
                  <a:moveTo>
                    <a:pt x="0" y="2"/>
                  </a:moveTo>
                  <a:lnTo>
                    <a:pt x="0" y="222"/>
                  </a:lnTo>
                  <a:lnTo>
                    <a:pt x="887" y="234"/>
                  </a:lnTo>
                  <a:lnTo>
                    <a:pt x="876" y="131"/>
                  </a:lnTo>
                  <a:lnTo>
                    <a:pt x="621" y="131"/>
                  </a:lnTo>
                  <a:lnTo>
                    <a:pt x="598" y="160"/>
                  </a:lnTo>
                  <a:lnTo>
                    <a:pt x="292" y="156"/>
                  </a:lnTo>
                  <a:lnTo>
                    <a:pt x="273" y="127"/>
                  </a:lnTo>
                  <a:lnTo>
                    <a:pt x="68" y="131"/>
                  </a:lnTo>
                  <a:lnTo>
                    <a:pt x="6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99040" y="3541680"/>
              <a:ext cx="200520" cy="10800"/>
            </a:xfrm>
            <a:custGeom>
              <a:avLst/>
              <a:gdLst/>
              <a:ahLst/>
              <a:rect l="l" t="t" r="r" b="b"/>
              <a:pathLst>
                <a:path w="1173" h="62">
                  <a:moveTo>
                    <a:pt x="0" y="0"/>
                  </a:moveTo>
                  <a:lnTo>
                    <a:pt x="1173" y="15"/>
                  </a:lnTo>
                  <a:lnTo>
                    <a:pt x="1173" y="62"/>
                  </a:lnTo>
                  <a:lnTo>
                    <a:pt x="2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434360" y="3453120"/>
              <a:ext cx="645840" cy="57960"/>
            </a:xfrm>
            <a:custGeom>
              <a:avLst/>
              <a:gdLst/>
              <a:ahLst/>
              <a:rect l="l" t="t" r="r" b="b"/>
              <a:pathLst>
                <a:path w="3771" h="325">
                  <a:moveTo>
                    <a:pt x="0" y="240"/>
                  </a:moveTo>
                  <a:lnTo>
                    <a:pt x="899" y="261"/>
                  </a:lnTo>
                  <a:lnTo>
                    <a:pt x="1046" y="124"/>
                  </a:lnTo>
                  <a:lnTo>
                    <a:pt x="1738" y="101"/>
                  </a:lnTo>
                  <a:lnTo>
                    <a:pt x="2785" y="181"/>
                  </a:lnTo>
                  <a:lnTo>
                    <a:pt x="2981" y="80"/>
                  </a:lnTo>
                  <a:lnTo>
                    <a:pt x="2988" y="137"/>
                  </a:lnTo>
                  <a:lnTo>
                    <a:pt x="2851" y="312"/>
                  </a:lnTo>
                  <a:lnTo>
                    <a:pt x="3604" y="325"/>
                  </a:lnTo>
                  <a:lnTo>
                    <a:pt x="3771" y="44"/>
                  </a:lnTo>
                  <a:lnTo>
                    <a:pt x="2597" y="29"/>
                  </a:lnTo>
                  <a:lnTo>
                    <a:pt x="1262" y="0"/>
                  </a:lnTo>
                  <a:lnTo>
                    <a:pt x="531" y="14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95000" y="3425400"/>
              <a:ext cx="153720" cy="33840"/>
            </a:xfrm>
            <a:custGeom>
              <a:avLst/>
              <a:gdLst/>
              <a:ahLst/>
              <a:rect l="l" t="t" r="r" b="b"/>
              <a:pathLst>
                <a:path w="899" h="190">
                  <a:moveTo>
                    <a:pt x="15" y="0"/>
                  </a:moveTo>
                  <a:lnTo>
                    <a:pt x="0" y="190"/>
                  </a:lnTo>
                  <a:lnTo>
                    <a:pt x="886" y="190"/>
                  </a:lnTo>
                  <a:lnTo>
                    <a:pt x="899" y="1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95000" y="3430800"/>
              <a:ext cx="19800" cy="30600"/>
            </a:xfrm>
            <a:custGeom>
              <a:avLst/>
              <a:gdLst/>
              <a:ahLst/>
              <a:rect l="l" t="t" r="r" b="b"/>
              <a:pathLst>
                <a:path w="116" h="173">
                  <a:moveTo>
                    <a:pt x="116" y="13"/>
                  </a:moveTo>
                  <a:lnTo>
                    <a:pt x="80" y="173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116" y="13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93280" y="3427920"/>
              <a:ext cx="43200" cy="34920"/>
            </a:xfrm>
            <a:custGeom>
              <a:avLst/>
              <a:gdLst/>
              <a:ahLst/>
              <a:rect l="l" t="t" r="r" b="b"/>
              <a:pathLst>
                <a:path w="253" h="195">
                  <a:moveTo>
                    <a:pt x="0" y="0"/>
                  </a:moveTo>
                  <a:lnTo>
                    <a:pt x="72" y="195"/>
                  </a:lnTo>
                  <a:lnTo>
                    <a:pt x="232" y="182"/>
                  </a:lnTo>
                  <a:lnTo>
                    <a:pt x="253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567200" y="3489480"/>
              <a:ext cx="384840" cy="21600"/>
            </a:xfrm>
            <a:custGeom>
              <a:avLst/>
              <a:gdLst/>
              <a:ahLst/>
              <a:rect l="l" t="t" r="r" b="b"/>
              <a:pathLst>
                <a:path w="2248" h="121">
                  <a:moveTo>
                    <a:pt x="0" y="57"/>
                  </a:moveTo>
                  <a:lnTo>
                    <a:pt x="2248" y="121"/>
                  </a:lnTo>
                  <a:lnTo>
                    <a:pt x="2161" y="57"/>
                  </a:lnTo>
                  <a:lnTo>
                    <a:pt x="66" y="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54280" y="3467520"/>
              <a:ext cx="32040" cy="204120"/>
            </a:xfrm>
            <a:custGeom>
              <a:avLst/>
              <a:gdLst/>
              <a:ahLst/>
              <a:rect l="l" t="t" r="r" b="b"/>
              <a:pathLst>
                <a:path w="189" h="1139">
                  <a:moveTo>
                    <a:pt x="189" y="0"/>
                  </a:moveTo>
                  <a:lnTo>
                    <a:pt x="0" y="327"/>
                  </a:lnTo>
                  <a:lnTo>
                    <a:pt x="21" y="1139"/>
                  </a:lnTo>
                  <a:lnTo>
                    <a:pt x="189" y="783"/>
                  </a:lnTo>
                  <a:lnTo>
                    <a:pt x="189" y="0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2880" y="2918160"/>
              <a:ext cx="18360" cy="440640"/>
            </a:xfrm>
            <a:custGeom>
              <a:avLst/>
              <a:gdLst/>
              <a:ahLst/>
              <a:rect l="l" t="t" r="r" b="b"/>
              <a:pathLst>
                <a:path w="108" h="2456">
                  <a:moveTo>
                    <a:pt x="108" y="0"/>
                  </a:moveTo>
                  <a:lnTo>
                    <a:pt x="8" y="66"/>
                  </a:lnTo>
                  <a:lnTo>
                    <a:pt x="0" y="2456"/>
                  </a:lnTo>
                  <a:lnTo>
                    <a:pt x="108" y="2302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99880" y="2918160"/>
              <a:ext cx="453240" cy="428760"/>
            </a:xfrm>
            <a:custGeom>
              <a:avLst/>
              <a:gdLst/>
              <a:ahLst/>
              <a:rect l="l" t="t" r="r" b="b"/>
              <a:pathLst>
                <a:path w="2648" h="2389">
                  <a:moveTo>
                    <a:pt x="31" y="66"/>
                  </a:moveTo>
                  <a:lnTo>
                    <a:pt x="124" y="0"/>
                  </a:lnTo>
                  <a:lnTo>
                    <a:pt x="2597" y="36"/>
                  </a:lnTo>
                  <a:lnTo>
                    <a:pt x="1713" y="87"/>
                  </a:lnTo>
                  <a:lnTo>
                    <a:pt x="2597" y="139"/>
                  </a:lnTo>
                  <a:lnTo>
                    <a:pt x="1705" y="159"/>
                  </a:lnTo>
                  <a:lnTo>
                    <a:pt x="2604" y="234"/>
                  </a:lnTo>
                  <a:lnTo>
                    <a:pt x="1713" y="234"/>
                  </a:lnTo>
                  <a:lnTo>
                    <a:pt x="2597" y="306"/>
                  </a:lnTo>
                  <a:lnTo>
                    <a:pt x="299" y="291"/>
                  </a:lnTo>
                  <a:lnTo>
                    <a:pt x="291" y="2098"/>
                  </a:lnTo>
                  <a:lnTo>
                    <a:pt x="1682" y="2142"/>
                  </a:lnTo>
                  <a:lnTo>
                    <a:pt x="2648" y="2165"/>
                  </a:lnTo>
                  <a:lnTo>
                    <a:pt x="1785" y="2229"/>
                  </a:lnTo>
                  <a:lnTo>
                    <a:pt x="2648" y="2252"/>
                  </a:lnTo>
                  <a:lnTo>
                    <a:pt x="1893" y="2296"/>
                  </a:lnTo>
                  <a:lnTo>
                    <a:pt x="2648" y="2353"/>
                  </a:lnTo>
                  <a:lnTo>
                    <a:pt x="2118" y="2389"/>
                  </a:lnTo>
                  <a:lnTo>
                    <a:pt x="0" y="2345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68640" y="2986560"/>
              <a:ext cx="378720" cy="306000"/>
            </a:xfrm>
            <a:custGeom>
              <a:avLst/>
              <a:gdLst/>
              <a:ahLst/>
              <a:rect l="l" t="t" r="r" b="b"/>
              <a:pathLst>
                <a:path w="2213" h="1707">
                  <a:moveTo>
                    <a:pt x="16" y="0"/>
                  </a:moveTo>
                  <a:lnTo>
                    <a:pt x="2213" y="15"/>
                  </a:lnTo>
                  <a:lnTo>
                    <a:pt x="2190" y="1707"/>
                  </a:lnTo>
                  <a:lnTo>
                    <a:pt x="0" y="162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13920" y="2905200"/>
              <a:ext cx="520920" cy="469440"/>
            </a:xfrm>
            <a:custGeom>
              <a:avLst/>
              <a:gdLst/>
              <a:ahLst/>
              <a:rect l="l" t="t" r="r" b="b"/>
              <a:pathLst>
                <a:path w="3043" h="2615">
                  <a:moveTo>
                    <a:pt x="19" y="21"/>
                  </a:moveTo>
                  <a:lnTo>
                    <a:pt x="2950" y="59"/>
                  </a:lnTo>
                  <a:lnTo>
                    <a:pt x="3007" y="100"/>
                  </a:lnTo>
                  <a:lnTo>
                    <a:pt x="2998" y="2406"/>
                  </a:lnTo>
                  <a:lnTo>
                    <a:pt x="2935" y="2488"/>
                  </a:lnTo>
                  <a:lnTo>
                    <a:pt x="2802" y="2545"/>
                  </a:lnTo>
                  <a:lnTo>
                    <a:pt x="0" y="2478"/>
                  </a:lnTo>
                  <a:lnTo>
                    <a:pt x="108" y="2545"/>
                  </a:lnTo>
                  <a:lnTo>
                    <a:pt x="2762" y="2615"/>
                  </a:lnTo>
                  <a:lnTo>
                    <a:pt x="2922" y="2566"/>
                  </a:lnTo>
                  <a:lnTo>
                    <a:pt x="3017" y="2431"/>
                  </a:lnTo>
                  <a:lnTo>
                    <a:pt x="3043" y="2324"/>
                  </a:lnTo>
                  <a:lnTo>
                    <a:pt x="3043" y="85"/>
                  </a:lnTo>
                  <a:lnTo>
                    <a:pt x="2980" y="13"/>
                  </a:lnTo>
                  <a:lnTo>
                    <a:pt x="34" y="0"/>
                  </a:lnTo>
                  <a:lnTo>
                    <a:pt x="19" y="21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497720" y="2904480"/>
              <a:ext cx="498960" cy="450000"/>
            </a:xfrm>
            <a:custGeom>
              <a:avLst/>
              <a:gdLst/>
              <a:ahLst/>
              <a:rect l="l" t="t" r="r" b="b"/>
              <a:pathLst>
                <a:path w="2918" h="2507">
                  <a:moveTo>
                    <a:pt x="145" y="4"/>
                  </a:moveTo>
                  <a:lnTo>
                    <a:pt x="67" y="118"/>
                  </a:lnTo>
                  <a:lnTo>
                    <a:pt x="42" y="2397"/>
                  </a:lnTo>
                  <a:lnTo>
                    <a:pt x="97" y="2418"/>
                  </a:lnTo>
                  <a:lnTo>
                    <a:pt x="2918" y="2482"/>
                  </a:lnTo>
                  <a:lnTo>
                    <a:pt x="2789" y="2507"/>
                  </a:lnTo>
                  <a:lnTo>
                    <a:pt x="46" y="2444"/>
                  </a:lnTo>
                  <a:lnTo>
                    <a:pt x="0" y="2414"/>
                  </a:lnTo>
                  <a:lnTo>
                    <a:pt x="31" y="108"/>
                  </a:lnTo>
                  <a:lnTo>
                    <a:pt x="126" y="0"/>
                  </a:lnTo>
                  <a:lnTo>
                    <a:pt x="145" y="4"/>
                  </a:lnTo>
                  <a:lnTo>
                    <a:pt x="14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66760" y="3358080"/>
              <a:ext cx="513720" cy="126360"/>
            </a:xfrm>
            <a:custGeom>
              <a:avLst/>
              <a:gdLst/>
              <a:ahLst/>
              <a:rect l="l" t="t" r="r" b="b"/>
              <a:pathLst>
                <a:path w="3000" h="705">
                  <a:moveTo>
                    <a:pt x="375" y="0"/>
                  </a:moveTo>
                  <a:lnTo>
                    <a:pt x="375" y="217"/>
                  </a:lnTo>
                  <a:lnTo>
                    <a:pt x="765" y="238"/>
                  </a:lnTo>
                  <a:lnTo>
                    <a:pt x="770" y="386"/>
                  </a:lnTo>
                  <a:lnTo>
                    <a:pt x="1304" y="401"/>
                  </a:lnTo>
                  <a:lnTo>
                    <a:pt x="1310" y="521"/>
                  </a:lnTo>
                  <a:lnTo>
                    <a:pt x="339" y="504"/>
                  </a:lnTo>
                  <a:lnTo>
                    <a:pt x="0" y="680"/>
                  </a:lnTo>
                  <a:lnTo>
                    <a:pt x="647" y="690"/>
                  </a:lnTo>
                  <a:lnTo>
                    <a:pt x="755" y="705"/>
                  </a:lnTo>
                  <a:lnTo>
                    <a:pt x="806" y="597"/>
                  </a:lnTo>
                  <a:lnTo>
                    <a:pt x="1561" y="602"/>
                  </a:lnTo>
                  <a:lnTo>
                    <a:pt x="1747" y="561"/>
                  </a:lnTo>
                  <a:lnTo>
                    <a:pt x="1371" y="536"/>
                  </a:lnTo>
                  <a:lnTo>
                    <a:pt x="1377" y="452"/>
                  </a:lnTo>
                  <a:lnTo>
                    <a:pt x="1645" y="431"/>
                  </a:lnTo>
                  <a:lnTo>
                    <a:pt x="2034" y="449"/>
                  </a:lnTo>
                  <a:lnTo>
                    <a:pt x="2095" y="492"/>
                  </a:lnTo>
                  <a:lnTo>
                    <a:pt x="2044" y="542"/>
                  </a:lnTo>
                  <a:lnTo>
                    <a:pt x="1859" y="587"/>
                  </a:lnTo>
                  <a:lnTo>
                    <a:pt x="2059" y="621"/>
                  </a:lnTo>
                  <a:lnTo>
                    <a:pt x="2610" y="648"/>
                  </a:lnTo>
                  <a:lnTo>
                    <a:pt x="2745" y="585"/>
                  </a:lnTo>
                  <a:lnTo>
                    <a:pt x="2291" y="536"/>
                  </a:lnTo>
                  <a:lnTo>
                    <a:pt x="2291" y="458"/>
                  </a:lnTo>
                  <a:lnTo>
                    <a:pt x="2682" y="452"/>
                  </a:lnTo>
                  <a:lnTo>
                    <a:pt x="2728" y="319"/>
                  </a:lnTo>
                  <a:lnTo>
                    <a:pt x="3000" y="217"/>
                  </a:lnTo>
                  <a:lnTo>
                    <a:pt x="420" y="139"/>
                  </a:lnTo>
                  <a:lnTo>
                    <a:pt x="375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91320" y="3472920"/>
              <a:ext cx="358920" cy="29880"/>
            </a:xfrm>
            <a:custGeom>
              <a:avLst/>
              <a:gdLst/>
              <a:ahLst/>
              <a:rect l="l" t="t" r="r" b="b"/>
              <a:pathLst>
                <a:path w="2097" h="169">
                  <a:moveTo>
                    <a:pt x="42" y="76"/>
                  </a:moveTo>
                  <a:lnTo>
                    <a:pt x="1943" y="138"/>
                  </a:lnTo>
                  <a:lnTo>
                    <a:pt x="2087" y="0"/>
                  </a:lnTo>
                  <a:lnTo>
                    <a:pt x="2097" y="36"/>
                  </a:lnTo>
                  <a:lnTo>
                    <a:pt x="1970" y="169"/>
                  </a:lnTo>
                  <a:lnTo>
                    <a:pt x="0" y="112"/>
                  </a:lnTo>
                  <a:lnTo>
                    <a:pt x="42" y="76"/>
                  </a:lnTo>
                  <a:lnTo>
                    <a:pt x="4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430760" y="3448800"/>
              <a:ext cx="660600" cy="228960"/>
            </a:xfrm>
            <a:custGeom>
              <a:avLst/>
              <a:gdLst/>
              <a:ahLst/>
              <a:rect l="l" t="t" r="r" b="b"/>
              <a:pathLst>
                <a:path w="3859" h="1275">
                  <a:moveTo>
                    <a:pt x="0" y="1151"/>
                  </a:moveTo>
                  <a:lnTo>
                    <a:pt x="3648" y="1224"/>
                  </a:lnTo>
                  <a:lnTo>
                    <a:pt x="3808" y="868"/>
                  </a:lnTo>
                  <a:lnTo>
                    <a:pt x="3808" y="91"/>
                  </a:lnTo>
                  <a:lnTo>
                    <a:pt x="3000" y="72"/>
                  </a:lnTo>
                  <a:lnTo>
                    <a:pt x="2557" y="0"/>
                  </a:lnTo>
                  <a:lnTo>
                    <a:pt x="3848" y="39"/>
                  </a:lnTo>
                  <a:lnTo>
                    <a:pt x="3859" y="901"/>
                  </a:lnTo>
                  <a:lnTo>
                    <a:pt x="3673" y="1275"/>
                  </a:lnTo>
                  <a:lnTo>
                    <a:pt x="19" y="1191"/>
                  </a:lnTo>
                  <a:lnTo>
                    <a:pt x="0" y="1151"/>
                  </a:lnTo>
                  <a:lnTo>
                    <a:pt x="0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39760" y="3503880"/>
              <a:ext cx="609120" cy="21240"/>
            </a:xfrm>
            <a:custGeom>
              <a:avLst/>
              <a:gdLst/>
              <a:ahLst/>
              <a:rect l="l" t="t" r="r" b="b"/>
              <a:pathLst>
                <a:path w="3558" h="119">
                  <a:moveTo>
                    <a:pt x="3" y="0"/>
                  </a:moveTo>
                  <a:lnTo>
                    <a:pt x="3527" y="83"/>
                  </a:lnTo>
                  <a:lnTo>
                    <a:pt x="3558" y="119"/>
                  </a:lnTo>
                  <a:lnTo>
                    <a:pt x="0" y="3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25160" y="3511080"/>
              <a:ext cx="156240" cy="44640"/>
            </a:xfrm>
            <a:custGeom>
              <a:avLst/>
              <a:gdLst/>
              <a:ahLst/>
              <a:rect l="l" t="t" r="r" b="b"/>
              <a:pathLst>
                <a:path w="914" h="249">
                  <a:moveTo>
                    <a:pt x="0" y="4"/>
                  </a:moveTo>
                  <a:lnTo>
                    <a:pt x="4" y="238"/>
                  </a:lnTo>
                  <a:lnTo>
                    <a:pt x="914" y="249"/>
                  </a:lnTo>
                  <a:lnTo>
                    <a:pt x="914" y="19"/>
                  </a:lnTo>
                  <a:lnTo>
                    <a:pt x="886" y="19"/>
                  </a:lnTo>
                  <a:lnTo>
                    <a:pt x="886" y="234"/>
                  </a:lnTo>
                  <a:lnTo>
                    <a:pt x="34" y="217"/>
                  </a:lnTo>
                  <a:lnTo>
                    <a:pt x="2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35800" y="3577320"/>
              <a:ext cx="619560" cy="17280"/>
            </a:xfrm>
            <a:custGeom>
              <a:avLst/>
              <a:gdLst/>
              <a:ahLst/>
              <a:rect l="l" t="t" r="r" b="b"/>
              <a:pathLst>
                <a:path w="3621" h="99">
                  <a:moveTo>
                    <a:pt x="0" y="0"/>
                  </a:moveTo>
                  <a:lnTo>
                    <a:pt x="3621" y="71"/>
                  </a:lnTo>
                  <a:lnTo>
                    <a:pt x="3609" y="99"/>
                  </a:lnTo>
                  <a:lnTo>
                    <a:pt x="26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60280" y="3528000"/>
              <a:ext cx="23400" cy="25560"/>
            </a:xfrm>
            <a:custGeom>
              <a:avLst/>
              <a:gdLst/>
              <a:ahLst/>
              <a:rect l="l" t="t" r="r" b="b"/>
              <a:pathLst>
                <a:path w="137" h="144">
                  <a:moveTo>
                    <a:pt x="0" y="51"/>
                  </a:moveTo>
                  <a:lnTo>
                    <a:pt x="12" y="17"/>
                  </a:lnTo>
                  <a:lnTo>
                    <a:pt x="46" y="0"/>
                  </a:lnTo>
                  <a:lnTo>
                    <a:pt x="92" y="0"/>
                  </a:lnTo>
                  <a:lnTo>
                    <a:pt x="124" y="22"/>
                  </a:lnTo>
                  <a:lnTo>
                    <a:pt x="137" y="55"/>
                  </a:lnTo>
                  <a:lnTo>
                    <a:pt x="135" y="95"/>
                  </a:lnTo>
                  <a:lnTo>
                    <a:pt x="109" y="129"/>
                  </a:lnTo>
                  <a:lnTo>
                    <a:pt x="65" y="144"/>
                  </a:lnTo>
                  <a:lnTo>
                    <a:pt x="27" y="134"/>
                  </a:lnTo>
                  <a:lnTo>
                    <a:pt x="65" y="129"/>
                  </a:lnTo>
                  <a:lnTo>
                    <a:pt x="101" y="108"/>
                  </a:lnTo>
                  <a:lnTo>
                    <a:pt x="109" y="66"/>
                  </a:lnTo>
                  <a:lnTo>
                    <a:pt x="88" y="34"/>
                  </a:lnTo>
                  <a:lnTo>
                    <a:pt x="57" y="26"/>
                  </a:lnTo>
                  <a:lnTo>
                    <a:pt x="27" y="32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02760" y="3529800"/>
              <a:ext cx="23400" cy="25560"/>
            </a:xfrm>
            <a:custGeom>
              <a:avLst/>
              <a:gdLst/>
              <a:ahLst/>
              <a:rect l="l" t="t" r="r" b="b"/>
              <a:pathLst>
                <a:path w="138" h="144">
                  <a:moveTo>
                    <a:pt x="0" y="53"/>
                  </a:moveTo>
                  <a:lnTo>
                    <a:pt x="13" y="17"/>
                  </a:lnTo>
                  <a:lnTo>
                    <a:pt x="47" y="0"/>
                  </a:lnTo>
                  <a:lnTo>
                    <a:pt x="93" y="0"/>
                  </a:lnTo>
                  <a:lnTo>
                    <a:pt x="123" y="23"/>
                  </a:lnTo>
                  <a:lnTo>
                    <a:pt x="138" y="57"/>
                  </a:lnTo>
                  <a:lnTo>
                    <a:pt x="136" y="97"/>
                  </a:lnTo>
                  <a:lnTo>
                    <a:pt x="110" y="129"/>
                  </a:lnTo>
                  <a:lnTo>
                    <a:pt x="66" y="144"/>
                  </a:lnTo>
                  <a:lnTo>
                    <a:pt x="28" y="137"/>
                  </a:lnTo>
                  <a:lnTo>
                    <a:pt x="66" y="131"/>
                  </a:lnTo>
                  <a:lnTo>
                    <a:pt x="100" y="110"/>
                  </a:lnTo>
                  <a:lnTo>
                    <a:pt x="110" y="67"/>
                  </a:lnTo>
                  <a:lnTo>
                    <a:pt x="89" y="36"/>
                  </a:lnTo>
                  <a:lnTo>
                    <a:pt x="57" y="29"/>
                  </a:lnTo>
                  <a:lnTo>
                    <a:pt x="28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41720" y="3518640"/>
              <a:ext cx="129240" cy="17280"/>
            </a:xfrm>
            <a:custGeom>
              <a:avLst/>
              <a:gdLst/>
              <a:ahLst/>
              <a:rect l="l" t="t" r="r" b="b"/>
              <a:pathLst>
                <a:path w="757" h="97">
                  <a:moveTo>
                    <a:pt x="0" y="29"/>
                  </a:moveTo>
                  <a:lnTo>
                    <a:pt x="224" y="27"/>
                  </a:lnTo>
                  <a:lnTo>
                    <a:pt x="230" y="0"/>
                  </a:lnTo>
                  <a:lnTo>
                    <a:pt x="513" y="8"/>
                  </a:lnTo>
                  <a:lnTo>
                    <a:pt x="523" y="36"/>
                  </a:lnTo>
                  <a:lnTo>
                    <a:pt x="755" y="34"/>
                  </a:lnTo>
                  <a:lnTo>
                    <a:pt x="757" y="78"/>
                  </a:lnTo>
                  <a:lnTo>
                    <a:pt x="525" y="74"/>
                  </a:lnTo>
                  <a:lnTo>
                    <a:pt x="513" y="97"/>
                  </a:lnTo>
                  <a:lnTo>
                    <a:pt x="228" y="93"/>
                  </a:lnTo>
                  <a:lnTo>
                    <a:pt x="213" y="69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517520" y="2917440"/>
              <a:ext cx="491400" cy="433080"/>
            </a:xfrm>
            <a:custGeom>
              <a:avLst/>
              <a:gdLst/>
              <a:ahLst/>
              <a:rect l="l" t="t" r="r" b="b"/>
              <a:pathLst>
                <a:path w="2868" h="2414">
                  <a:moveTo>
                    <a:pt x="25" y="0"/>
                  </a:moveTo>
                  <a:lnTo>
                    <a:pt x="2824" y="31"/>
                  </a:lnTo>
                  <a:lnTo>
                    <a:pt x="2868" y="80"/>
                  </a:lnTo>
                  <a:lnTo>
                    <a:pt x="2859" y="2384"/>
                  </a:lnTo>
                  <a:lnTo>
                    <a:pt x="2819" y="2414"/>
                  </a:lnTo>
                  <a:lnTo>
                    <a:pt x="2834" y="105"/>
                  </a:lnTo>
                  <a:lnTo>
                    <a:pt x="2800" y="55"/>
                  </a:lnTo>
                  <a:lnTo>
                    <a:pt x="0" y="31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97960" y="3529080"/>
              <a:ext cx="204480" cy="27000"/>
            </a:xfrm>
            <a:custGeom>
              <a:avLst/>
              <a:gdLst/>
              <a:ahLst/>
              <a:rect l="l" t="t" r="r" b="b"/>
              <a:pathLst>
                <a:path w="1197" h="152">
                  <a:moveTo>
                    <a:pt x="0" y="0"/>
                  </a:moveTo>
                  <a:lnTo>
                    <a:pt x="0" y="133"/>
                  </a:lnTo>
                  <a:lnTo>
                    <a:pt x="1197" y="152"/>
                  </a:lnTo>
                  <a:lnTo>
                    <a:pt x="1195" y="19"/>
                  </a:lnTo>
                  <a:lnTo>
                    <a:pt x="1167" y="17"/>
                  </a:lnTo>
                  <a:lnTo>
                    <a:pt x="1161" y="120"/>
                  </a:lnTo>
                  <a:lnTo>
                    <a:pt x="32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87160" y="3513960"/>
              <a:ext cx="6120" cy="132480"/>
            </a:xfrm>
            <a:custGeom>
              <a:avLst/>
              <a:gdLst/>
              <a:ahLst/>
              <a:rect l="l" t="t" r="r" b="b"/>
              <a:pathLst>
                <a:path w="36" h="739">
                  <a:moveTo>
                    <a:pt x="5" y="0"/>
                  </a:moveTo>
                  <a:lnTo>
                    <a:pt x="0" y="739"/>
                  </a:lnTo>
                  <a:lnTo>
                    <a:pt x="21" y="732"/>
                  </a:lnTo>
                  <a:lnTo>
                    <a:pt x="36" y="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08560" y="3521160"/>
              <a:ext cx="4320" cy="129600"/>
            </a:xfrm>
            <a:custGeom>
              <a:avLst/>
              <a:gdLst/>
              <a:ahLst/>
              <a:rect l="l" t="t" r="r" b="b"/>
              <a:pathLst>
                <a:path w="27" h="724">
                  <a:moveTo>
                    <a:pt x="0" y="2"/>
                  </a:moveTo>
                  <a:lnTo>
                    <a:pt x="2" y="724"/>
                  </a:lnTo>
                  <a:lnTo>
                    <a:pt x="27" y="724"/>
                  </a:lnTo>
                  <a:lnTo>
                    <a:pt x="23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17920" y="3543120"/>
              <a:ext cx="23400" cy="25560"/>
            </a:xfrm>
            <a:custGeom>
              <a:avLst/>
              <a:gdLst/>
              <a:ahLst/>
              <a:rect l="l" t="t" r="r" b="b"/>
              <a:pathLst>
                <a:path w="137" h="145">
                  <a:moveTo>
                    <a:pt x="0" y="53"/>
                  </a:moveTo>
                  <a:lnTo>
                    <a:pt x="12" y="19"/>
                  </a:lnTo>
                  <a:lnTo>
                    <a:pt x="46" y="0"/>
                  </a:lnTo>
                  <a:lnTo>
                    <a:pt x="92" y="0"/>
                  </a:lnTo>
                  <a:lnTo>
                    <a:pt x="122" y="23"/>
                  </a:lnTo>
                  <a:lnTo>
                    <a:pt x="137" y="57"/>
                  </a:lnTo>
                  <a:lnTo>
                    <a:pt x="135" y="97"/>
                  </a:lnTo>
                  <a:lnTo>
                    <a:pt x="109" y="129"/>
                  </a:lnTo>
                  <a:lnTo>
                    <a:pt x="65" y="145"/>
                  </a:lnTo>
                  <a:lnTo>
                    <a:pt x="27" y="137"/>
                  </a:lnTo>
                  <a:lnTo>
                    <a:pt x="65" y="131"/>
                  </a:lnTo>
                  <a:lnTo>
                    <a:pt x="101" y="110"/>
                  </a:lnTo>
                  <a:lnTo>
                    <a:pt x="109" y="67"/>
                  </a:lnTo>
                  <a:lnTo>
                    <a:pt x="88" y="36"/>
                  </a:lnTo>
                  <a:lnTo>
                    <a:pt x="57" y="29"/>
                  </a:lnTo>
                  <a:lnTo>
                    <a:pt x="27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9800" y="3656520"/>
              <a:ext cx="432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55320" y="2967480"/>
              <a:ext cx="401400" cy="313560"/>
            </a:xfrm>
            <a:custGeom>
              <a:avLst/>
              <a:gdLst/>
              <a:ahLst/>
              <a:rect l="l" t="t" r="r" b="b"/>
              <a:pathLst>
                <a:path w="2347" h="1747">
                  <a:moveTo>
                    <a:pt x="0" y="0"/>
                  </a:moveTo>
                  <a:lnTo>
                    <a:pt x="47" y="111"/>
                  </a:lnTo>
                  <a:lnTo>
                    <a:pt x="36" y="1150"/>
                  </a:lnTo>
                  <a:lnTo>
                    <a:pt x="39" y="1747"/>
                  </a:lnTo>
                  <a:lnTo>
                    <a:pt x="153" y="1709"/>
                  </a:lnTo>
                  <a:lnTo>
                    <a:pt x="174" y="139"/>
                  </a:lnTo>
                  <a:lnTo>
                    <a:pt x="914" y="124"/>
                  </a:lnTo>
                  <a:lnTo>
                    <a:pt x="2280" y="158"/>
                  </a:lnTo>
                  <a:lnTo>
                    <a:pt x="2347" y="107"/>
                  </a:lnTo>
                  <a:lnTo>
                    <a:pt x="1762" y="92"/>
                  </a:lnTo>
                  <a:lnTo>
                    <a:pt x="752" y="67"/>
                  </a:lnTo>
                  <a:lnTo>
                    <a:pt x="102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63240" y="2986200"/>
              <a:ext cx="392400" cy="316440"/>
            </a:xfrm>
            <a:custGeom>
              <a:avLst/>
              <a:gdLst/>
              <a:ahLst/>
              <a:rect l="l" t="t" r="r" b="b"/>
              <a:pathLst>
                <a:path w="2292" h="1764">
                  <a:moveTo>
                    <a:pt x="0" y="1650"/>
                  </a:moveTo>
                  <a:lnTo>
                    <a:pt x="859" y="1696"/>
                  </a:lnTo>
                  <a:lnTo>
                    <a:pt x="2173" y="1713"/>
                  </a:lnTo>
                  <a:lnTo>
                    <a:pt x="2289" y="1764"/>
                  </a:lnTo>
                  <a:lnTo>
                    <a:pt x="2277" y="1696"/>
                  </a:lnTo>
                  <a:lnTo>
                    <a:pt x="2292" y="0"/>
                  </a:lnTo>
                  <a:lnTo>
                    <a:pt x="2197" y="36"/>
                  </a:lnTo>
                  <a:lnTo>
                    <a:pt x="2190" y="1618"/>
                  </a:lnTo>
                  <a:lnTo>
                    <a:pt x="1410" y="1641"/>
                  </a:lnTo>
                  <a:lnTo>
                    <a:pt x="449" y="1610"/>
                  </a:lnTo>
                  <a:lnTo>
                    <a:pt x="72" y="1593"/>
                  </a:lnTo>
                  <a:lnTo>
                    <a:pt x="0" y="1650"/>
                  </a:lnTo>
                  <a:lnTo>
                    <a:pt x="0" y="16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17560" y="3656520"/>
              <a:ext cx="4320" cy="12240"/>
            </a:xfrm>
            <a:custGeom>
              <a:avLst/>
              <a:gdLst/>
              <a:ahLst/>
              <a:rect l="l" t="t" r="r" b="b"/>
              <a:pathLst>
                <a:path w="24" h="70">
                  <a:moveTo>
                    <a:pt x="0" y="0"/>
                  </a:moveTo>
                  <a:lnTo>
                    <a:pt x="1" y="70"/>
                  </a:lnTo>
                  <a:lnTo>
                    <a:pt x="24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004960" y="36561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992720" y="365580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80480" y="36554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" y="73"/>
                  </a:lnTo>
                  <a:lnTo>
                    <a:pt x="25" y="73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968600" y="3655080"/>
              <a:ext cx="360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0" y="72"/>
                  </a:lnTo>
                  <a:lnTo>
                    <a:pt x="23" y="72"/>
                  </a:lnTo>
                  <a:lnTo>
                    <a:pt x="2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56360" y="365508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43760" y="365508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31160" y="365436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18920" y="3654000"/>
              <a:ext cx="3960" cy="1296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0"/>
                  </a:moveTo>
                  <a:lnTo>
                    <a:pt x="1" y="72"/>
                  </a:lnTo>
                  <a:lnTo>
                    <a:pt x="22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906680" y="3654000"/>
              <a:ext cx="432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894080" y="36536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881840" y="36536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" y="72"/>
                  </a:lnTo>
                  <a:lnTo>
                    <a:pt x="25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869600" y="365328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857720" y="365328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45120" y="365328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0"/>
                  </a:moveTo>
                  <a:lnTo>
                    <a:pt x="2" y="71"/>
                  </a:lnTo>
                  <a:lnTo>
                    <a:pt x="23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832520" y="365256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0" y="0"/>
                  </a:moveTo>
                  <a:lnTo>
                    <a:pt x="2" y="73"/>
                  </a:lnTo>
                  <a:lnTo>
                    <a:pt x="23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820280" y="365256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3">
                  <a:moveTo>
                    <a:pt x="0" y="0"/>
                  </a:moveTo>
                  <a:lnTo>
                    <a:pt x="2" y="73"/>
                  </a:lnTo>
                  <a:lnTo>
                    <a:pt x="22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808040" y="3652560"/>
              <a:ext cx="3960" cy="1224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0"/>
                  </a:moveTo>
                  <a:lnTo>
                    <a:pt x="2" y="71"/>
                  </a:lnTo>
                  <a:lnTo>
                    <a:pt x="23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795440" y="36518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783200" y="36514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70960" y="365112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758720" y="365076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1" y="72"/>
                  </a:lnTo>
                  <a:lnTo>
                    <a:pt x="24" y="72"/>
                  </a:lnTo>
                  <a:lnTo>
                    <a:pt x="2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746480" y="365076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733880" y="3650760"/>
              <a:ext cx="396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721640" y="365004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709400" y="364968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96800" y="36496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84560" y="364932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72320" y="36489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" y="73"/>
                  </a:lnTo>
                  <a:lnTo>
                    <a:pt x="25" y="73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660080" y="364896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0"/>
                  </a:moveTo>
                  <a:lnTo>
                    <a:pt x="1" y="73"/>
                  </a:lnTo>
                  <a:lnTo>
                    <a:pt x="24" y="73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647840" y="364896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4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35600" y="3648240"/>
              <a:ext cx="3600" cy="1260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23000" y="364824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10760" y="364752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0"/>
                  </a:moveTo>
                  <a:lnTo>
                    <a:pt x="1" y="72"/>
                  </a:lnTo>
                  <a:lnTo>
                    <a:pt x="22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98520" y="3647160"/>
              <a:ext cx="3960" cy="1296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585920" y="36471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73680" y="36471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61440" y="364716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49200" y="36464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4" y="72"/>
                  </a:lnTo>
                  <a:lnTo>
                    <a:pt x="25" y="72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536600" y="364644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4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24360" y="364644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12120" y="364572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3">
                  <a:moveTo>
                    <a:pt x="0" y="0"/>
                  </a:moveTo>
                  <a:lnTo>
                    <a:pt x="2" y="73"/>
                  </a:lnTo>
                  <a:lnTo>
                    <a:pt x="22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99880" y="364572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0" y="0"/>
                  </a:moveTo>
                  <a:lnTo>
                    <a:pt x="2" y="73"/>
                  </a:lnTo>
                  <a:lnTo>
                    <a:pt x="23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87280" y="364572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75040" y="364536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462800" y="364464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450560" y="36446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" y="72"/>
                  </a:lnTo>
                  <a:lnTo>
                    <a:pt x="25" y="72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31120" y="3526560"/>
              <a:ext cx="627480" cy="143640"/>
            </a:xfrm>
            <a:custGeom>
              <a:avLst/>
              <a:gdLst/>
              <a:ahLst/>
              <a:rect l="l" t="t" r="r" b="b"/>
              <a:pathLst>
                <a:path w="3667" h="802">
                  <a:moveTo>
                    <a:pt x="0" y="616"/>
                  </a:moveTo>
                  <a:lnTo>
                    <a:pt x="3635" y="675"/>
                  </a:lnTo>
                  <a:lnTo>
                    <a:pt x="3616" y="0"/>
                  </a:lnTo>
                  <a:lnTo>
                    <a:pt x="3642" y="15"/>
                  </a:lnTo>
                  <a:lnTo>
                    <a:pt x="3667" y="802"/>
                  </a:lnTo>
                  <a:lnTo>
                    <a:pt x="3623" y="703"/>
                  </a:lnTo>
                  <a:lnTo>
                    <a:pt x="80" y="644"/>
                  </a:lnTo>
                  <a:lnTo>
                    <a:pt x="0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89880" y="2997000"/>
              <a:ext cx="340200" cy="270720"/>
            </a:xfrm>
            <a:custGeom>
              <a:avLst/>
              <a:gdLst/>
              <a:ahLst/>
              <a:rect l="l" t="t" r="r" b="b"/>
              <a:pathLst>
                <a:path w="1988" h="1509">
                  <a:moveTo>
                    <a:pt x="0" y="0"/>
                  </a:moveTo>
                  <a:lnTo>
                    <a:pt x="1988" y="28"/>
                  </a:lnTo>
                  <a:lnTo>
                    <a:pt x="1988" y="1509"/>
                  </a:lnTo>
                  <a:lnTo>
                    <a:pt x="21" y="14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99040" y="3522960"/>
              <a:ext cx="203040" cy="10440"/>
            </a:xfrm>
            <a:custGeom>
              <a:avLst/>
              <a:gdLst/>
              <a:ahLst/>
              <a:rect l="l" t="t" r="r" b="b"/>
              <a:pathLst>
                <a:path w="1186" h="59">
                  <a:moveTo>
                    <a:pt x="0" y="30"/>
                  </a:moveTo>
                  <a:lnTo>
                    <a:pt x="1186" y="59"/>
                  </a:lnTo>
                  <a:lnTo>
                    <a:pt x="1186" y="38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963200" y="3366720"/>
              <a:ext cx="32040" cy="31320"/>
            </a:xfrm>
            <a:custGeom>
              <a:avLst/>
              <a:gdLst/>
              <a:ahLst/>
              <a:rect l="l" t="t" r="r" b="b"/>
              <a:pathLst>
                <a:path w="188" h="175">
                  <a:moveTo>
                    <a:pt x="36" y="38"/>
                  </a:moveTo>
                  <a:lnTo>
                    <a:pt x="0" y="175"/>
                  </a:lnTo>
                  <a:lnTo>
                    <a:pt x="116" y="175"/>
                  </a:lnTo>
                  <a:lnTo>
                    <a:pt x="188" y="0"/>
                  </a:lnTo>
                  <a:lnTo>
                    <a:pt x="36" y="38"/>
                  </a:lnTo>
                  <a:lnTo>
                    <a:pt x="3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1066680" y="4576680"/>
            <a:ext cx="2283120" cy="130968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4748400" y="4809240"/>
            <a:ext cx="676080" cy="773640"/>
            <a:chOff x="4748400" y="4809240"/>
            <a:chExt cx="676080" cy="773640"/>
          </a:xfrm>
        </p:grpSpPr>
        <p:sp>
          <p:nvSpPr>
            <p:cNvPr id="364" name=""/>
            <p:cNvSpPr/>
            <p:nvPr/>
          </p:nvSpPr>
          <p:spPr>
            <a:xfrm>
              <a:off x="4748400" y="5363280"/>
              <a:ext cx="673920" cy="203040"/>
            </a:xfrm>
            <a:custGeom>
              <a:avLst/>
              <a:gdLst/>
              <a:ahLst/>
              <a:rect l="l" t="t" r="r" b="b"/>
              <a:pathLst>
                <a:path w="3937" h="1133">
                  <a:moveTo>
                    <a:pt x="644" y="0"/>
                  </a:moveTo>
                  <a:lnTo>
                    <a:pt x="0" y="247"/>
                  </a:lnTo>
                  <a:lnTo>
                    <a:pt x="29" y="1030"/>
                  </a:lnTo>
                  <a:lnTo>
                    <a:pt x="3764" y="1133"/>
                  </a:lnTo>
                  <a:lnTo>
                    <a:pt x="3937" y="821"/>
                  </a:lnTo>
                  <a:lnTo>
                    <a:pt x="3908" y="7"/>
                  </a:lnTo>
                  <a:lnTo>
                    <a:pt x="2443" y="0"/>
                  </a:lnTo>
                  <a:lnTo>
                    <a:pt x="644" y="0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33000" y="4810320"/>
              <a:ext cx="533880" cy="479880"/>
            </a:xfrm>
            <a:custGeom>
              <a:avLst/>
              <a:gdLst/>
              <a:ahLst/>
              <a:rect l="l" t="t" r="r" b="b"/>
              <a:pathLst>
                <a:path w="3120" h="2672">
                  <a:moveTo>
                    <a:pt x="101" y="0"/>
                  </a:moveTo>
                  <a:lnTo>
                    <a:pt x="3068" y="28"/>
                  </a:lnTo>
                  <a:lnTo>
                    <a:pt x="3120" y="72"/>
                  </a:lnTo>
                  <a:lnTo>
                    <a:pt x="3097" y="2425"/>
                  </a:lnTo>
                  <a:lnTo>
                    <a:pt x="2916" y="2556"/>
                  </a:lnTo>
                  <a:lnTo>
                    <a:pt x="2800" y="2672"/>
                  </a:lnTo>
                  <a:lnTo>
                    <a:pt x="196" y="2549"/>
                  </a:lnTo>
                  <a:lnTo>
                    <a:pt x="0" y="2410"/>
                  </a:lnTo>
                  <a:lnTo>
                    <a:pt x="29" y="108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63600" y="5257080"/>
              <a:ext cx="458280" cy="52200"/>
            </a:xfrm>
            <a:custGeom>
              <a:avLst/>
              <a:gdLst/>
              <a:ahLst/>
              <a:rect l="l" t="t" r="r" b="b"/>
              <a:pathLst>
                <a:path w="2676" h="290">
                  <a:moveTo>
                    <a:pt x="0" y="0"/>
                  </a:moveTo>
                  <a:lnTo>
                    <a:pt x="0" y="203"/>
                  </a:lnTo>
                  <a:lnTo>
                    <a:pt x="2480" y="290"/>
                  </a:lnTo>
                  <a:lnTo>
                    <a:pt x="2676" y="9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21360" y="5418360"/>
              <a:ext cx="10080" cy="134640"/>
            </a:xfrm>
            <a:custGeom>
              <a:avLst/>
              <a:gdLst/>
              <a:ahLst/>
              <a:rect l="l" t="t" r="r" b="b"/>
              <a:pathLst>
                <a:path w="59" h="751">
                  <a:moveTo>
                    <a:pt x="59" y="4"/>
                  </a:moveTo>
                  <a:lnTo>
                    <a:pt x="40" y="739"/>
                  </a:lnTo>
                  <a:lnTo>
                    <a:pt x="0" y="751"/>
                  </a:lnTo>
                  <a:lnTo>
                    <a:pt x="8" y="0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59920" y="5402520"/>
              <a:ext cx="632160" cy="172440"/>
            </a:xfrm>
            <a:custGeom>
              <a:avLst/>
              <a:gdLst/>
              <a:ahLst/>
              <a:rect l="l" t="t" r="r" b="b"/>
              <a:pathLst>
                <a:path w="3691" h="962">
                  <a:moveTo>
                    <a:pt x="59" y="0"/>
                  </a:moveTo>
                  <a:lnTo>
                    <a:pt x="89" y="48"/>
                  </a:lnTo>
                  <a:lnTo>
                    <a:pt x="74" y="407"/>
                  </a:lnTo>
                  <a:lnTo>
                    <a:pt x="2109" y="451"/>
                  </a:lnTo>
                  <a:lnTo>
                    <a:pt x="3607" y="491"/>
                  </a:lnTo>
                  <a:lnTo>
                    <a:pt x="3643" y="531"/>
                  </a:lnTo>
                  <a:lnTo>
                    <a:pt x="66" y="458"/>
                  </a:lnTo>
                  <a:lnTo>
                    <a:pt x="55" y="763"/>
                  </a:lnTo>
                  <a:lnTo>
                    <a:pt x="2113" y="791"/>
                  </a:lnTo>
                  <a:lnTo>
                    <a:pt x="3681" y="816"/>
                  </a:lnTo>
                  <a:lnTo>
                    <a:pt x="3691" y="962"/>
                  </a:lnTo>
                  <a:lnTo>
                    <a:pt x="1203" y="930"/>
                  </a:lnTo>
                  <a:lnTo>
                    <a:pt x="49" y="901"/>
                  </a:lnTo>
                  <a:lnTo>
                    <a:pt x="3" y="861"/>
                  </a:lnTo>
                  <a:lnTo>
                    <a:pt x="0" y="82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60440" y="5417280"/>
              <a:ext cx="151920" cy="41760"/>
            </a:xfrm>
            <a:custGeom>
              <a:avLst/>
              <a:gdLst/>
              <a:ahLst/>
              <a:rect l="l" t="t" r="r" b="b"/>
              <a:pathLst>
                <a:path w="887" h="234">
                  <a:moveTo>
                    <a:pt x="0" y="2"/>
                  </a:moveTo>
                  <a:lnTo>
                    <a:pt x="0" y="222"/>
                  </a:lnTo>
                  <a:lnTo>
                    <a:pt x="887" y="234"/>
                  </a:lnTo>
                  <a:lnTo>
                    <a:pt x="876" y="131"/>
                  </a:lnTo>
                  <a:lnTo>
                    <a:pt x="621" y="131"/>
                  </a:lnTo>
                  <a:lnTo>
                    <a:pt x="598" y="160"/>
                  </a:lnTo>
                  <a:lnTo>
                    <a:pt x="292" y="156"/>
                  </a:lnTo>
                  <a:lnTo>
                    <a:pt x="273" y="127"/>
                  </a:lnTo>
                  <a:lnTo>
                    <a:pt x="68" y="131"/>
                  </a:lnTo>
                  <a:lnTo>
                    <a:pt x="6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32160" y="5446800"/>
              <a:ext cx="200520" cy="10800"/>
            </a:xfrm>
            <a:custGeom>
              <a:avLst/>
              <a:gdLst/>
              <a:ahLst/>
              <a:rect l="l" t="t" r="r" b="b"/>
              <a:pathLst>
                <a:path w="1173" h="62">
                  <a:moveTo>
                    <a:pt x="0" y="0"/>
                  </a:moveTo>
                  <a:lnTo>
                    <a:pt x="1173" y="15"/>
                  </a:lnTo>
                  <a:lnTo>
                    <a:pt x="1173" y="62"/>
                  </a:lnTo>
                  <a:lnTo>
                    <a:pt x="2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767480" y="5358240"/>
              <a:ext cx="645840" cy="57960"/>
            </a:xfrm>
            <a:custGeom>
              <a:avLst/>
              <a:gdLst/>
              <a:ahLst/>
              <a:rect l="l" t="t" r="r" b="b"/>
              <a:pathLst>
                <a:path w="3771" h="325">
                  <a:moveTo>
                    <a:pt x="0" y="240"/>
                  </a:moveTo>
                  <a:lnTo>
                    <a:pt x="899" y="261"/>
                  </a:lnTo>
                  <a:lnTo>
                    <a:pt x="1046" y="124"/>
                  </a:lnTo>
                  <a:lnTo>
                    <a:pt x="1738" y="101"/>
                  </a:lnTo>
                  <a:lnTo>
                    <a:pt x="2785" y="181"/>
                  </a:lnTo>
                  <a:lnTo>
                    <a:pt x="2981" y="80"/>
                  </a:lnTo>
                  <a:lnTo>
                    <a:pt x="2988" y="137"/>
                  </a:lnTo>
                  <a:lnTo>
                    <a:pt x="2851" y="312"/>
                  </a:lnTo>
                  <a:lnTo>
                    <a:pt x="3604" y="325"/>
                  </a:lnTo>
                  <a:lnTo>
                    <a:pt x="3771" y="44"/>
                  </a:lnTo>
                  <a:lnTo>
                    <a:pt x="2597" y="29"/>
                  </a:lnTo>
                  <a:lnTo>
                    <a:pt x="1262" y="0"/>
                  </a:lnTo>
                  <a:lnTo>
                    <a:pt x="531" y="14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28120" y="5330520"/>
              <a:ext cx="153720" cy="33840"/>
            </a:xfrm>
            <a:custGeom>
              <a:avLst/>
              <a:gdLst/>
              <a:ahLst/>
              <a:rect l="l" t="t" r="r" b="b"/>
              <a:pathLst>
                <a:path w="899" h="190">
                  <a:moveTo>
                    <a:pt x="15" y="0"/>
                  </a:moveTo>
                  <a:lnTo>
                    <a:pt x="0" y="190"/>
                  </a:lnTo>
                  <a:lnTo>
                    <a:pt x="886" y="190"/>
                  </a:lnTo>
                  <a:lnTo>
                    <a:pt x="899" y="1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28120" y="5335920"/>
              <a:ext cx="19800" cy="30600"/>
            </a:xfrm>
            <a:custGeom>
              <a:avLst/>
              <a:gdLst/>
              <a:ahLst/>
              <a:rect l="l" t="t" r="r" b="b"/>
              <a:pathLst>
                <a:path w="116" h="173">
                  <a:moveTo>
                    <a:pt x="116" y="13"/>
                  </a:moveTo>
                  <a:lnTo>
                    <a:pt x="80" y="173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116" y="13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26400" y="5333040"/>
              <a:ext cx="43200" cy="34920"/>
            </a:xfrm>
            <a:custGeom>
              <a:avLst/>
              <a:gdLst/>
              <a:ahLst/>
              <a:rect l="l" t="t" r="r" b="b"/>
              <a:pathLst>
                <a:path w="253" h="195">
                  <a:moveTo>
                    <a:pt x="0" y="0"/>
                  </a:moveTo>
                  <a:lnTo>
                    <a:pt x="72" y="195"/>
                  </a:lnTo>
                  <a:lnTo>
                    <a:pt x="232" y="182"/>
                  </a:lnTo>
                  <a:lnTo>
                    <a:pt x="253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900320" y="5394600"/>
              <a:ext cx="384840" cy="21600"/>
            </a:xfrm>
            <a:custGeom>
              <a:avLst/>
              <a:gdLst/>
              <a:ahLst/>
              <a:rect l="l" t="t" r="r" b="b"/>
              <a:pathLst>
                <a:path w="2248" h="121">
                  <a:moveTo>
                    <a:pt x="0" y="57"/>
                  </a:moveTo>
                  <a:lnTo>
                    <a:pt x="2248" y="121"/>
                  </a:lnTo>
                  <a:lnTo>
                    <a:pt x="2161" y="57"/>
                  </a:lnTo>
                  <a:lnTo>
                    <a:pt x="66" y="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87400" y="5372640"/>
              <a:ext cx="32040" cy="204120"/>
            </a:xfrm>
            <a:custGeom>
              <a:avLst/>
              <a:gdLst/>
              <a:ahLst/>
              <a:rect l="l" t="t" r="r" b="b"/>
              <a:pathLst>
                <a:path w="189" h="1139">
                  <a:moveTo>
                    <a:pt x="189" y="0"/>
                  </a:moveTo>
                  <a:lnTo>
                    <a:pt x="0" y="327"/>
                  </a:lnTo>
                  <a:lnTo>
                    <a:pt x="21" y="1139"/>
                  </a:lnTo>
                  <a:lnTo>
                    <a:pt x="189" y="783"/>
                  </a:lnTo>
                  <a:lnTo>
                    <a:pt x="189" y="0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6000" y="4822920"/>
              <a:ext cx="18360" cy="440640"/>
            </a:xfrm>
            <a:custGeom>
              <a:avLst/>
              <a:gdLst/>
              <a:ahLst/>
              <a:rect l="l" t="t" r="r" b="b"/>
              <a:pathLst>
                <a:path w="108" h="2456">
                  <a:moveTo>
                    <a:pt x="108" y="0"/>
                  </a:moveTo>
                  <a:lnTo>
                    <a:pt x="8" y="66"/>
                  </a:lnTo>
                  <a:lnTo>
                    <a:pt x="0" y="2456"/>
                  </a:lnTo>
                  <a:lnTo>
                    <a:pt x="108" y="2302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33000" y="4822920"/>
              <a:ext cx="453240" cy="428760"/>
            </a:xfrm>
            <a:custGeom>
              <a:avLst/>
              <a:gdLst/>
              <a:ahLst/>
              <a:rect l="l" t="t" r="r" b="b"/>
              <a:pathLst>
                <a:path w="2648" h="2389">
                  <a:moveTo>
                    <a:pt x="31" y="66"/>
                  </a:moveTo>
                  <a:lnTo>
                    <a:pt x="124" y="0"/>
                  </a:lnTo>
                  <a:lnTo>
                    <a:pt x="2597" y="36"/>
                  </a:lnTo>
                  <a:lnTo>
                    <a:pt x="1713" y="87"/>
                  </a:lnTo>
                  <a:lnTo>
                    <a:pt x="2597" y="139"/>
                  </a:lnTo>
                  <a:lnTo>
                    <a:pt x="1705" y="159"/>
                  </a:lnTo>
                  <a:lnTo>
                    <a:pt x="2604" y="234"/>
                  </a:lnTo>
                  <a:lnTo>
                    <a:pt x="1713" y="234"/>
                  </a:lnTo>
                  <a:lnTo>
                    <a:pt x="2597" y="306"/>
                  </a:lnTo>
                  <a:lnTo>
                    <a:pt x="299" y="291"/>
                  </a:lnTo>
                  <a:lnTo>
                    <a:pt x="291" y="2098"/>
                  </a:lnTo>
                  <a:lnTo>
                    <a:pt x="1682" y="2142"/>
                  </a:lnTo>
                  <a:lnTo>
                    <a:pt x="2648" y="2165"/>
                  </a:lnTo>
                  <a:lnTo>
                    <a:pt x="1785" y="2229"/>
                  </a:lnTo>
                  <a:lnTo>
                    <a:pt x="2648" y="2252"/>
                  </a:lnTo>
                  <a:lnTo>
                    <a:pt x="1893" y="2296"/>
                  </a:lnTo>
                  <a:lnTo>
                    <a:pt x="2648" y="2353"/>
                  </a:lnTo>
                  <a:lnTo>
                    <a:pt x="2118" y="2389"/>
                  </a:lnTo>
                  <a:lnTo>
                    <a:pt x="0" y="2345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01760" y="4891320"/>
              <a:ext cx="378720" cy="306000"/>
            </a:xfrm>
            <a:custGeom>
              <a:avLst/>
              <a:gdLst/>
              <a:ahLst/>
              <a:rect l="l" t="t" r="r" b="b"/>
              <a:pathLst>
                <a:path w="2213" h="1707">
                  <a:moveTo>
                    <a:pt x="16" y="0"/>
                  </a:moveTo>
                  <a:lnTo>
                    <a:pt x="2213" y="15"/>
                  </a:lnTo>
                  <a:lnTo>
                    <a:pt x="2190" y="1707"/>
                  </a:lnTo>
                  <a:lnTo>
                    <a:pt x="0" y="162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47040" y="4809960"/>
              <a:ext cx="520920" cy="469440"/>
            </a:xfrm>
            <a:custGeom>
              <a:avLst/>
              <a:gdLst/>
              <a:ahLst/>
              <a:rect l="l" t="t" r="r" b="b"/>
              <a:pathLst>
                <a:path w="3043" h="2615">
                  <a:moveTo>
                    <a:pt x="19" y="21"/>
                  </a:moveTo>
                  <a:lnTo>
                    <a:pt x="2950" y="59"/>
                  </a:lnTo>
                  <a:lnTo>
                    <a:pt x="3007" y="100"/>
                  </a:lnTo>
                  <a:lnTo>
                    <a:pt x="2998" y="2406"/>
                  </a:lnTo>
                  <a:lnTo>
                    <a:pt x="2935" y="2488"/>
                  </a:lnTo>
                  <a:lnTo>
                    <a:pt x="2802" y="2545"/>
                  </a:lnTo>
                  <a:lnTo>
                    <a:pt x="0" y="2478"/>
                  </a:lnTo>
                  <a:lnTo>
                    <a:pt x="108" y="2545"/>
                  </a:lnTo>
                  <a:lnTo>
                    <a:pt x="2762" y="2615"/>
                  </a:lnTo>
                  <a:lnTo>
                    <a:pt x="2922" y="2566"/>
                  </a:lnTo>
                  <a:lnTo>
                    <a:pt x="3017" y="2431"/>
                  </a:lnTo>
                  <a:lnTo>
                    <a:pt x="3043" y="2324"/>
                  </a:lnTo>
                  <a:lnTo>
                    <a:pt x="3043" y="85"/>
                  </a:lnTo>
                  <a:lnTo>
                    <a:pt x="2980" y="13"/>
                  </a:lnTo>
                  <a:lnTo>
                    <a:pt x="34" y="0"/>
                  </a:lnTo>
                  <a:lnTo>
                    <a:pt x="19" y="21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30840" y="4809240"/>
              <a:ext cx="498960" cy="450000"/>
            </a:xfrm>
            <a:custGeom>
              <a:avLst/>
              <a:gdLst/>
              <a:ahLst/>
              <a:rect l="l" t="t" r="r" b="b"/>
              <a:pathLst>
                <a:path w="2918" h="2507">
                  <a:moveTo>
                    <a:pt x="145" y="4"/>
                  </a:moveTo>
                  <a:lnTo>
                    <a:pt x="67" y="118"/>
                  </a:lnTo>
                  <a:lnTo>
                    <a:pt x="42" y="2397"/>
                  </a:lnTo>
                  <a:lnTo>
                    <a:pt x="97" y="2418"/>
                  </a:lnTo>
                  <a:lnTo>
                    <a:pt x="2918" y="2482"/>
                  </a:lnTo>
                  <a:lnTo>
                    <a:pt x="2789" y="2507"/>
                  </a:lnTo>
                  <a:lnTo>
                    <a:pt x="46" y="2444"/>
                  </a:lnTo>
                  <a:lnTo>
                    <a:pt x="0" y="2414"/>
                  </a:lnTo>
                  <a:lnTo>
                    <a:pt x="31" y="108"/>
                  </a:lnTo>
                  <a:lnTo>
                    <a:pt x="126" y="0"/>
                  </a:lnTo>
                  <a:lnTo>
                    <a:pt x="145" y="4"/>
                  </a:lnTo>
                  <a:lnTo>
                    <a:pt x="14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99880" y="5262840"/>
              <a:ext cx="513720" cy="126360"/>
            </a:xfrm>
            <a:custGeom>
              <a:avLst/>
              <a:gdLst/>
              <a:ahLst/>
              <a:rect l="l" t="t" r="r" b="b"/>
              <a:pathLst>
                <a:path w="3000" h="705">
                  <a:moveTo>
                    <a:pt x="375" y="0"/>
                  </a:moveTo>
                  <a:lnTo>
                    <a:pt x="375" y="217"/>
                  </a:lnTo>
                  <a:lnTo>
                    <a:pt x="765" y="238"/>
                  </a:lnTo>
                  <a:lnTo>
                    <a:pt x="770" y="386"/>
                  </a:lnTo>
                  <a:lnTo>
                    <a:pt x="1304" y="401"/>
                  </a:lnTo>
                  <a:lnTo>
                    <a:pt x="1310" y="521"/>
                  </a:lnTo>
                  <a:lnTo>
                    <a:pt x="339" y="504"/>
                  </a:lnTo>
                  <a:lnTo>
                    <a:pt x="0" y="680"/>
                  </a:lnTo>
                  <a:lnTo>
                    <a:pt x="647" y="690"/>
                  </a:lnTo>
                  <a:lnTo>
                    <a:pt x="755" y="705"/>
                  </a:lnTo>
                  <a:lnTo>
                    <a:pt x="806" y="597"/>
                  </a:lnTo>
                  <a:lnTo>
                    <a:pt x="1561" y="602"/>
                  </a:lnTo>
                  <a:lnTo>
                    <a:pt x="1747" y="561"/>
                  </a:lnTo>
                  <a:lnTo>
                    <a:pt x="1371" y="536"/>
                  </a:lnTo>
                  <a:lnTo>
                    <a:pt x="1377" y="452"/>
                  </a:lnTo>
                  <a:lnTo>
                    <a:pt x="1645" y="431"/>
                  </a:lnTo>
                  <a:lnTo>
                    <a:pt x="2034" y="449"/>
                  </a:lnTo>
                  <a:lnTo>
                    <a:pt x="2095" y="492"/>
                  </a:lnTo>
                  <a:lnTo>
                    <a:pt x="2044" y="542"/>
                  </a:lnTo>
                  <a:lnTo>
                    <a:pt x="1859" y="587"/>
                  </a:lnTo>
                  <a:lnTo>
                    <a:pt x="2059" y="621"/>
                  </a:lnTo>
                  <a:lnTo>
                    <a:pt x="2610" y="648"/>
                  </a:lnTo>
                  <a:lnTo>
                    <a:pt x="2745" y="585"/>
                  </a:lnTo>
                  <a:lnTo>
                    <a:pt x="2291" y="536"/>
                  </a:lnTo>
                  <a:lnTo>
                    <a:pt x="2291" y="458"/>
                  </a:lnTo>
                  <a:lnTo>
                    <a:pt x="2682" y="452"/>
                  </a:lnTo>
                  <a:lnTo>
                    <a:pt x="2728" y="319"/>
                  </a:lnTo>
                  <a:lnTo>
                    <a:pt x="3000" y="217"/>
                  </a:lnTo>
                  <a:lnTo>
                    <a:pt x="420" y="139"/>
                  </a:lnTo>
                  <a:lnTo>
                    <a:pt x="375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24440" y="5378040"/>
              <a:ext cx="358920" cy="29880"/>
            </a:xfrm>
            <a:custGeom>
              <a:avLst/>
              <a:gdLst/>
              <a:ahLst/>
              <a:rect l="l" t="t" r="r" b="b"/>
              <a:pathLst>
                <a:path w="2097" h="169">
                  <a:moveTo>
                    <a:pt x="42" y="76"/>
                  </a:moveTo>
                  <a:lnTo>
                    <a:pt x="1943" y="138"/>
                  </a:lnTo>
                  <a:lnTo>
                    <a:pt x="2087" y="0"/>
                  </a:lnTo>
                  <a:lnTo>
                    <a:pt x="2097" y="36"/>
                  </a:lnTo>
                  <a:lnTo>
                    <a:pt x="1970" y="169"/>
                  </a:lnTo>
                  <a:lnTo>
                    <a:pt x="0" y="112"/>
                  </a:lnTo>
                  <a:lnTo>
                    <a:pt x="42" y="76"/>
                  </a:lnTo>
                  <a:lnTo>
                    <a:pt x="4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63880" y="5353920"/>
              <a:ext cx="660600" cy="228960"/>
            </a:xfrm>
            <a:custGeom>
              <a:avLst/>
              <a:gdLst/>
              <a:ahLst/>
              <a:rect l="l" t="t" r="r" b="b"/>
              <a:pathLst>
                <a:path w="3859" h="1275">
                  <a:moveTo>
                    <a:pt x="0" y="1151"/>
                  </a:moveTo>
                  <a:lnTo>
                    <a:pt x="3648" y="1224"/>
                  </a:lnTo>
                  <a:lnTo>
                    <a:pt x="3808" y="868"/>
                  </a:lnTo>
                  <a:lnTo>
                    <a:pt x="3808" y="91"/>
                  </a:lnTo>
                  <a:lnTo>
                    <a:pt x="3000" y="72"/>
                  </a:lnTo>
                  <a:lnTo>
                    <a:pt x="2557" y="0"/>
                  </a:lnTo>
                  <a:lnTo>
                    <a:pt x="3848" y="39"/>
                  </a:lnTo>
                  <a:lnTo>
                    <a:pt x="3859" y="901"/>
                  </a:lnTo>
                  <a:lnTo>
                    <a:pt x="3673" y="1275"/>
                  </a:lnTo>
                  <a:lnTo>
                    <a:pt x="19" y="1191"/>
                  </a:lnTo>
                  <a:lnTo>
                    <a:pt x="0" y="1151"/>
                  </a:lnTo>
                  <a:lnTo>
                    <a:pt x="0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772880" y="5408640"/>
              <a:ext cx="609120" cy="21240"/>
            </a:xfrm>
            <a:custGeom>
              <a:avLst/>
              <a:gdLst/>
              <a:ahLst/>
              <a:rect l="l" t="t" r="r" b="b"/>
              <a:pathLst>
                <a:path w="3558" h="119">
                  <a:moveTo>
                    <a:pt x="3" y="0"/>
                  </a:moveTo>
                  <a:lnTo>
                    <a:pt x="3527" y="83"/>
                  </a:lnTo>
                  <a:lnTo>
                    <a:pt x="3558" y="119"/>
                  </a:lnTo>
                  <a:lnTo>
                    <a:pt x="0" y="3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8280" y="5415840"/>
              <a:ext cx="156240" cy="44640"/>
            </a:xfrm>
            <a:custGeom>
              <a:avLst/>
              <a:gdLst/>
              <a:ahLst/>
              <a:rect l="l" t="t" r="r" b="b"/>
              <a:pathLst>
                <a:path w="914" h="249">
                  <a:moveTo>
                    <a:pt x="0" y="4"/>
                  </a:moveTo>
                  <a:lnTo>
                    <a:pt x="4" y="238"/>
                  </a:lnTo>
                  <a:lnTo>
                    <a:pt x="914" y="249"/>
                  </a:lnTo>
                  <a:lnTo>
                    <a:pt x="914" y="19"/>
                  </a:lnTo>
                  <a:lnTo>
                    <a:pt x="886" y="19"/>
                  </a:lnTo>
                  <a:lnTo>
                    <a:pt x="886" y="234"/>
                  </a:lnTo>
                  <a:lnTo>
                    <a:pt x="34" y="217"/>
                  </a:lnTo>
                  <a:lnTo>
                    <a:pt x="2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68920" y="5482440"/>
              <a:ext cx="619560" cy="17280"/>
            </a:xfrm>
            <a:custGeom>
              <a:avLst/>
              <a:gdLst/>
              <a:ahLst/>
              <a:rect l="l" t="t" r="r" b="b"/>
              <a:pathLst>
                <a:path w="3621" h="99">
                  <a:moveTo>
                    <a:pt x="0" y="0"/>
                  </a:moveTo>
                  <a:lnTo>
                    <a:pt x="3621" y="71"/>
                  </a:lnTo>
                  <a:lnTo>
                    <a:pt x="3609" y="99"/>
                  </a:lnTo>
                  <a:lnTo>
                    <a:pt x="26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793400" y="5433120"/>
              <a:ext cx="23400" cy="25560"/>
            </a:xfrm>
            <a:custGeom>
              <a:avLst/>
              <a:gdLst/>
              <a:ahLst/>
              <a:rect l="l" t="t" r="r" b="b"/>
              <a:pathLst>
                <a:path w="137" h="144">
                  <a:moveTo>
                    <a:pt x="0" y="51"/>
                  </a:moveTo>
                  <a:lnTo>
                    <a:pt x="12" y="17"/>
                  </a:lnTo>
                  <a:lnTo>
                    <a:pt x="46" y="0"/>
                  </a:lnTo>
                  <a:lnTo>
                    <a:pt x="92" y="0"/>
                  </a:lnTo>
                  <a:lnTo>
                    <a:pt x="124" y="22"/>
                  </a:lnTo>
                  <a:lnTo>
                    <a:pt x="137" y="55"/>
                  </a:lnTo>
                  <a:lnTo>
                    <a:pt x="135" y="95"/>
                  </a:lnTo>
                  <a:lnTo>
                    <a:pt x="109" y="129"/>
                  </a:lnTo>
                  <a:lnTo>
                    <a:pt x="65" y="144"/>
                  </a:lnTo>
                  <a:lnTo>
                    <a:pt x="27" y="134"/>
                  </a:lnTo>
                  <a:lnTo>
                    <a:pt x="65" y="129"/>
                  </a:lnTo>
                  <a:lnTo>
                    <a:pt x="101" y="108"/>
                  </a:lnTo>
                  <a:lnTo>
                    <a:pt x="109" y="66"/>
                  </a:lnTo>
                  <a:lnTo>
                    <a:pt x="88" y="34"/>
                  </a:lnTo>
                  <a:lnTo>
                    <a:pt x="57" y="26"/>
                  </a:lnTo>
                  <a:lnTo>
                    <a:pt x="27" y="32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35880" y="5434920"/>
              <a:ext cx="23400" cy="25560"/>
            </a:xfrm>
            <a:custGeom>
              <a:avLst/>
              <a:gdLst/>
              <a:ahLst/>
              <a:rect l="l" t="t" r="r" b="b"/>
              <a:pathLst>
                <a:path w="138" h="144">
                  <a:moveTo>
                    <a:pt x="0" y="53"/>
                  </a:moveTo>
                  <a:lnTo>
                    <a:pt x="13" y="17"/>
                  </a:lnTo>
                  <a:lnTo>
                    <a:pt x="47" y="0"/>
                  </a:lnTo>
                  <a:lnTo>
                    <a:pt x="93" y="0"/>
                  </a:lnTo>
                  <a:lnTo>
                    <a:pt x="123" y="23"/>
                  </a:lnTo>
                  <a:lnTo>
                    <a:pt x="138" y="57"/>
                  </a:lnTo>
                  <a:lnTo>
                    <a:pt x="136" y="97"/>
                  </a:lnTo>
                  <a:lnTo>
                    <a:pt x="110" y="129"/>
                  </a:lnTo>
                  <a:lnTo>
                    <a:pt x="66" y="144"/>
                  </a:lnTo>
                  <a:lnTo>
                    <a:pt x="28" y="137"/>
                  </a:lnTo>
                  <a:lnTo>
                    <a:pt x="66" y="131"/>
                  </a:lnTo>
                  <a:lnTo>
                    <a:pt x="100" y="110"/>
                  </a:lnTo>
                  <a:lnTo>
                    <a:pt x="110" y="67"/>
                  </a:lnTo>
                  <a:lnTo>
                    <a:pt x="89" y="36"/>
                  </a:lnTo>
                  <a:lnTo>
                    <a:pt x="57" y="29"/>
                  </a:lnTo>
                  <a:lnTo>
                    <a:pt x="28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74840" y="5423760"/>
              <a:ext cx="129240" cy="17280"/>
            </a:xfrm>
            <a:custGeom>
              <a:avLst/>
              <a:gdLst/>
              <a:ahLst/>
              <a:rect l="l" t="t" r="r" b="b"/>
              <a:pathLst>
                <a:path w="757" h="97">
                  <a:moveTo>
                    <a:pt x="0" y="29"/>
                  </a:moveTo>
                  <a:lnTo>
                    <a:pt x="224" y="27"/>
                  </a:lnTo>
                  <a:lnTo>
                    <a:pt x="230" y="0"/>
                  </a:lnTo>
                  <a:lnTo>
                    <a:pt x="513" y="8"/>
                  </a:lnTo>
                  <a:lnTo>
                    <a:pt x="523" y="36"/>
                  </a:lnTo>
                  <a:lnTo>
                    <a:pt x="755" y="34"/>
                  </a:lnTo>
                  <a:lnTo>
                    <a:pt x="757" y="78"/>
                  </a:lnTo>
                  <a:lnTo>
                    <a:pt x="525" y="74"/>
                  </a:lnTo>
                  <a:lnTo>
                    <a:pt x="513" y="97"/>
                  </a:lnTo>
                  <a:lnTo>
                    <a:pt x="228" y="93"/>
                  </a:lnTo>
                  <a:lnTo>
                    <a:pt x="213" y="69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50640" y="4822200"/>
              <a:ext cx="491400" cy="433080"/>
            </a:xfrm>
            <a:custGeom>
              <a:avLst/>
              <a:gdLst/>
              <a:ahLst/>
              <a:rect l="l" t="t" r="r" b="b"/>
              <a:pathLst>
                <a:path w="2868" h="2414">
                  <a:moveTo>
                    <a:pt x="25" y="0"/>
                  </a:moveTo>
                  <a:lnTo>
                    <a:pt x="2824" y="31"/>
                  </a:lnTo>
                  <a:lnTo>
                    <a:pt x="2868" y="80"/>
                  </a:lnTo>
                  <a:lnTo>
                    <a:pt x="2859" y="2384"/>
                  </a:lnTo>
                  <a:lnTo>
                    <a:pt x="2819" y="2414"/>
                  </a:lnTo>
                  <a:lnTo>
                    <a:pt x="2834" y="105"/>
                  </a:lnTo>
                  <a:lnTo>
                    <a:pt x="2800" y="55"/>
                  </a:lnTo>
                  <a:lnTo>
                    <a:pt x="0" y="31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31080" y="5434200"/>
              <a:ext cx="204480" cy="27000"/>
            </a:xfrm>
            <a:custGeom>
              <a:avLst/>
              <a:gdLst/>
              <a:ahLst/>
              <a:rect l="l" t="t" r="r" b="b"/>
              <a:pathLst>
                <a:path w="1197" h="152">
                  <a:moveTo>
                    <a:pt x="0" y="0"/>
                  </a:moveTo>
                  <a:lnTo>
                    <a:pt x="0" y="133"/>
                  </a:lnTo>
                  <a:lnTo>
                    <a:pt x="1197" y="152"/>
                  </a:lnTo>
                  <a:lnTo>
                    <a:pt x="1195" y="19"/>
                  </a:lnTo>
                  <a:lnTo>
                    <a:pt x="1167" y="17"/>
                  </a:lnTo>
                  <a:lnTo>
                    <a:pt x="1161" y="120"/>
                  </a:lnTo>
                  <a:lnTo>
                    <a:pt x="32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20280" y="5418720"/>
              <a:ext cx="6120" cy="132480"/>
            </a:xfrm>
            <a:custGeom>
              <a:avLst/>
              <a:gdLst/>
              <a:ahLst/>
              <a:rect l="l" t="t" r="r" b="b"/>
              <a:pathLst>
                <a:path w="36" h="739">
                  <a:moveTo>
                    <a:pt x="5" y="0"/>
                  </a:moveTo>
                  <a:lnTo>
                    <a:pt x="0" y="739"/>
                  </a:lnTo>
                  <a:lnTo>
                    <a:pt x="21" y="732"/>
                  </a:lnTo>
                  <a:lnTo>
                    <a:pt x="36" y="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41680" y="5425920"/>
              <a:ext cx="4320" cy="129960"/>
            </a:xfrm>
            <a:custGeom>
              <a:avLst/>
              <a:gdLst/>
              <a:ahLst/>
              <a:rect l="l" t="t" r="r" b="b"/>
              <a:pathLst>
                <a:path w="27" h="724">
                  <a:moveTo>
                    <a:pt x="0" y="2"/>
                  </a:moveTo>
                  <a:lnTo>
                    <a:pt x="2" y="724"/>
                  </a:lnTo>
                  <a:lnTo>
                    <a:pt x="27" y="724"/>
                  </a:lnTo>
                  <a:lnTo>
                    <a:pt x="23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51040" y="5448240"/>
              <a:ext cx="23400" cy="25560"/>
            </a:xfrm>
            <a:custGeom>
              <a:avLst/>
              <a:gdLst/>
              <a:ahLst/>
              <a:rect l="l" t="t" r="r" b="b"/>
              <a:pathLst>
                <a:path w="137" h="145">
                  <a:moveTo>
                    <a:pt x="0" y="53"/>
                  </a:moveTo>
                  <a:lnTo>
                    <a:pt x="12" y="19"/>
                  </a:lnTo>
                  <a:lnTo>
                    <a:pt x="46" y="0"/>
                  </a:lnTo>
                  <a:lnTo>
                    <a:pt x="92" y="0"/>
                  </a:lnTo>
                  <a:lnTo>
                    <a:pt x="122" y="23"/>
                  </a:lnTo>
                  <a:lnTo>
                    <a:pt x="137" y="57"/>
                  </a:lnTo>
                  <a:lnTo>
                    <a:pt x="135" y="97"/>
                  </a:lnTo>
                  <a:lnTo>
                    <a:pt x="109" y="129"/>
                  </a:lnTo>
                  <a:lnTo>
                    <a:pt x="65" y="145"/>
                  </a:lnTo>
                  <a:lnTo>
                    <a:pt x="27" y="137"/>
                  </a:lnTo>
                  <a:lnTo>
                    <a:pt x="65" y="131"/>
                  </a:lnTo>
                  <a:lnTo>
                    <a:pt x="101" y="110"/>
                  </a:lnTo>
                  <a:lnTo>
                    <a:pt x="109" y="67"/>
                  </a:lnTo>
                  <a:lnTo>
                    <a:pt x="88" y="36"/>
                  </a:lnTo>
                  <a:lnTo>
                    <a:pt x="57" y="29"/>
                  </a:lnTo>
                  <a:lnTo>
                    <a:pt x="27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62920" y="5561640"/>
              <a:ext cx="432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88440" y="4872240"/>
              <a:ext cx="401400" cy="313560"/>
            </a:xfrm>
            <a:custGeom>
              <a:avLst/>
              <a:gdLst/>
              <a:ahLst/>
              <a:rect l="l" t="t" r="r" b="b"/>
              <a:pathLst>
                <a:path w="2347" h="1747">
                  <a:moveTo>
                    <a:pt x="0" y="0"/>
                  </a:moveTo>
                  <a:lnTo>
                    <a:pt x="47" y="111"/>
                  </a:lnTo>
                  <a:lnTo>
                    <a:pt x="36" y="1150"/>
                  </a:lnTo>
                  <a:lnTo>
                    <a:pt x="39" y="1747"/>
                  </a:lnTo>
                  <a:lnTo>
                    <a:pt x="153" y="1709"/>
                  </a:lnTo>
                  <a:lnTo>
                    <a:pt x="174" y="139"/>
                  </a:lnTo>
                  <a:lnTo>
                    <a:pt x="914" y="124"/>
                  </a:lnTo>
                  <a:lnTo>
                    <a:pt x="2280" y="158"/>
                  </a:lnTo>
                  <a:lnTo>
                    <a:pt x="2347" y="107"/>
                  </a:lnTo>
                  <a:lnTo>
                    <a:pt x="1762" y="92"/>
                  </a:lnTo>
                  <a:lnTo>
                    <a:pt x="752" y="67"/>
                  </a:lnTo>
                  <a:lnTo>
                    <a:pt x="102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96360" y="4890960"/>
              <a:ext cx="392400" cy="316440"/>
            </a:xfrm>
            <a:custGeom>
              <a:avLst/>
              <a:gdLst/>
              <a:ahLst/>
              <a:rect l="l" t="t" r="r" b="b"/>
              <a:pathLst>
                <a:path w="2292" h="1764">
                  <a:moveTo>
                    <a:pt x="0" y="1650"/>
                  </a:moveTo>
                  <a:lnTo>
                    <a:pt x="859" y="1696"/>
                  </a:lnTo>
                  <a:lnTo>
                    <a:pt x="2173" y="1713"/>
                  </a:lnTo>
                  <a:lnTo>
                    <a:pt x="2289" y="1764"/>
                  </a:lnTo>
                  <a:lnTo>
                    <a:pt x="2277" y="1696"/>
                  </a:lnTo>
                  <a:lnTo>
                    <a:pt x="2292" y="0"/>
                  </a:lnTo>
                  <a:lnTo>
                    <a:pt x="2197" y="36"/>
                  </a:lnTo>
                  <a:lnTo>
                    <a:pt x="2190" y="1618"/>
                  </a:lnTo>
                  <a:lnTo>
                    <a:pt x="1410" y="1641"/>
                  </a:lnTo>
                  <a:lnTo>
                    <a:pt x="449" y="1610"/>
                  </a:lnTo>
                  <a:lnTo>
                    <a:pt x="72" y="1593"/>
                  </a:lnTo>
                  <a:lnTo>
                    <a:pt x="0" y="1650"/>
                  </a:lnTo>
                  <a:lnTo>
                    <a:pt x="0" y="16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50680" y="5561640"/>
              <a:ext cx="4320" cy="12240"/>
            </a:xfrm>
            <a:custGeom>
              <a:avLst/>
              <a:gdLst/>
              <a:ahLst/>
              <a:rect l="l" t="t" r="r" b="b"/>
              <a:pathLst>
                <a:path w="24" h="70">
                  <a:moveTo>
                    <a:pt x="0" y="0"/>
                  </a:moveTo>
                  <a:lnTo>
                    <a:pt x="1" y="70"/>
                  </a:lnTo>
                  <a:lnTo>
                    <a:pt x="24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38080" y="556128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25840" y="556092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313600" y="55605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" y="73"/>
                  </a:lnTo>
                  <a:lnTo>
                    <a:pt x="25" y="73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01720" y="5560200"/>
              <a:ext cx="360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0" y="72"/>
                  </a:lnTo>
                  <a:lnTo>
                    <a:pt x="23" y="72"/>
                  </a:lnTo>
                  <a:lnTo>
                    <a:pt x="2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89480" y="556020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76880" y="555984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64280" y="555948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52040" y="5559120"/>
              <a:ext cx="3960" cy="1296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0"/>
                  </a:moveTo>
                  <a:lnTo>
                    <a:pt x="1" y="72"/>
                  </a:lnTo>
                  <a:lnTo>
                    <a:pt x="22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39800" y="5559120"/>
              <a:ext cx="432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27200" y="55587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14960" y="55587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" y="72"/>
                  </a:lnTo>
                  <a:lnTo>
                    <a:pt x="25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02720" y="555840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190840" y="555840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178240" y="555840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0"/>
                  </a:moveTo>
                  <a:lnTo>
                    <a:pt x="2" y="71"/>
                  </a:lnTo>
                  <a:lnTo>
                    <a:pt x="23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65640" y="555768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0" y="0"/>
                  </a:moveTo>
                  <a:lnTo>
                    <a:pt x="2" y="73"/>
                  </a:lnTo>
                  <a:lnTo>
                    <a:pt x="23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53400" y="555732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3">
                  <a:moveTo>
                    <a:pt x="0" y="0"/>
                  </a:moveTo>
                  <a:lnTo>
                    <a:pt x="2" y="73"/>
                  </a:lnTo>
                  <a:lnTo>
                    <a:pt x="22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41160" y="5557320"/>
              <a:ext cx="3960" cy="1224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0"/>
                  </a:moveTo>
                  <a:lnTo>
                    <a:pt x="2" y="71"/>
                  </a:lnTo>
                  <a:lnTo>
                    <a:pt x="23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128560" y="55569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16320" y="555660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104080" y="555624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91840" y="555588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1" y="72"/>
                  </a:lnTo>
                  <a:lnTo>
                    <a:pt x="24" y="72"/>
                  </a:lnTo>
                  <a:lnTo>
                    <a:pt x="2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79600" y="555588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67000" y="5555520"/>
              <a:ext cx="396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054760" y="555516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42520" y="555480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29920" y="555480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17680" y="55544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005440" y="555408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" y="73"/>
                  </a:lnTo>
                  <a:lnTo>
                    <a:pt x="25" y="73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993200" y="555408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0"/>
                  </a:moveTo>
                  <a:lnTo>
                    <a:pt x="1" y="73"/>
                  </a:lnTo>
                  <a:lnTo>
                    <a:pt x="24" y="73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980960" y="55540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4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68720" y="5553360"/>
              <a:ext cx="3600" cy="1260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56120" y="555300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943880" y="555264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0"/>
                  </a:moveTo>
                  <a:lnTo>
                    <a:pt x="1" y="72"/>
                  </a:lnTo>
                  <a:lnTo>
                    <a:pt x="22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31640" y="5552280"/>
              <a:ext cx="3960" cy="1296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919040" y="555228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906800" y="555228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894560" y="555228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82320" y="55515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4" y="72"/>
                  </a:lnTo>
                  <a:lnTo>
                    <a:pt x="25" y="72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69720" y="555156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4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57480" y="555156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45240" y="555084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3">
                  <a:moveTo>
                    <a:pt x="0" y="0"/>
                  </a:moveTo>
                  <a:lnTo>
                    <a:pt x="2" y="73"/>
                  </a:lnTo>
                  <a:lnTo>
                    <a:pt x="22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33000" y="555048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0" y="0"/>
                  </a:moveTo>
                  <a:lnTo>
                    <a:pt x="2" y="73"/>
                  </a:lnTo>
                  <a:lnTo>
                    <a:pt x="23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20400" y="55504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08160" y="55504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95920" y="554976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83680" y="55497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" y="72"/>
                  </a:lnTo>
                  <a:lnTo>
                    <a:pt x="25" y="72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764240" y="5431680"/>
              <a:ext cx="627480" cy="144000"/>
            </a:xfrm>
            <a:custGeom>
              <a:avLst/>
              <a:gdLst/>
              <a:ahLst/>
              <a:rect l="l" t="t" r="r" b="b"/>
              <a:pathLst>
                <a:path w="3667" h="802">
                  <a:moveTo>
                    <a:pt x="0" y="616"/>
                  </a:moveTo>
                  <a:lnTo>
                    <a:pt x="3635" y="675"/>
                  </a:lnTo>
                  <a:lnTo>
                    <a:pt x="3616" y="0"/>
                  </a:lnTo>
                  <a:lnTo>
                    <a:pt x="3642" y="15"/>
                  </a:lnTo>
                  <a:lnTo>
                    <a:pt x="3667" y="802"/>
                  </a:lnTo>
                  <a:lnTo>
                    <a:pt x="3623" y="703"/>
                  </a:lnTo>
                  <a:lnTo>
                    <a:pt x="80" y="644"/>
                  </a:lnTo>
                  <a:lnTo>
                    <a:pt x="0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923000" y="4901760"/>
              <a:ext cx="340200" cy="271080"/>
            </a:xfrm>
            <a:custGeom>
              <a:avLst/>
              <a:gdLst/>
              <a:ahLst/>
              <a:rect l="l" t="t" r="r" b="b"/>
              <a:pathLst>
                <a:path w="1988" h="1509">
                  <a:moveTo>
                    <a:pt x="0" y="0"/>
                  </a:moveTo>
                  <a:lnTo>
                    <a:pt x="1988" y="28"/>
                  </a:lnTo>
                  <a:lnTo>
                    <a:pt x="1988" y="1509"/>
                  </a:lnTo>
                  <a:lnTo>
                    <a:pt x="21" y="14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132160" y="5428080"/>
              <a:ext cx="203040" cy="10440"/>
            </a:xfrm>
            <a:custGeom>
              <a:avLst/>
              <a:gdLst/>
              <a:ahLst/>
              <a:rect l="l" t="t" r="r" b="b"/>
              <a:pathLst>
                <a:path w="1186" h="59">
                  <a:moveTo>
                    <a:pt x="0" y="30"/>
                  </a:moveTo>
                  <a:lnTo>
                    <a:pt x="1186" y="59"/>
                  </a:lnTo>
                  <a:lnTo>
                    <a:pt x="1186" y="38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96320" y="5271480"/>
              <a:ext cx="32040" cy="31320"/>
            </a:xfrm>
            <a:custGeom>
              <a:avLst/>
              <a:gdLst/>
              <a:ahLst/>
              <a:rect l="l" t="t" r="r" b="b"/>
              <a:pathLst>
                <a:path w="188" h="175">
                  <a:moveTo>
                    <a:pt x="36" y="38"/>
                  </a:moveTo>
                  <a:lnTo>
                    <a:pt x="0" y="175"/>
                  </a:lnTo>
                  <a:lnTo>
                    <a:pt x="116" y="175"/>
                  </a:lnTo>
                  <a:lnTo>
                    <a:pt x="188" y="0"/>
                  </a:lnTo>
                  <a:lnTo>
                    <a:pt x="36" y="38"/>
                  </a:lnTo>
                  <a:lnTo>
                    <a:pt x="3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191120" y="571968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l 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25800" y="3510000"/>
            <a:ext cx="1067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76920" y="2646360"/>
            <a:ext cx="1892160" cy="863640"/>
          </a:xfrm>
          <a:custGeom>
            <a:avLst/>
            <a:gdLst/>
            <a:ahLst/>
            <a:rect l="l" t="t" r="r" b="b"/>
            <a:pathLst>
              <a:path w="1192" h="544">
                <a:moveTo>
                  <a:pt x="0" y="256"/>
                </a:moveTo>
                <a:cubicBezTo>
                  <a:pt x="40" y="176"/>
                  <a:pt x="80" y="96"/>
                  <a:pt x="192" y="64"/>
                </a:cubicBezTo>
                <a:cubicBezTo>
                  <a:pt x="304" y="32"/>
                  <a:pt x="600" y="0"/>
                  <a:pt x="672" y="64"/>
                </a:cubicBezTo>
                <a:cubicBezTo>
                  <a:pt x="744" y="128"/>
                  <a:pt x="552" y="376"/>
                  <a:pt x="624" y="448"/>
                </a:cubicBezTo>
                <a:cubicBezTo>
                  <a:pt x="696" y="520"/>
                  <a:pt x="1016" y="480"/>
                  <a:pt x="1104" y="496"/>
                </a:cubicBezTo>
                <a:cubicBezTo>
                  <a:pt x="1192" y="512"/>
                  <a:pt x="1172" y="528"/>
                  <a:pt x="1152" y="5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1143000" y="2519280"/>
            <a:ext cx="1055520" cy="1000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492120" y="2976480"/>
            <a:ext cx="3927600" cy="2233800"/>
          </a:xfrm>
          <a:custGeom>
            <a:avLst/>
            <a:gdLst/>
            <a:ahLst/>
            <a:rect l="l" t="t" r="r" b="b"/>
            <a:pathLst>
              <a:path w="2474" h="1407">
                <a:moveTo>
                  <a:pt x="2474" y="0"/>
                </a:moveTo>
                <a:cubicBezTo>
                  <a:pt x="2342" y="100"/>
                  <a:pt x="2210" y="200"/>
                  <a:pt x="1850" y="288"/>
                </a:cubicBezTo>
                <a:cubicBezTo>
                  <a:pt x="1490" y="376"/>
                  <a:pt x="621" y="416"/>
                  <a:pt x="314" y="528"/>
                </a:cubicBezTo>
                <a:cubicBezTo>
                  <a:pt x="7" y="640"/>
                  <a:pt x="0" y="816"/>
                  <a:pt x="5" y="962"/>
                </a:cubicBezTo>
                <a:cubicBezTo>
                  <a:pt x="10" y="1108"/>
                  <a:pt x="272" y="1314"/>
                  <a:pt x="342" y="140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3886200" y="2814480"/>
            <a:ext cx="1143000" cy="5144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5334120" y="1600200"/>
            <a:ext cx="1066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087800" y="1976400"/>
            <a:ext cx="484200" cy="843120"/>
          </a:xfrm>
          <a:custGeom>
            <a:avLst/>
            <a:gdLst/>
            <a:ahLst/>
            <a:rect l="l" t="t" r="r" b="b"/>
            <a:pathLst>
              <a:path w="305" h="531">
                <a:moveTo>
                  <a:pt x="305" y="531"/>
                </a:moveTo>
                <a:cubicBezTo>
                  <a:pt x="245" y="495"/>
                  <a:pt x="164" y="451"/>
                  <a:pt x="113" y="387"/>
                </a:cubicBezTo>
                <a:cubicBezTo>
                  <a:pt x="62" y="323"/>
                  <a:pt x="2" y="208"/>
                  <a:pt x="1" y="146"/>
                </a:cubicBezTo>
                <a:cubicBezTo>
                  <a:pt x="0" y="84"/>
                  <a:pt x="58" y="32"/>
                  <a:pt x="109" y="16"/>
                </a:cubicBezTo>
                <a:cubicBezTo>
                  <a:pt x="160" y="0"/>
                  <a:pt x="264" y="44"/>
                  <a:pt x="305" y="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1078-C42B-490B-8CA5-0934F9BE66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plit Access Databas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514600" y="1600200"/>
            <a:ext cx="1392120" cy="8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638440" y="2971800"/>
            <a:ext cx="1143000" cy="8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38080" y="1600200"/>
            <a:ext cx="1143000" cy="8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38080" y="2971800"/>
            <a:ext cx="1143000" cy="8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38080" y="4343400"/>
            <a:ext cx="1143000" cy="8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"/>
          <p:cNvCxnSpPr>
            <a:stCxn id="459" idx="2"/>
            <a:endCxn id="460" idx="0"/>
          </p:cNvCxnSpPr>
          <p:nvPr/>
        </p:nvCxnSpPr>
        <p:spPr>
          <a:xfrm flipH="1">
            <a:off x="3209040" y="2436840"/>
            <a:ext cx="252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5" name=""/>
          <p:cNvCxnSpPr>
            <a:stCxn id="461" idx="2"/>
            <a:endCxn id="462" idx="0"/>
          </p:cNvCxnSpPr>
          <p:nvPr/>
        </p:nvCxnSpPr>
        <p:spPr>
          <a:xfrm>
            <a:off x="1409400" y="2436840"/>
            <a:ext cx="108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6" name=""/>
          <p:cNvCxnSpPr>
            <a:stCxn id="462" idx="2"/>
            <a:endCxn id="463" idx="0"/>
          </p:cNvCxnSpPr>
          <p:nvPr/>
        </p:nvCxnSpPr>
        <p:spPr>
          <a:xfrm>
            <a:off x="1409400" y="3808440"/>
            <a:ext cx="108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7" name=""/>
          <p:cNvCxnSpPr>
            <a:stCxn id="460" idx="2"/>
            <a:endCxn id="463" idx="3"/>
          </p:cNvCxnSpPr>
          <p:nvPr/>
        </p:nvCxnSpPr>
        <p:spPr>
          <a:xfrm rot="5400000">
            <a:off x="2117520" y="3670920"/>
            <a:ext cx="954720" cy="1229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8" name=""/>
          <p:cNvSpPr/>
          <p:nvPr/>
        </p:nvSpPr>
        <p:spPr>
          <a:xfrm>
            <a:off x="5638680" y="2590920"/>
            <a:ext cx="175284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174720" y="26668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625000" y="293220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23920" y="361800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U  Qty 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638680" y="4038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638680" y="41911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638680" y="4343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562720" y="5410080"/>
            <a:ext cx="2057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s, Queries, Reports,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38080" y="5410080"/>
            <a:ext cx="16765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 and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0" y="1447920"/>
            <a:ext cx="0" cy="457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581280" y="1917720"/>
            <a:ext cx="2895840" cy="1054080"/>
          </a:xfrm>
          <a:custGeom>
            <a:avLst/>
            <a:gdLst/>
            <a:ahLst/>
            <a:rect l="l" t="t" r="r" b="b"/>
            <a:pathLst>
              <a:path w="1824" h="664">
                <a:moveTo>
                  <a:pt x="1824" y="424"/>
                </a:moveTo>
                <a:cubicBezTo>
                  <a:pt x="1592" y="212"/>
                  <a:pt x="1360" y="0"/>
                  <a:pt x="1056" y="40"/>
                </a:cubicBezTo>
                <a:cubicBezTo>
                  <a:pt x="752" y="80"/>
                  <a:pt x="376" y="372"/>
                  <a:pt x="0" y="664"/>
                </a:cubicBezTo>
              </a:path>
            </a:pathLst>
          </a:custGeom>
          <a:noFill/>
          <a:ln w="9360">
            <a:solidFill>
              <a:srgbClr val="ff3300"/>
            </a:solidFill>
            <a:prstDash val="dash"/>
            <a:round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1930320"/>
            <a:ext cx="4496040" cy="2641680"/>
          </a:xfrm>
          <a:custGeom>
            <a:avLst/>
            <a:gdLst/>
            <a:ahLst/>
            <a:rect l="l" t="t" r="r" b="b"/>
            <a:pathLst>
              <a:path w="2832" h="1664">
                <a:moveTo>
                  <a:pt x="2832" y="416"/>
                </a:moveTo>
                <a:cubicBezTo>
                  <a:pt x="2568" y="208"/>
                  <a:pt x="2304" y="0"/>
                  <a:pt x="2064" y="128"/>
                </a:cubicBezTo>
                <a:cubicBezTo>
                  <a:pt x="1824" y="256"/>
                  <a:pt x="1736" y="928"/>
                  <a:pt x="1392" y="1184"/>
                </a:cubicBezTo>
                <a:cubicBezTo>
                  <a:pt x="1048" y="1440"/>
                  <a:pt x="524" y="1552"/>
                  <a:pt x="0" y="1664"/>
                </a:cubicBezTo>
              </a:path>
            </a:pathLst>
          </a:custGeom>
          <a:noFill/>
          <a:ln w="9360">
            <a:solidFill>
              <a:srgbClr val="ff3300"/>
            </a:solidFill>
            <a:prstDash val="dash"/>
            <a:round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022440" y="18288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inks to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1007-B6DE-4089-8F13-84582B4763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523880" y="2133720"/>
            <a:ext cx="6172200" cy="14475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ools/Database Utilities/Database Spl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name and location for the back-end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the contents of the two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DA65-26B6-4E0C-BEF2-14B248604A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3581640" cy="294804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plit Databas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38080" y="5094360"/>
            <a:ext cx="28195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-end database: tables and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800600" y="5094360"/>
            <a:ext cx="35053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database: Links to back-end t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all forms and rep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5333760" y="4114800"/>
            <a:ext cx="53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3809880" cy="289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0DEE-D8E7-4E3E-B6D7-B272B6462E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3328920" y="1612800"/>
            <a:ext cx="5357880" cy="440712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Moving a Linked Database: Linked Table Manage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1600200"/>
            <a:ext cx="28195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move a back-end database, you will have to re-link th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09480" y="2819520"/>
            <a:ext cx="25909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on the linked tables, select Linked Table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320040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09480" y="4114800"/>
            <a:ext cx="259092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ll of the tables, click the OK button and you will be promoted for the new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3200400" y="434304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F043-FCDC-49E0-A239-060B1E5434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90720" y="1905120"/>
            <a:ext cx="7086600" cy="19810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ools/Replication/Create Rep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change to a customer name in the master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new customer in the rep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master database, choose Tools/Replication/Synchronize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at both databases now contain the sam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6A53-7D99-4D99-8A70-4D72282309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3809880" y="1854360"/>
            <a:ext cx="4248360" cy="363204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a Replic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838080" y="3809880"/>
            <a:ext cx="1981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on to indicate table is repl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2819520" y="3885840"/>
            <a:ext cx="2209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3520" y="1600200"/>
            <a:ext cx="304776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/Replication/Create Replica creates two tables: Master and Rep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71E7-6764-4F13-88AB-2F5F7F080E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ify the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533520" y="1447920"/>
          <a:ext cx="5518080" cy="1825560"/>
        </p:xfrm>
        <a:graphic>
          <a:graphicData uri="http://schemas.openxmlformats.org/drawingml/2006/table">
            <a:tbl>
              <a:tblPr/>
              <a:tblGrid>
                <a:gridCol w="1447560"/>
                <a:gridCol w="1225440"/>
                <a:gridCol w="1238400"/>
                <a:gridCol w="160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t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ne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-222-3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ch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-444-9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-724-60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6210360" y="1676520"/>
            <a:ext cx="1981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533520" y="3809880"/>
          <a:ext cx="5524560" cy="2190600"/>
        </p:xfrm>
        <a:graphic>
          <a:graphicData uri="http://schemas.openxmlformats.org/drawingml/2006/table">
            <a:tbl>
              <a:tblPr/>
              <a:tblGrid>
                <a:gridCol w="1454400"/>
                <a:gridCol w="1225440"/>
                <a:gridCol w="1238400"/>
                <a:gridCol w="1606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t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-222-3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ch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-444-9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-724-60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42435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-333-4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7" name=""/>
          <p:cNvSpPr/>
          <p:nvPr/>
        </p:nvSpPr>
        <p:spPr>
          <a:xfrm>
            <a:off x="6210360" y="4267080"/>
            <a:ext cx="1981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210360" y="2824200"/>
            <a:ext cx="1981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a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210360" y="5334120"/>
            <a:ext cx="23241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new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4038120" y="5486400"/>
            <a:ext cx="2133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2895480" y="2057400"/>
            <a:ext cx="3276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D71F-50F0-43C3-A20C-10E10C052C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1T18:13:32Z</dcterms:modified>
  <cp:revision>86</cp:revision>
  <dc:subject/>
  <dc:title>All Powder Board and Ski</dc:title>
</cp:coreProperties>
</file>