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227-ABC0-44BD-936E-EB0DAEE1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5DF-8BE2-4056-BE49-FAE2E105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466-62AA-4404-AB65-2750FBDE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C38-442D-4DA7-BB77-A4D28801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088A-F791-4B2F-864D-ED7DF1EA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4482-7403-4849-BF91-FAAC454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8A3-AF7A-42D6-881B-F8174C6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C110-D2F5-49C4-8E2C-2A1A13D1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39A-2575-45DC-AAAF-DB6D99E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1BE-C270-44E2-8148-E31D3A3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D5CC-3404-4B64-9BF3-4E848031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BAA-11EF-4CAF-AC3F-A2AADCB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D4AB-4C20-4654-8DCF-15203AB3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F6E2-2B81-4EA7-9FD2-6617B53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31E-B7B7-4FDD-8D29-1D33CE9A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AB5A-1AD8-46A5-A0B3-70A798A3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F22-DDD7-4FB9-975F-9176B398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899-66E0-4187-8C30-E0C3232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ECC-B590-4F22-BD8D-A468607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F7F-2DCB-494C-80E0-6D11F80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BC2-F6DC-4374-988E-1CE062A2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F52-CC6E-4FF1-81D2-BF56349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377-C0AF-4234-B12F-775FFF8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92A-B367-476E-8076-C858C96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DB5-150E-436F-9C1A-B84AEC474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563-41BF-40B4-8A1C-F13858909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E1C1-A28E-4DC9-9F4A-480931C4F1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12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81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960" y="1881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620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0600" y="229248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720" y="1881360"/>
            <a:ext cx="114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Re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881360"/>
            <a:ext cx="12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360" y="1881360"/>
            <a:ext cx="12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29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988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8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8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0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80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10080" y="2298600"/>
            <a:ext cx="81252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9920" y="23684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920" y="25210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79920" y="26733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0800" y="23684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0800" y="25970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188136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4836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820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820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820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990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99080" y="2597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7640" y="1881360"/>
            <a:ext cx="14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15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91360" y="237492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84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84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66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6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5234040"/>
            <a:ext cx="10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560" y="5234040"/>
            <a:ext cx="15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De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5160" y="5234040"/>
            <a:ext cx="11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U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81480" y="5651640"/>
            <a:ext cx="8125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51320" y="57214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1320" y="58737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1320" y="60260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32200" y="57214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32200" y="59500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74800" y="564516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523404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4836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820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820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820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9908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99080" y="5950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520" y="52340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1504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91360" y="572760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488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8488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6120" y="57214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6120" y="59500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30840" y="12952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3718080"/>
            <a:ext cx="131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1400" y="3718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2520" y="1752480"/>
            <a:ext cx="563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58480" y="50292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9600" y="4624560"/>
            <a:ext cx="15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ng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936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1295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46640" y="3024360"/>
            <a:ext cx="2465280" cy="1984320"/>
          </a:xfrm>
          <a:custGeom>
            <a:avLst/>
            <a:gdLst/>
            <a:ahLst/>
            <a:rect l="l" t="t" r="r" b="b"/>
            <a:pathLst>
              <a:path w="1553" h="1250">
                <a:moveTo>
                  <a:pt x="1553" y="1231"/>
                </a:moveTo>
                <a:cubicBezTo>
                  <a:pt x="1409" y="1230"/>
                  <a:pt x="897" y="1250"/>
                  <a:pt x="689" y="1215"/>
                </a:cubicBezTo>
                <a:cubicBezTo>
                  <a:pt x="481" y="1180"/>
                  <a:pt x="420" y="1140"/>
                  <a:pt x="305" y="1023"/>
                </a:cubicBezTo>
                <a:cubicBezTo>
                  <a:pt x="190" y="906"/>
                  <a:pt x="0" y="666"/>
                  <a:pt x="1" y="511"/>
                </a:cubicBezTo>
                <a:cubicBezTo>
                  <a:pt x="2" y="356"/>
                  <a:pt x="166" y="178"/>
                  <a:pt x="313" y="95"/>
                </a:cubicBezTo>
                <a:cubicBezTo>
                  <a:pt x="460" y="12"/>
                  <a:pt x="681" y="30"/>
                  <a:pt x="881" y="15"/>
                </a:cubicBezTo>
                <a:cubicBezTo>
                  <a:pt x="1081" y="0"/>
                  <a:pt x="1381" y="9"/>
                  <a:pt x="1513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9144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CE9-4567-4B07-A600-14C3D3557D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Control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4382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8954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3526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8098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242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51814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34080" y="239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33720" y="28954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35160" y="32767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: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337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35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4800" y="5105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4156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388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12200" y="1981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6240" y="1981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2670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34440" y="41911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65280" y="2944800"/>
            <a:ext cx="75960" cy="228600"/>
            <a:chOff x="2465280" y="2944800"/>
            <a:chExt cx="75960" cy="228600"/>
          </a:xfrm>
        </p:grpSpPr>
        <p:sp>
          <p:nvSpPr>
            <p:cNvPr id="229" name=""/>
            <p:cNvSpPr/>
            <p:nvPr/>
          </p:nvSpPr>
          <p:spPr>
            <a:xfrm>
              <a:off x="2498400" y="294480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280" y="29448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5280" y="31734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706840" y="3394080"/>
            <a:ext cx="75960" cy="228600"/>
            <a:chOff x="2706840" y="3394080"/>
            <a:chExt cx="75960" cy="228600"/>
          </a:xfrm>
        </p:grpSpPr>
        <p:sp>
          <p:nvSpPr>
            <p:cNvPr id="233" name=""/>
            <p:cNvSpPr/>
            <p:nvPr/>
          </p:nvSpPr>
          <p:spPr>
            <a:xfrm>
              <a:off x="2739960" y="339408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06840" y="33940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06840" y="36226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F88-310B-4DC1-BB69-B84B7ACE9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057400"/>
            <a:ext cx="480060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QOH box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AfterUpd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refresh the row and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E30-7460-4634-9716-0D0DBC2E6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rst Attempt: QOH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15238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QuantitySold_AfterUp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Refre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 Save data for n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286600" cy="30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9E3-D864-44DD-8D58-E814742EF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727-B10E-4B94-B331-C1F2DA2D5A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94000" y="2592360"/>
            <a:ext cx="1384560" cy="78552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50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2840" y="255096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KU 950049, Qua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9640" y="26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40160" y="21700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SKU 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920" y="35193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KU to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070000"/>
            <a:ext cx="4343400" cy="520920"/>
          </a:xfrm>
          <a:custGeom>
            <a:avLst/>
            <a:gdLst/>
            <a:ahLst/>
            <a:rect l="l" t="t" r="r" b="b"/>
            <a:pathLst>
              <a:path w="2736" h="328">
                <a:moveTo>
                  <a:pt x="0" y="328"/>
                </a:moveTo>
                <a:cubicBezTo>
                  <a:pt x="108" y="232"/>
                  <a:pt x="216" y="136"/>
                  <a:pt x="624" y="88"/>
                </a:cubicBezTo>
                <a:cubicBezTo>
                  <a:pt x="1032" y="40"/>
                  <a:pt x="2160" y="0"/>
                  <a:pt x="2448" y="40"/>
                </a:cubicBezTo>
                <a:cubicBezTo>
                  <a:pt x="2736" y="80"/>
                  <a:pt x="2544" y="204"/>
                  <a:pt x="2352" y="3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952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25909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3048120"/>
            <a:ext cx="5105520" cy="1307880"/>
          </a:xfrm>
          <a:custGeom>
            <a:avLst/>
            <a:gdLst/>
            <a:ahLst/>
            <a:rect l="l" t="t" r="r" b="b"/>
            <a:pathLst>
              <a:path w="3216" h="824">
                <a:moveTo>
                  <a:pt x="0" y="432"/>
                </a:moveTo>
                <a:cubicBezTo>
                  <a:pt x="472" y="620"/>
                  <a:pt x="944" y="808"/>
                  <a:pt x="1440" y="816"/>
                </a:cubicBezTo>
                <a:cubicBezTo>
                  <a:pt x="1936" y="824"/>
                  <a:pt x="2736" y="616"/>
                  <a:pt x="2976" y="480"/>
                </a:cubicBezTo>
                <a:cubicBezTo>
                  <a:pt x="3216" y="344"/>
                  <a:pt x="3048" y="172"/>
                  <a:pt x="28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3352680"/>
            <a:ext cx="1092240" cy="762120"/>
          </a:xfrm>
          <a:custGeom>
            <a:avLst/>
            <a:gdLst/>
            <a:ahLst/>
            <a:rect l="l" t="t" r="r" b="b"/>
            <a:pathLst>
              <a:path w="688" h="480">
                <a:moveTo>
                  <a:pt x="0" y="480"/>
                </a:moveTo>
                <a:cubicBezTo>
                  <a:pt x="280" y="424"/>
                  <a:pt x="560" y="368"/>
                  <a:pt x="624" y="288"/>
                </a:cubicBezTo>
                <a:cubicBezTo>
                  <a:pt x="688" y="208"/>
                  <a:pt x="536" y="104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380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58720" y="2627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68760" y="3868560"/>
            <a:ext cx="220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 back to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FFF-125E-4430-9D19-D9BBCC438F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: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523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enters original SKU (950049)  an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tracts QuantitySold from QuantityOnHand (10 - 2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changes SKU to new value (9500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row becomes set for 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ubtract QuantitySold from QuantityOnHand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 QuantitySold back into QuantityOnHand for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4191120"/>
            <a:ext cx="457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boSKU_En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sNull(cboSKU.Value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cboSKU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B08-D24C-4109-A7E2-D070291DA7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057400"/>
            <a:ext cx="731520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d modify the code as specified to handle changes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DDC-B879-414E-BCF2-8EA17E4DC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U Changes: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327320"/>
            <a:ext cx="7238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boSKU_Ent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cboSKU.Value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cbo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boSKU_After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ldSKU &lt;&gt; "-1" And Not IsNull(QuantitySold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QuantitySold &amp; " WHERE SKU='" &amp; OldSKU &amp; "'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703-9387-4C36-BC4F-395F51529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353240"/>
            <a:ext cx="7085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Quantity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SKU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nDel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Delete(Cancel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cboSKU.Value) Or IsNull(QuantitySold) Then 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nDel = 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Quantity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SKU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SKU(nDel) = cbo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Quantity(nDel) =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nDel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AfterDelConfirm(Status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i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0 To nDel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OneRow DelSKU(i), DelQuantit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729-93E3-42E5-B2D7-61055B6B08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5753160" cy="3943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8520" y="59436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igure 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9920" y="4572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77B-0EBB-4DCA-AFB6-00343C40F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0574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DeleteOneRow(ByVal SKU As String, ByVal Qty As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Qty &amp; " 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A75-754D-4AD1-AC3E-FB7F65D5C1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057400"/>
            <a:ext cx="62481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ldSKU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KU event code as d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in the code before the Execu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 by changing an SKU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ql line before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code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ultiple changes to validate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4B7-6E2F-4856-8AB6-1223C2C6AD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865320" cy="4114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155-E56F-438A-9EF3-F03B85F06A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00200" y="1681200"/>
            <a:ext cx="5638680" cy="34956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3876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629400" y="4038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261-8D13-4E63-884B-2F7B3C4C3F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2133720"/>
            <a:ext cx="533376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open code a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CFA-55D1-4F72-AC18-D88229E663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48120" y="1743120"/>
            <a:ext cx="4038480" cy="244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133720"/>
            <a:ext cx="17528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filled in by code on 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962520"/>
            <a:ext cx="17528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fault value is set to =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89548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62320" y="281916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445464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from design view with no Recor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B45-F48D-4E61-B1EA-F1BA8DC097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2209680"/>
            <a:ext cx="5181840" cy="1371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 click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9AE-333B-46CE-95F7-BF25FD40A6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rror GoTo Err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DocName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LinkCriteria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ocName = "GiveRentDis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stDocName, , , stLink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RentID = 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DiscountAmount = SubTotal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Box Err.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FA3-F33F-4DA7-AE5F-64C009EADF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905120"/>
            <a:ext cx="8381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1 As String, SQL2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1 = "UPDATE RentItem SET RepairCharges=0 WHERE RentID=" &amp; txtRe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2 = "INSERT INTO RentalDiscount (RentID, DiscountDate, DiscountAmount, Reason)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VALUES (" &amp; txtRentID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#" &amp; txtDiscountDate &amp; "#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" &amp; txtDiscountAmount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'" &amp; txtReason &amp; "'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83D-300B-4338-940E-2AF5FF1572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 Continu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60020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rror GoTo Err_Discoun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Begin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Commi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"Changes recorded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_DiscountTra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Rollback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Err.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 Exi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7FD-F076-4499-AF19-A95CECDA91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86000"/>
            <a:ext cx="441936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op add: Option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unction Compute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ug/Compile to fi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F07-E669-4D07-9185-664240D43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1981080"/>
            <a:ext cx="617220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SaleWeek: 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Value: [QuantitySold]*[SalePric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F12-AAB5-4414-BA05-884DF45589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971720" y="1857240"/>
            <a:ext cx="5200560" cy="3143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93920" y="5110200"/>
            <a:ext cx="3149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733920" y="38905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5CA-A4E0-41E2-9951-EC8D596E19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617220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named txt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nd step through the code as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6D5-7984-418C-855A-B9B38712AD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705040" y="2338560"/>
            <a:ext cx="3733920" cy="21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1A2-B749-4CCF-B5E2-54E9A60650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2952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SELECT SaleWeek, [Value] FROM qryWeeklySa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urrentProject.Connectio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avg1 As Double, n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prior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Until rst.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prior &gt; 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= avg1 + (rst("Value") - prior) /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rst("Valu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Move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txtAverage = avg1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3048120"/>
            <a:ext cx="3581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tatement 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7242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6576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47760" y="3962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44956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419720" y="44197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5334120"/>
            <a:ext cx="2895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24080" y="5257800"/>
            <a:ext cx="2895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89F-A05E-4D33-955C-2F26EF4E35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BD7-19BF-4CE8-9202-DE4E8611FF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1828800"/>
            <a:ext cx="579132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198-A256-42A6-925D-F511D5E3B4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600360" cy="2305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1943280"/>
            <a:ext cx="34290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038480" y="255276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5527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191120" y="255276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04B-FEBF-4915-B8A0-EB2D1A6096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3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Sale As String, sqlItem As String, sqlSaleItem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 As ADODB.Recordset, rstModel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Item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Model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Item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 = "SELECT SaleID, CustomerID, EmployeeID, SaleDate FROM Sa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Item = "SELECT ModelID, ListPrice FROM Inventory INNER JOIN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ON Inventory.ModelID = ItemModel.ModelID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Item = "SELECT SaleID, SKU, SalePrice, QuantitySold FROM SaleIte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nn As ADODB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n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AF2-5C69-4984-BC47-A43A68F12A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600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Get the List Price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Open sqlmodel, cn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ListPric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Price = rstModel("ListPric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Open the Sale table and create a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Open sqlSale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aleID A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Add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SaleDate") =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CustomerID") =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EmployeeID") = 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ID = rstSale("SaleI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7C8-7D97-4A15-9910-309A27D619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38400" y="1428840"/>
            <a:ext cx="683892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ccess Code Mo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05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66680" y="38671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581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29200" y="19620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3561840"/>
            <a:ext cx="2667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08644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105520" y="462924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2CC-EEE8-425E-8D05-CBC60960A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905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dd the SKU to the SaleItem table using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Open sqlSaleItem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tSaleItem("SaleID")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KU") =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alePrice") =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QuantitySold"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tSaleID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E66-DF77-46B3-B346-23BBBEECAA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905120"/>
            <a:ext cx="5562720" cy="1904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 to select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A40-1858-40FF-947C-979F3665F7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3924360" cy="2181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34290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 to select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657600" y="32004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463-8ECF-4213-94E2-F240E38DC6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2057400"/>
            <a:ext cx="624852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ustomerLocks form as a datasheet into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 ZIP Code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the new form and run it for the sam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 and press the Tab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C65-1B85-466A-AF50-863E0B1E59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62160" y="2138400"/>
            <a:ext cx="3019680" cy="258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8B5-1F46-4B45-BD72-DBDA817922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629080" y="1371600"/>
            <a:ext cx="3924000" cy="47530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timistic Lock on th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289548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32004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952520" y="2209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876920" y="2362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95252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37339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back here and Tab out of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5867280" y="41144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50292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590920" y="50292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54B-5C7B-43F7-ABDE-4F0E4B50A5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1981080"/>
            <a:ext cx="54864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 on the change form and add the specified error-handl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Locks form in Design view and set the Record Locks property to Edited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bo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ZIP Code in Customer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in the change form for the sam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C8A-FD99-4DCA-8B53-917ACC72DA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886120" y="1523880"/>
            <a:ext cx="3286080" cy="45388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ssimistic Lock on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396252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4191120"/>
            <a:ext cx="2133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800600" y="22856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80060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2438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35268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257800" y="3733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7F7-2641-4298-AEA2-991E69FB88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ndle Optimistic Locks i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60020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("ZIP") = 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MsgBox(Err.Description, vbRetryCancel) = vbCance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NewZipCode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Re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Retry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5F9-AF13-478C-8A68-93BAF8D6E1E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981080"/>
            <a:ext cx="655344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Build Code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line: SalesTax = ComputeSalesTax(Sub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2D1-BA90-4FF9-AF2E-93A580E59E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195960" cy="4443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952880"/>
            <a:ext cx="1904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25744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28195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0960" y="266652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1120" y="304812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9211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181120" y="3962520"/>
            <a:ext cx="16765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37D-879D-436B-ACE4-5F2D9C72D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1000" y="1663560"/>
            <a:ext cx="6486480" cy="405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7242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 break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86000" y="4723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2952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8 to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267080" y="15238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105520"/>
            <a:ext cx="2666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the cursor over a variable to see its curr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62520" y="48002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93E-C287-4607-8740-DCF367341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2133720"/>
            <a:ext cx="50292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orm properties and modify the Record Source query to add the QuantityOnHan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uantityOnHand onto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improve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70E-CFFA-451C-80D0-4970DB952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833480"/>
            <a:ext cx="5572080" cy="4262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ing QuantityOnHand to Sub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66688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29718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81080" y="220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6002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query to ad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866920" y="1905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40384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OH from Field List box on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48520" y="3809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00600" y="43434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085-FB77-4479-813B-C566A9A739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8:40Z</dcterms:modified>
  <cp:revision>60</cp:revision>
  <dc:subject/>
  <dc:title>All Powder Board and Ski</dc:title>
</cp:coreProperties>
</file>