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14.jpeg" ContentType="image/jpe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8D11D-6EF1-443C-8AAF-D648EE5DA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0740A-B2A3-4587-A6C4-26CA8CC1D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58FBD-8979-4F57-863A-CC6C3BC9F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0B82D-D14A-4941-9F71-27B362835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328F3-3E8F-4F79-965E-B91CEBBF8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A05B3-084A-4C46-B996-86C339CD2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6C835-FA25-4F78-B168-67B131CE4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1725F-7722-4877-A393-483A346EB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758D0-7A42-42D9-BE11-16D75E8F5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0633D-EF57-4C65-8FAD-94BFECDFF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26769-17FF-492A-90F3-6C527BA82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1058F-6380-4642-A679-C73934B4C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5F254-D7D5-4085-B0CE-DB7EC2135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86E0B-9D69-408B-AA24-6714B315B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841D2-2A75-4572-9144-B21E5B220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B4B4D-6679-41B7-ACA9-36E0DAC45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2A5D0-7047-4E87-AF2D-DB33442A6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1FE91-1295-49ED-9233-20A733D50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52A17-4696-4DB5-9701-483EDE9F9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0E8D3-ADAD-4EA1-9724-E7FB54FF7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A8D79-8E91-4866-BCF7-44E8B7CEB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868CC-CF08-4536-8FE3-2861DF1B7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77A5D-F82A-49E2-BD91-9443AAE29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7077F-581E-4C1E-8A0A-3887E2B0B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D608C-51C2-4AAB-9C96-34105F4454D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EDF26-2A83-46A8-891A-143262272FC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All Powder Board and Ski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crosoft Access Workbo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pter 8: Ap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rry P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pyright ©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04BC2-5C40-4FCF-BEC1-43651D7D34E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133720" y="1905120"/>
            <a:ext cx="4952880" cy="304776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7960" indent="-237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7960" indent="-237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oose View/Toolbars/Customi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7960" indent="-237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the Toolbars tab create a new toolb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7960" indent="-237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he Commands ta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7960" indent="-237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ag the main form icon onto the toolb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7960" indent="-237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 Customers menu option and drag the customer forms and reports onto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7960" indent="-237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the Help ic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7960" indent="-237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the toolb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A33E6-7E00-47DA-89BB-6C3F4D06C0B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HTML Help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57200" y="3807360"/>
            <a:ext cx="1600200" cy="16200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370240" y="2059200"/>
            <a:ext cx="1701720" cy="785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lp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Powder.ch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095880" y="2116800"/>
            <a:ext cx="914400" cy="6426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ML Topi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95880" y="3204360"/>
            <a:ext cx="914400" cy="6426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ML Topi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095880" y="4271040"/>
            <a:ext cx="914400" cy="6426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ML Topi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315200" y="2116800"/>
            <a:ext cx="914400" cy="6426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ML Topi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315200" y="3204360"/>
            <a:ext cx="914400" cy="6426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ML Topi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315200" y="4271040"/>
            <a:ext cx="914400" cy="6426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ML To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838080" y="4923000"/>
            <a:ext cx="2667240" cy="1078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perti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lp File: AllPowder.ch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lp Context ID: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350240" y="3205080"/>
            <a:ext cx="1157760" cy="173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Topic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Topic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 Topic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 Topic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 Topic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 Topic 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5486400" y="2590920"/>
            <a:ext cx="60948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5562720" y="3428640"/>
            <a:ext cx="5331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86400" y="3962520"/>
            <a:ext cx="6858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875040" y="1225440"/>
            <a:ext cx="4749840" cy="4683240"/>
          </a:xfrm>
          <a:custGeom>
            <a:avLst/>
            <a:gdLst/>
            <a:ahLst/>
            <a:rect l="l" t="t" r="r" b="b"/>
            <a:pathLst>
              <a:path w="2992" h="2950">
                <a:moveTo>
                  <a:pt x="1554" y="340"/>
                </a:moveTo>
                <a:cubicBezTo>
                  <a:pt x="1154" y="445"/>
                  <a:pt x="621" y="717"/>
                  <a:pt x="375" y="996"/>
                </a:cubicBezTo>
                <a:cubicBezTo>
                  <a:pt x="129" y="1275"/>
                  <a:pt x="0" y="1707"/>
                  <a:pt x="79" y="2012"/>
                </a:cubicBezTo>
                <a:cubicBezTo>
                  <a:pt x="158" y="2317"/>
                  <a:pt x="415" y="2740"/>
                  <a:pt x="847" y="2828"/>
                </a:cubicBezTo>
                <a:cubicBezTo>
                  <a:pt x="1279" y="2916"/>
                  <a:pt x="2350" y="2950"/>
                  <a:pt x="2671" y="2540"/>
                </a:cubicBezTo>
                <a:cubicBezTo>
                  <a:pt x="2992" y="2130"/>
                  <a:pt x="2959" y="734"/>
                  <a:pt x="2773" y="367"/>
                </a:cubicBezTo>
                <a:cubicBezTo>
                  <a:pt x="2587" y="0"/>
                  <a:pt x="1933" y="237"/>
                  <a:pt x="1554" y="34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2209680" y="2819160"/>
            <a:ext cx="1219320" cy="251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194000" y="1905120"/>
            <a:ext cx="96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4114800" y="2286000"/>
            <a:ext cx="99072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9EB32-ABBC-45A2-A453-AEBB2D95152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HTML Help Fil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838080" y="1371600"/>
            <a:ext cx="716292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Object type="application/x-oleobject"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assid="clsid:1e2a7bd0-dab9-11d0-b93a-00c04fc99f9e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PARAM name="Keyword" value="Contents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PARAM name="Keyword" value="Introduction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PARAM name="Keyword" value="Start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PARAM name="Keyword" value="Management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/OBJECT&gt;&lt;HTML&gt;&lt;HEAD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TITLE&gt;All Powder Board and Ski Shop&lt;/TITL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LINK rel="stylesheet" type="text/css" href="Styles.css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/HEAD&gt;&lt;BODY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H1&gt;Introduction to the All Powder Board and Ski Shop&lt;/H1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TABLE&gt;&lt;TR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TD&gt;&lt;IMG SRC='BoardLogo1.gif' border='0'&gt;&lt;/TD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TD&gt;All Powder Board and Ski Shop sells and rents snowboards and skis for all levels of riders and skiers.&lt;/TD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/TR&gt;&lt;/TABL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H2&gt;The Board and Ski Shop&lt;/H2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UL&gt;&lt;LI&gt;&lt;A HREF=’Customers.html'&gt;Customers&lt;/A&gt;&lt;/LI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LI&gt;&lt;A HREF=’Sales.html'&gt;Sales &lt;/A&gt;&lt;/LI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/UL&gt;&lt;/BODY&gt;&lt;/HTML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A0E5C-CF6C-46B5-8C78-DC665E33017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1600200"/>
            <a:ext cx="7238880" cy="373392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7960" indent="-237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7960" indent="-237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at least three HTML help files for the All Powder forms using an HTML editor or Wordp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7960" indent="-237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necessary, download and install the HTML Help worksh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7960" indent="-237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a new project in the worksh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7960" indent="-237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the HTML 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7960" indent="-237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 the HTML files to add key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7960" indent="-237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the mapping file with a text editor and add it to the pro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7960" indent="-237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project options to build the TOC and index 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7960" indent="-237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ile and test the help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7960" indent="-237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 the database forms and add the help file name and Content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7960" indent="-237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n the form and press the F1 key to test the help 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DB9FC-7602-44CB-8A5E-053BD9A6C1D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opics Map Fil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981080" y="2057400"/>
            <a:ext cx="4572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2679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define AllPowd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679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define Customer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679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define Sal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1E787-55A2-435D-A88C-CFA74EAF918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Help Compiler and Fil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1077840" y="1600200"/>
            <a:ext cx="698652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54D2C-FA21-4C4B-9324-1FBB026E0CB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233440" y="1542960"/>
            <a:ext cx="4624560" cy="455292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Help File on Access Form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781680" y="4133880"/>
            <a:ext cx="144792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e 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4572000" y="4362480"/>
            <a:ext cx="220968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781680" y="4971960"/>
            <a:ext cx="167652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pic 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343040" y="5200560"/>
            <a:ext cx="24382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E9793-4849-4290-9EA2-AE4AC048CA0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eploying Application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762120" y="1752480"/>
            <a:ext cx="1795320" cy="272736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4952880" y="2209680"/>
            <a:ext cx="1503360" cy="120348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698760" y="4608360"/>
            <a:ext cx="168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eloper 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727880" y="3429000"/>
            <a:ext cx="191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ication us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514600" y="3209760"/>
            <a:ext cx="2779560" cy="1032120"/>
          </a:xfrm>
          <a:custGeom>
            <a:avLst/>
            <a:gdLst/>
            <a:ahLst/>
            <a:rect l="l" t="t" r="r" b="b"/>
            <a:pathLst>
              <a:path w="1751" h="650">
                <a:moveTo>
                  <a:pt x="0" y="570"/>
                </a:moveTo>
                <a:cubicBezTo>
                  <a:pt x="260" y="610"/>
                  <a:pt x="520" y="650"/>
                  <a:pt x="672" y="570"/>
                </a:cubicBezTo>
                <a:cubicBezTo>
                  <a:pt x="824" y="490"/>
                  <a:pt x="732" y="180"/>
                  <a:pt x="912" y="90"/>
                </a:cubicBezTo>
                <a:cubicBezTo>
                  <a:pt x="1092" y="0"/>
                  <a:pt x="1576" y="43"/>
                  <a:pt x="1751" y="3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899080" y="4191120"/>
            <a:ext cx="2742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es to transf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.mdb or Name.m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.ch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urity files (option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lica files (option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D5B77-B033-4073-8C9D-AC90AAD8651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447920" y="1905120"/>
            <a:ext cx="5562360" cy="198108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7960" indent="-237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7960" indent="-237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your applic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7960" indent="-237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py the mdb and chm files to a second comput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7960" indent="-237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 desktop shortcut to the applic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7960" indent="-237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n the application and test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7960" indent="-237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you have the Access runtime, use its installation software to build an installation file and test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2D0F8-4BB3-4D2F-800E-E0C0652CAFE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6267600" y="990720"/>
            <a:ext cx="2571480" cy="156204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pplication Element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685800" y="1447920"/>
            <a:ext cx="3505320" cy="22302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990720" y="2895480"/>
            <a:ext cx="2690640" cy="358164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886200" y="3581280"/>
            <a:ext cx="3843360" cy="22431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5"/>
          <a:stretch/>
        </p:blipFill>
        <p:spPr>
          <a:xfrm>
            <a:off x="3962520" y="1447920"/>
            <a:ext cx="2895480" cy="209052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228600" y="2133720"/>
            <a:ext cx="99072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up 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81280" y="3048120"/>
            <a:ext cx="1371600" cy="916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grated forms and repo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114800" y="1143000"/>
            <a:ext cx="76212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lp 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590920" y="2590920"/>
            <a:ext cx="4572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905120" y="2819520"/>
            <a:ext cx="190476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162920" y="2590920"/>
            <a:ext cx="99036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stom toolb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14025-83FA-4C7B-BDCD-D4CA1A25BC9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emplate Form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981080" y="1600200"/>
            <a:ext cx="5191200" cy="442908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2438280" y="3586320"/>
            <a:ext cx="76212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3048120"/>
            <a:ext cx="68580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181480" y="3048120"/>
            <a:ext cx="83844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lose but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048120" y="4805280"/>
            <a:ext cx="129528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ss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27432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 flipV="1">
            <a:off x="3886200" y="2666520"/>
            <a:ext cx="76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5562720" y="2666520"/>
            <a:ext cx="38088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3048120" y="5181480"/>
            <a:ext cx="3045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30274-AD23-4F2B-9E62-5486BDDEBBB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ustomer Form with Templat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057400" y="1676520"/>
            <a:ext cx="4991040" cy="4086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5D57E-2DA5-4FF0-AA11-07D93F950F2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05120" y="2057400"/>
            <a:ext cx="5181480" cy="266688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a blank form in Design Vie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 logo and sample tit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 button to close the for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 label that can be used to display messages to the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the message label’s Visible property to N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y the template form to the Customer form and save it as Customer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ADA30-B7D9-4F0B-A31A-A32380430C4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2610000" y="1863720"/>
            <a:ext cx="5848200" cy="35244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reating a Switchboard Form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62120" y="2168640"/>
            <a:ext cx="144756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 in design 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209680" y="2473200"/>
            <a:ext cx="9907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62120" y="3006720"/>
            <a:ext cx="1447560" cy="916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command butt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2209680" y="3387600"/>
            <a:ext cx="11430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209680" y="3540240"/>
            <a:ext cx="121932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038480" y="5369040"/>
            <a:ext cx="144792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n forms or repo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4419720" y="3921120"/>
            <a:ext cx="76176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419720" y="4073040"/>
            <a:ext cx="83808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B0F74-D6C7-481C-8CF9-CC9B845F6EC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600200" y="1981080"/>
            <a:ext cx="5715000" cy="266724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7960" indent="-237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7960" indent="-237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a blank form in Design 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7960" indent="-237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the properties to remove the scroll bars and navigation butt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7960" indent="-237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command buttons to open other forms (Form Operations/Open Form) and repo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7960" indent="-237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colors and graphics to make the form appea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7960" indent="-237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n the form and test all butt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4853D-B06C-4939-AFD8-59A0830639B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819440" y="1771560"/>
            <a:ext cx="3666960" cy="348624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reating Toolbars and Menu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400800" y="2209680"/>
            <a:ext cx="144792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a new toolb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5257440" y="2514600"/>
            <a:ext cx="11430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2437920" y="2285640"/>
            <a:ext cx="39625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6D582-E9EF-4C33-8AE9-8F3CDF3F60C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781280" y="1452600"/>
            <a:ext cx="4467240" cy="44053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oolbars and Menu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477120" y="2819520"/>
            <a:ext cx="1447560" cy="11912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ag commands onto the toolb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H="1" flipV="1">
            <a:off x="4952880" y="3123720"/>
            <a:ext cx="152424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3657600" y="3429000"/>
            <a:ext cx="2819520" cy="175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2895120" y="3429000"/>
            <a:ext cx="358164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3121C-B2D4-4271-BD11-0787068BD7A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8T22:44:22Z</dcterms:created>
  <dc:creator>Jerry Post</dc:creator>
  <dc:description/>
  <dc:language>en-US</dc:language>
  <cp:lastModifiedBy>Jerry Post</cp:lastModifiedBy>
  <dcterms:modified xsi:type="dcterms:W3CDTF">2006-06-23T21:01:49Z</dcterms:modified>
  <cp:revision>51</cp:revision>
  <dc:subject/>
  <dc:title>All Powder Board and Ski</dc:title>
</cp:coreProperties>
</file>