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751-4895-462C-8248-638B7D4B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1F5-065C-46C2-B0D2-4829E14F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2DD-F637-4D68-88D9-86309F50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B50-CBC6-40BC-BBF4-5D6348A6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37A2-A613-4FEC-9F5C-B874DD1E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3E4F-AF03-4961-A84F-77CF43C3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7593-3E20-488A-9A2F-5F1F4EDC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E488-2E0A-469C-8F6C-B61A0065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A02D-68D6-4382-8A35-3E354427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89CE-D4B0-4C44-A9F7-037B8826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D46A-56B7-46CA-B0F7-CD04FFA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854-473E-4EE5-885E-CEB52D53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4B90-1654-4970-8C72-E3941A88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0A95-CC23-4AD4-8838-E2A9BF75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0D59-8098-4DEE-AFA8-7113ABA4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D7BE-CAE8-4CB5-A3A7-B4739ECB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171A-C204-4A5C-8516-BF0E49B6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B71-0DD1-4040-B224-E49CFBAC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1BE-B776-41A5-9386-0E55F9FC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450-82FA-4ACF-ACBF-BE0DBEF7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5BD-1C88-452F-BEC6-D936151E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26F-797B-4653-8D0E-0418A6C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011-6E41-41F0-A629-CCCECEB6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2BA-F9BA-4A9B-9876-D6661DF4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7D7A-A899-43D1-96F9-B55041278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BD69-75F0-4115-A08D-4D8C4843E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ndowsupdate.microsoft.com/" TargetMode="External"/><Relationship Id="rId2" Type="http://schemas.openxmlformats.org/officeDocument/2006/relationships/hyperlink" Target="http://windowsupdate.microsoft.com/" TargetMode="External"/><Relationship Id="rId3" Type="http://schemas.openxmlformats.org/officeDocument/2006/relationships/hyperlink" Target="http://office.microsoft.com/productupdates" TargetMode="External"/><Relationship Id="rId4" Type="http://schemas.openxmlformats.org/officeDocument/2006/relationships/hyperlink" Target="http://office.microsoft.com/productupdates" TargetMode="External"/><Relationship Id="rId5" Type="http://schemas.openxmlformats.org/officeDocument/2006/relationships/hyperlink" Target="http://www.microsoft.com/data/download.htm" TargetMode="External"/><Relationship Id="rId6" Type="http://schemas.openxmlformats.org/officeDocument/2006/relationships/hyperlink" Target="http://www.microsoft.com/data/download.htm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600200"/>
          <a:ext cx="7925040" cy="401940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discoun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life/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BMS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346040"/>
          <a:ext cx="7925040" cy="535932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grades/an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l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er inventory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wer cle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d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1905120"/>
            <a:ext cx="5181480" cy="1143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feasibility plan for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M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indowsupdate.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office.microsoft.com/product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ccess componen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http://www.microsoft.com/data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download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the highest numbered MDAC R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614680" y="1628640"/>
            <a:ext cx="39146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Add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0200" y="2562120"/>
            <a:ext cx="77436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1905120"/>
            <a:ext cx="533412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ccess and create the new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form with the Form Wiz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ustomer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ll of th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default column lay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 by entering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576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7925040" cy="4491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owbo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sk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tr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m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wnhill/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oots and Bind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362320"/>
            <a:ext cx="73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ot-Binding Compa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u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fg. 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ard/Sk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nding/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3200400"/>
          <a:ext cx="1752480" cy="15843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00200"/>
          <a:ext cx="7925040" cy="4329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/Us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7925040" cy="4437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ntal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tal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Retu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Dat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ed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7924320" cy="4419000"/>
        </p:xfrm>
        <a:graphic>
          <a:graphicData uri="http://schemas.openxmlformats.org/drawingml/2006/table">
            <a:tbl>
              <a:tblPr/>
              <a:tblGrid>
                <a:gridCol w="7924320"/>
              </a:tblGrid>
              <a:tr h="44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Title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s System for Boards and Sk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All Powder Board and Ski Sho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Contact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Ka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oal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Description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Form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Report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ead Develop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Time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Cos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ate Prepared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05120"/>
            <a:ext cx="5181480" cy="1523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information about skis and snowboards on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install and upgrade the DB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P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600200"/>
          <a:ext cx="7925040" cy="448956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5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the project and obtain approv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alyze the user needs and identify all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Desig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termine the tables and relationship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he tables and load basic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queries needed for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Build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ransaction elemen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security and access control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dditional 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data warehouse to analyze data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andle distributed database elements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Implemen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nvert and load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rain user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oad testin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revie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1905120"/>
            <a:ext cx="5181480" cy="1143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project milestone dates based on your school cale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6:21Z</dcterms:modified>
  <cp:revision>5</cp:revision>
  <dc:subject/>
  <dc:title>All Powder Board and Ski</dc:title>
</cp:coreProperties>
</file>