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89F-F5E5-4293-8DEE-7757680F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B0E-7AEF-42E6-AADF-E1FD0D4E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488-47A2-484E-ADDC-A9AAB110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CC5-BA04-4470-8E55-467AE417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66DE-9CD8-4BAA-B583-0E911DF2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2DA5-4757-4D4F-8263-56B8DBC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BD48-0DD4-420E-ADBB-0A933E39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860C-A308-4584-BA2A-35317AD7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2CF8-E94F-4CD0-B076-E5C58543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E43E-96D8-46A7-A7CF-F4A209E3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BC7-EAE2-45C3-832C-93F1FE4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C17-D722-4736-9FEB-1B4EF8EF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432-1422-4CDD-9317-6DA22AF2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1BF4-8489-451B-BA58-FBCF4F50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719A-3A0D-430C-9E80-6167C149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04D5-2F2D-41AE-933C-1040241C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B15-82AC-43D3-B020-757F4A20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9DE-56C2-4B40-BF94-242C4F94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EA8-1F61-4B39-B498-21091730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530-1D70-41EB-9606-FCD2AF11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2EB-0564-4D37-9EB2-AED9DA0A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76A-EB08-4F1C-8604-8106A536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E8E-BF94-4C2D-BD3D-CEC41D42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969-73E8-4D4A-8584-1184C40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5066-D326-4DDE-8C9C-C98803AD29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1C08-DE74-4FC5-9D18-54D06233D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: 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199040" cy="4419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41911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28600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3276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181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1148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9718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905120" y="24382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09552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4495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523880" y="51051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2286000"/>
            <a:ext cx="586728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stomer and Sal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GenerateKey to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it to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new CustomerID from right side into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ustomerID from Customer and drop it on CustomerID in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relationship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33520" y="2162160"/>
            <a:ext cx="3409920" cy="3629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157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-and-drop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3443400"/>
            <a:ext cx="17528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in and max for both sides of th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962160" y="3900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257440" y="3900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855800"/>
            <a:ext cx="1828800" cy="977760"/>
          </a:xfrm>
          <a:custGeom>
            <a:avLst/>
            <a:gdLst/>
            <a:ahLst/>
            <a:rect l="l" t="t" r="r" b="b"/>
            <a:pathLst>
              <a:path w="1152" h="616">
                <a:moveTo>
                  <a:pt x="1152" y="376"/>
                </a:moveTo>
                <a:cubicBezTo>
                  <a:pt x="1104" y="188"/>
                  <a:pt x="1056" y="0"/>
                  <a:pt x="864" y="40"/>
                </a:cubicBezTo>
                <a:cubicBezTo>
                  <a:pt x="672" y="80"/>
                  <a:pt x="336" y="348"/>
                  <a:pt x="0" y="6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257800" y="22240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2438280"/>
            <a:ext cx="5791320" cy="24386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Grade/Grade and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messages i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errors by removing columns and adding new t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838760" cy="3648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KU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20574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286000"/>
            <a:ext cx="1981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Inventory table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1460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8098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diagnostic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7242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errors are highl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562360" y="297144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915080" cy="3876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16765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setting SKU as a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0574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809880"/>
            <a:ext cx="3200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till causes problems because SaleDate does not depend on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800600" y="26668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343400" y="41911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Many-to-Many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2906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666880"/>
            <a:ext cx="1600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2290680"/>
            <a:ext cx="13716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24080" y="1995480"/>
            <a:ext cx="3948120" cy="477720"/>
          </a:xfrm>
          <a:custGeom>
            <a:avLst/>
            <a:gdLst/>
            <a:ahLst/>
            <a:rect l="l" t="t" r="r" b="b"/>
            <a:pathLst>
              <a:path w="2487" h="301">
                <a:moveTo>
                  <a:pt x="0" y="301"/>
                </a:moveTo>
                <a:cubicBezTo>
                  <a:pt x="205" y="251"/>
                  <a:pt x="816" y="0"/>
                  <a:pt x="1230" y="0"/>
                </a:cubicBezTo>
                <a:cubicBezTo>
                  <a:pt x="1644" y="0"/>
                  <a:pt x="2225" y="238"/>
                  <a:pt x="2487" y="30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15680" y="16365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427212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46483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2895480"/>
            <a:ext cx="1219320" cy="1905120"/>
          </a:xfrm>
          <a:custGeom>
            <a:avLst/>
            <a:gdLst/>
            <a:ahLst/>
            <a:rect l="l" t="t" r="r" b="b"/>
            <a:pathLst>
              <a:path w="768" h="1200">
                <a:moveTo>
                  <a:pt x="768" y="0"/>
                </a:moveTo>
                <a:lnTo>
                  <a:pt x="384" y="0"/>
                </a:lnTo>
                <a:lnTo>
                  <a:pt x="384" y="1200"/>
                </a:lnTo>
                <a:lnTo>
                  <a:pt x="0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2895480"/>
            <a:ext cx="1143000" cy="2286000"/>
          </a:xfrm>
          <a:custGeom>
            <a:avLst/>
            <a:gdLst/>
            <a:ahLst/>
            <a:rect l="l" t="t" r="r" b="b"/>
            <a:pathLst>
              <a:path w="720" h="1440">
                <a:moveTo>
                  <a:pt x="0" y="0"/>
                </a:moveTo>
                <a:lnTo>
                  <a:pt x="384" y="0"/>
                </a:lnTo>
                <a:lnTo>
                  <a:pt x="384" y="1440"/>
                </a:lnTo>
                <a:lnTo>
                  <a:pt x="72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600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02600" y="4800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488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i Shop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1680" y="6400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: www.rossign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17680" y="2286000"/>
            <a:ext cx="561960" cy="2676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470320" y="2590920"/>
            <a:ext cx="498240" cy="2371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622600" y="2819520"/>
            <a:ext cx="449280" cy="2143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754360" y="3048120"/>
            <a:ext cx="401760" cy="1914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149560" y="1981080"/>
            <a:ext cx="625320" cy="2981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981080" y="1905120"/>
            <a:ext cx="641520" cy="3057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251240" y="20937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hops carry multiple lengths of each ski or board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51240" y="34290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formation refers to the overall type of board or s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51240" y="4572000"/>
            <a:ext cx="34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information refers to an individual ski or board—defined by its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3800" y="53341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ignol Ax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4800600"/>
            <a:ext cx="129528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0"/>
                </a:moveTo>
                <a:lnTo>
                  <a:pt x="0" y="192"/>
                </a:lnTo>
                <a:lnTo>
                  <a:pt x="816" y="192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96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9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692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8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182880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590560" y="18288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2514600"/>
            <a:ext cx="480060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proper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/Grade and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s and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4295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6560" y="16765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16560" y="217332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8400" y="270684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2400" y="37116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230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 Data Types (Domain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295280"/>
          <a:ext cx="7925040" cy="4943520"/>
        </p:xfrm>
        <a:graphic>
          <a:graphicData uri="http://schemas.openxmlformats.org/drawingml/2006/table">
            <a:tbl>
              <a:tblPr/>
              <a:tblGrid>
                <a:gridCol w="1836720"/>
                <a:gridCol w="2229120"/>
                <a:gridCol w="2830320"/>
                <a:gridCol w="1028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 (charact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 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 (8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 (16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32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4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 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Long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Si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2 b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900.0000  tr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1/100 – 12/31/9999 (1 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iga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+/- 2 b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Business Obje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s or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13372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432" y="288"/>
                </a:lnTo>
                <a:lnTo>
                  <a:pt x="432" y="0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952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976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2590920"/>
            <a:ext cx="4800600" cy="1676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: http://time-post.com/db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udent who has two key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4111560" cy="4419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1981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key numbers you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2666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3124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sername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5812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495680"/>
            <a:ext cx="18288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orrect name, e-mail address and 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666880" y="426672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ass Regis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111560" cy="4419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638680" y="194004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ful accoun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3159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university an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403848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admi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76360" y="2438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381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285640" y="3962160"/>
            <a:ext cx="3352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286000"/>
            <a:ext cx="457200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/Open, choose All Powd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/Ad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header/Renam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s from right ont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name/se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6:56Z</dcterms:modified>
  <cp:revision>14</cp:revision>
  <dc:subject/>
  <dc:title>All Powder Board and Ski</dc:title>
</cp:coreProperties>
</file>