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606-6D18-4F89-9E45-E3AB5EC4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A97-8434-456F-8F2D-1A50BB8B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991-EFE1-47F3-9D71-AF02B02E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AEF-94DF-46DF-9C09-C122727A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15F4-3E9B-42FE-AC3F-595C44DA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2216-34B5-4EE7-B6DC-0EEAAA0D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F082-C674-4D7C-904B-15590195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6FED-89C8-451F-B8B4-104B932A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9121-0524-4CA8-A95F-25DFB54D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0E2A-AECC-4ADA-820F-5A3BD7C2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6E3E-9C9B-4678-B098-AA400039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158-2842-423C-A24A-D90833C1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54E7-01DA-4318-B0B6-78033BE4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8EDB-BB69-43D3-B1F9-5FB63FE9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F5CD-556C-4B08-A422-5A0791F7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CA3A-0E34-4AD4-AD78-48D3C03B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A59B-7C06-403F-8A99-CBDEAFF9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F58-98CF-4582-926A-1C67F39C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645-3C62-4B75-B3BD-CC9F3D60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7CC-7F03-401F-9C2D-E974B506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C9D-96C4-4F3D-9BE8-76C95670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04B-0828-4010-B9C5-30BFC5B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59E-093C-4F59-A132-B330EEE6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936-FFB6-4F80-BA1E-76ADC303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C7D5-20A3-44ED-B765-9C218F9FC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A923-FCB8-49F5-A081-9AC44ABCE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2: Physical Data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0EC1-CF11-4F22-AA2B-B3AA87A523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6280" y="1709640"/>
            <a:ext cx="6391440" cy="3438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: Manual Data Par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495288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able to old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87692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057400" y="4572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C28-2026-4AB1-AC67-0DD4C9CB32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2057400"/>
            <a:ext cx="5410080" cy="2971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blank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py of the ItemModel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it with all data before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ItemModel table in the main database, remove the data before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linked table in the main database to connect to the olde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NION query that retrieves all rows of data for the ItemModel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EAD-9997-42BA-9761-E5707E75BA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icrosoft Access File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7497720" cy="3591000"/>
        </p:xfrm>
        <a:graphic>
          <a:graphicData uri="http://schemas.openxmlformats.org/drawingml/2006/table">
            <a:tbl>
              <a:tblPr/>
              <a:tblGrid>
                <a:gridCol w="1395360"/>
                <a:gridCol w="610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uf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database file to hold data, forms, and repor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s lock data to prevent multi-user collis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pped down MDB file that removes source code and prevents users from editing forms and repor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group file that contains user and group login information. The default is System.MD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file that contains code to connect to a SQL Server databas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1EE-BDF8-4C96-9E9B-D6D8FA573F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et Engine Registry Sett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5720" y="1600200"/>
            <a:ext cx="79725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3AD-F968-4E31-BB62-8D0233B492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905120"/>
            <a:ext cx="7162920" cy="1676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registry editor with Start/Run/rege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Local Machine keys to find the entries for the Jet eng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Threads value from 3 t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some queries and forms to see if performanc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693-097C-48E6-BFF9-B6CC71BFEC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20:21:09Z</dcterms:modified>
  <cp:revision>85</cp:revision>
  <dc:subject/>
  <dc:title>All Powder Board and Ski</dc:title>
</cp:coreProperties>
</file>