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9690-D9A9-4CBE-8E57-F23883AC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292-E6B3-4CDB-81F3-709739F0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DFF-B99A-44D9-A8BD-9B303CBC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8B8-C1FB-485C-A973-C0667CB8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116D-71C5-4539-BD22-B0EB3B20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CEA7-09B3-4B08-AC1B-BAE4DC05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DC99-5225-42FF-BF3B-9FCAD4F4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80C8-A285-4705-BC99-355F596D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1CB7-C584-4384-8048-BD99D188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E980-7A18-48C4-8ED1-09A7D381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3B3E-A914-4292-9B75-A7EDC1F0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873-067A-4166-B984-BA15CEA5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B5AB-A967-4B8E-849F-FAC1B9D6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0DF1-EB32-41E5-A3F8-ADE29458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2764-81DF-42DA-A10C-914542E4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0C41-A537-4351-90DF-85F69B9F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FF7A-6C1C-4E63-9EB5-D93A13E7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106-F019-429F-BCF3-3CA4D663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3F3-5832-4CE7-B3B8-3C0E7B3C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1CCD-8439-4D34-A099-7E86C595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E405-E5CE-46BF-9855-C1895E17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AA53-6276-4471-8E79-4F5FFC8B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2103-68A1-4B78-9BF1-8B83EAE3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7EA-017D-47B9-8175-EB84FFE2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9168-190E-4D20-83C7-66B0659B2F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3904-DDB1-40D0-93C3-0C6882CA2A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: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3FC4-F132-47EE-AA33-CA5082D043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00040" y="1425600"/>
            <a:ext cx="5838840" cy="29084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lor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95680" y="2209680"/>
            <a:ext cx="3352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 and price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924280" y="259092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38680" y="2590920"/>
            <a:ext cx="16002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0040" y="4419720"/>
            <a:ext cx="55627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5 conditions must hold, so only one row m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0040" y="4876920"/>
            <a:ext cx="599148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D3FD-BBCF-4E38-8610-80EE314D13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52520" y="1162080"/>
            <a:ext cx="5962680" cy="32702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ultiple Condi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71840" y="2200320"/>
            <a:ext cx="3809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Criteria row for red s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257640" y="25812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352520" y="4486320"/>
            <a:ext cx="5962680" cy="168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D77-E0DD-43BD-BB0F-B0CE316136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 Vers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322280"/>
            <a:ext cx="81532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ItemModel.Category, ItemModel.Color, ItemModel.ItemMaterial, ItemModel.Style, ItemModel.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((ItemModel.Category)="Ski") AND ((ItemModel.Color)="Yellow") AND ((ItemModel.ItemMaterial)="Composite") AND ((ItemModel.Style)="Jump") AND ((ItemModel.ListPrice)&lt;300)) OR (((ItemModel.Category)="Ski") AND ((ItemModel.Color)="Red") AND ((ItemModel.ItemMaterial)="Composite") AND ((ItemModel.Style)="Jump") AND ((ItemModel.ListPrice)&lt;40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416480"/>
            <a:ext cx="80773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ategory, Color, ItemMaterial, Style,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Category="Ski" AND ItemMaterial="Composite" AND Style="Jump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( ( Color="Yellow" AND ListPrice&lt;3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(Color="Red" AND ListPrice&lt;400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871-2409-49D0-B29B-1B32F6A045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800360" y="1447920"/>
            <a:ext cx="4752720" cy="2692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 Query: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198108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in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98108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733920" y="2362320"/>
            <a:ext cx="3808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236232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981080" y="4191120"/>
            <a:ext cx="4524480" cy="20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F1B-2FE8-4D35-BC18-17E70D84CF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1905120"/>
            <a:ext cx="7391520" cy="30477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: SaleID, SaleDate, CustomerID, and Payment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s for Cash sales in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Query/Show Table (or but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lumns: LastName, 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the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23B-2FFF-461A-BAF9-83C1019261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5734080" cy="30290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23880" y="3886200"/>
            <a:ext cx="5724720" cy="22194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 Tables: Sale + Custom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21337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ing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114800" y="251460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723920" y="2514600"/>
            <a:ext cx="381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862-5220-418B-96BE-73C013B406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: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2009880"/>
            <a:ext cx="7848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ale.SaleID, Sale.SaleDate, Sale.CustomerID, Customer.LastName, Customer.FirstName, Sale.Payment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Customer INNER JOIN Sale ON Customer.CustomerID = 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Sale.SaleDate Between #5/1/2004# And #5/31/2004# AND Sale.PaymentMethod="Cash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73D-5FB9-42D7-A7F4-1203FD7EC4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uilding a More Complex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1523880"/>
            <a:ext cx="6553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ustomers bought Atomic skis in January or Februa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14400" y="2128680"/>
          <a:ext cx="6933960" cy="1699920"/>
        </p:xfrm>
        <a:graphic>
          <a:graphicData uri="http://schemas.openxmlformats.org/drawingml/2006/table">
            <a:tbl>
              <a:tblPr/>
              <a:tblGrid>
                <a:gridCol w="3112920"/>
                <a:gridCol w="3821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do you want to se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names, Sale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do you know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facturer name, SaleDate range, Category is 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tables are involv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are they join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… Sale … ItemModel, Manufact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914400" y="41860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, FirstName,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, …, Sale, …, ItemModel,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Manufacturer.Name=“Atomic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ale.SaleDate BETWEEN 1/1/2004 AND 2/29/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temModel.Category = “Sk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49760" y="2286000"/>
            <a:ext cx="2934000" cy="2073240"/>
          </a:xfrm>
          <a:custGeom>
            <a:avLst/>
            <a:gdLst/>
            <a:ahLst/>
            <a:rect l="l" t="t" r="r" b="b"/>
            <a:pathLst>
              <a:path w="1848" h="1306">
                <a:moveTo>
                  <a:pt x="968" y="0"/>
                </a:moveTo>
                <a:cubicBezTo>
                  <a:pt x="1088" y="79"/>
                  <a:pt x="1588" y="308"/>
                  <a:pt x="1688" y="476"/>
                </a:cubicBezTo>
                <a:cubicBezTo>
                  <a:pt x="1788" y="644"/>
                  <a:pt x="1848" y="873"/>
                  <a:pt x="1567" y="1011"/>
                </a:cubicBezTo>
                <a:cubicBezTo>
                  <a:pt x="1286" y="1149"/>
                  <a:pt x="326" y="1245"/>
                  <a:pt x="0" y="13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2819520"/>
            <a:ext cx="2298960" cy="2361960"/>
          </a:xfrm>
          <a:custGeom>
            <a:avLst/>
            <a:gdLst/>
            <a:ahLst/>
            <a:rect l="l" t="t" r="r" b="b"/>
            <a:pathLst>
              <a:path w="1448" h="1488">
                <a:moveTo>
                  <a:pt x="672" y="0"/>
                </a:moveTo>
                <a:cubicBezTo>
                  <a:pt x="908" y="136"/>
                  <a:pt x="1153" y="266"/>
                  <a:pt x="1248" y="432"/>
                </a:cubicBezTo>
                <a:cubicBezTo>
                  <a:pt x="1343" y="598"/>
                  <a:pt x="1448" y="821"/>
                  <a:pt x="1240" y="997"/>
                </a:cubicBezTo>
                <a:cubicBezTo>
                  <a:pt x="1032" y="1173"/>
                  <a:pt x="258" y="1386"/>
                  <a:pt x="0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8A51-3519-4E5C-A9EF-0E7594A0C3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: Man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448760" cy="2919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143000" y="4495680"/>
            <a:ext cx="6553080" cy="96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23D6-0A8D-4E8A-A3BD-BC8FDEA6EF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: Many Table Joi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905120"/>
            <a:ext cx="81532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LastName, Customer.FirstName, ItemModel.Category, Manufacturer.Name, Sale.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Manufacturer INNER JOIN (ItemModel INNER JOIN (Inventory INNER JOIN ((Customer INNER JOIN Sale ON Customer.CustomerID = Sale.CustomerID) INNER JOIN SaleItem ON Sale.SaleID = SaleItem.SaleID) ON Inventory.SKU = SaleItem.SKU) ON ItemModel.ModelID = Inventory.ModelID) ON Manufacturer.ManufacturerID = ItemModel.Manufactur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((ItemModel.Category)="Ski") AND ((Manufacturer.Name)="Atomic") AND ((Sale.SaleDate) Between #1/1/2004# And #2/29/2004#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256F-7538-4631-827C-56CEA5AA8A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mar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71560" y="1828800"/>
            <a:ext cx="739944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7F8-598E-4412-9629-CA3FEED27B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1981080"/>
            <a:ext cx="5790960" cy="19814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: Category, ItemMaterial, and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column as Profit: [ListPrice]-[Cos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95EE-6510-41AC-951D-8A300875DB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1411200"/>
            <a:ext cx="5029200" cy="2855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025960" y="2514600"/>
            <a:ext cx="3575160" cy="3591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lcul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190512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72400" y="2743200"/>
            <a:ext cx="762120" cy="3200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ategory, ItemMaterial, ListPric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Price-Cost AS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BY Category, ListPrice DES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22860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286000"/>
            <a:ext cx="3429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E8E1-522D-48BA-91B4-6BA7942AB1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mon Func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1447920"/>
            <a:ext cx="5791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lower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/number of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sub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leading and trailing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pper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A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days, months, years to a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Di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 two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detailed 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ate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ine, all common trig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, drop decima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83FA-D036-43FD-AD90-27F2FCA928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33520" y="2505240"/>
            <a:ext cx="4019400" cy="35906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at Fun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2819520"/>
            <a:ext cx="838080" cy="304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429000" y="1709640"/>
            <a:ext cx="5048280" cy="27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720-A24C-45EA-B7F0-76ACFBEADD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2057400"/>
            <a:ext cx="7162560" cy="2286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: SaleID and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column as LateDate: [SaleDate]+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new column as LateMonth: DateAdd(“m”,1,[SaleDate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E77-2ED5-4FB0-B82A-81052B0D41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857920" cy="30286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eAdd and DateDiff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1828800"/>
            <a:ext cx="2743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 + one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182880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 + 3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220968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429000" y="3898800"/>
            <a:ext cx="4524480" cy="250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048120" y="2209680"/>
            <a:ext cx="22860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181120" y="2209680"/>
            <a:ext cx="12956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77120" y="22096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1B7F-ACC8-4FCD-A4BF-BBEB6E26A6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1905120"/>
            <a:ext cx="586764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: ShipState and 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/Totals (or Totals but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“Where” for Total row i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“CA” as a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“Sum” for SalesTax Total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292-F0D8-4851-8712-00A32DC013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1589040"/>
            <a:ext cx="6324840" cy="47354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: S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51120" y="228600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593360" y="3733920"/>
            <a:ext cx="21337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89360" y="3124080"/>
            <a:ext cx="2361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s button adds the Total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32360" y="4419720"/>
            <a:ext cx="23619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117960" y="472428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2895480"/>
            <a:ext cx="1904760" cy="785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Of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5,33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28F-4755-4458-9894-8687FCE996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: S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190512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um(Sale.SalesTax) AS SumOf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.ShipState="C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7A7-46B9-4D9A-9A89-1EDC2F325B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1981080"/>
            <a:ext cx="5257800" cy="23623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: ShipState and 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/Totals (or Totals but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“Sum” for SalesTax Total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E272-B559-43D4-BB82-E1E3A9C1E6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2286000"/>
            <a:ext cx="5334120" cy="2666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File/Get External Data/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 to the appropriate csv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mma de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box to include column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r table matches the file, check the box to read into an exist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B181-49F0-4BC6-A9F7-A79DD109A8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4648320" cy="3448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200400" y="1752480"/>
            <a:ext cx="4638600" cy="30290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: Group B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876560" y="289548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980720" y="2819520"/>
            <a:ext cx="3962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10080" y="1981080"/>
            <a:ext cx="26672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produces subtotals for all values in the specifi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6C98-0FA4-49A2-899C-1BA01DB04E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: Group B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228600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ale.ShipState, Sum(Sale.SalesTax) AS SumOf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Sale.ShipSt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566-D0B4-48E7-9C7D-51D45E786EB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tal Sales Value in Color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67280" y="3124080"/>
            <a:ext cx="1295640" cy="785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4,964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648320"/>
            <a:ext cx="7772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um([QuantitySold]*[SalePrice]) AS Sale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 INNER JOIN SaleItem ON Sale.SaleID = 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.ShipState="CO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581360" cy="303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578-2855-4822-BF40-DA5752E1C3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05320" y="1771560"/>
            <a:ext cx="462888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le/Get External Data/Im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429000"/>
            <a:ext cx="2133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ple files include column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819520" y="3124080"/>
            <a:ext cx="761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828800"/>
            <a:ext cx="21333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 delimited is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2209680"/>
            <a:ext cx="2590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724280"/>
            <a:ext cx="2286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columns are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971800" y="373356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971800" y="3733560"/>
            <a:ext cx="2362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FAA-588E-414E-8D8C-03E4C67127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33600" y="1531800"/>
            <a:ext cx="5033880" cy="4106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arting a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12408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3276720"/>
            <a:ext cx="19051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205740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tabl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562720" y="205704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790960" y="22860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403848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fields/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362320" y="3886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25780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7400" y="43430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057400" y="28195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676520"/>
            <a:ext cx="1752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SQL or view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209680" y="20574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209680" y="20570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B90-7311-471B-8FF4-0691041F22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2286000"/>
            <a:ext cx="5867280" cy="2286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 for Category, ListPrice, WeightMax, Color, and 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conditions for Board, ListPrice, and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F084-E071-404B-99CB-ECF0542837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mple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625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Display snowboards with a list price under $300 and max weight over 150 p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4343400"/>
            <a:ext cx="8001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ItemModel.Category, ItemModel.ListPrice, ItemModel.WeightMax, ItemModel.Color, ItemModel.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((ItemModel.Category)="Board") AND ((ItemModel.ListPrice)&lt;300) AND ((ItemModel.WeightMax)&gt;15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114800" cy="2201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248280" cy="218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8DD5-E99E-49DA-8C69-82247A0EB4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2209680"/>
            <a:ext cx="480060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lumns: Category, Color, ItemMaterial, Style, and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equested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830A-A34A-41E1-BE01-C45DB96D8F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6000480" cy="2981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Complex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9360" y="1407960"/>
            <a:ext cx="346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for jum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ite mate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or Yellow main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 skis must be under $3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skis must be under $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3581280"/>
            <a:ext cx="2667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mai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819520" y="3962520"/>
            <a:ext cx="17524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962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962520"/>
            <a:ext cx="762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5E4-7152-4E02-8AF5-E457DBFF1F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2T16:07:31Z</dcterms:modified>
  <cp:revision>32</cp:revision>
  <dc:subject/>
  <dc:title>All Powder Board and Ski</dc:title>
</cp:coreProperties>
</file>