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EDD-A3F5-47F7-BAFC-DDFBB4AE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27B-2BE8-473A-9CDC-55D41813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302-C13A-44B2-986F-9CF5EFD6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E70-381F-4475-8BFF-15DBC2A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4F2-5224-4E55-ABA2-40911F37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EF9F-C0B0-47DF-8252-A818E20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CE7-628D-4B23-81EE-3E748496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B1F9-A751-4F26-8E6C-06550A8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E4A-D472-4AFB-9C74-10CE5E3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7431-3F12-44A2-B2DA-7AB8FD67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2CAC-FA27-470F-B8B8-1B57A27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D0E-50F5-4AD0-856C-5957020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492-2DC7-4273-9348-25BE3D2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6E1-A393-4B0F-8194-C6ACAA9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89A7-F612-4DC6-AAE6-67FB3D4C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8F43-6BA2-409D-AE19-2705B843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F48-0300-4CC8-9020-21F2610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DB3-8918-461D-8CE3-3211BA5B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560-D5D5-4C57-81F8-56974BE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F80-7417-4D1A-8924-AF863A3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982-BF4B-4F71-9FE0-01DE55F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B47-B53A-4E61-9AD0-D191F36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8C4-AD6A-4423-AE69-10C7923F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5C4-FE53-491F-9DAB-40A277F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2DCD-2E42-447C-B0DA-45A524E6C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BF8-C607-4BE1-B012-2B83ABCD1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362320"/>
            <a:ext cx="617220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ule: “Female” Or “Male” Or “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text: Please enter Female, Male, or Un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24080" y="1492200"/>
            <a:ext cx="4800600" cy="4527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419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865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9718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57200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66880" y="5105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2362320"/>
            <a:ext cx="525780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ntrol: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 Type: 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: “Female”;”Male”;”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atasheet view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38400" y="1271520"/>
            <a:ext cx="5114880" cy="48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le Lookup Li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8862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971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4038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952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quotes and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46483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200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5840" y="3352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1562040"/>
            <a:ext cx="8229600" cy="4000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41911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1911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umb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676520" y="36576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752120" y="35053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362320"/>
            <a:ext cx="51814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lationships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l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d resize them to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key columns on foreig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ntegrity and cascad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l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8120" y="1521000"/>
            <a:ext cx="5333760" cy="4574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87692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181120" y="4495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7432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all thre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9718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5238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1752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8620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 and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1148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1148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2743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oth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266720" y="289512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952880" y="28195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523880"/>
            <a:ext cx="723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Relationship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605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Rental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Rental PRIMARY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RentalCustomer FOREIGN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Customer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UPDA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ON DELETE AND ON UPDATE are not supported with Access 2002, but hopefully will be supported with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0020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286000"/>
            <a:ext cx="45720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oNumb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362320"/>
            <a:ext cx="457200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ustomer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536840"/>
            <a:ext cx="4800600" cy="452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in Acce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09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62320" y="205704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362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0481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00240" y="2971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657600"/>
            <a:ext cx="1676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typ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48320" y="3886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30481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38400" y="1630440"/>
            <a:ext cx="4734000" cy="4465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Types: Sub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743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0384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: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24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42670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13Z</dcterms:modified>
  <cp:revision>20</cp:revision>
  <dc:subject/>
  <dc:title>All Powder Board and Ski</dc:title>
</cp:coreProperties>
</file>