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CCB5-7FB5-415E-89C2-12DB69B7F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E1F1-B0C5-4980-8C71-BA749BF9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5238-CBAC-4D85-8B1A-94BAB20F9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0ED1-25C7-4A6A-B62F-413938892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4EA7-199D-4FD6-BB0A-090811157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0E90B-A168-4708-9DEC-796D059D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3905-5AF5-449F-AC7A-9C0BD12F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5C52-5AC6-4E8A-91D7-8B1AB0E8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907B-F58F-434A-B7FF-C10CCA24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04E6-374C-48AF-B750-67A98B8F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76DC-2A70-4657-AF1E-99C7FBB2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2749-2189-44CB-BD3A-2A06582B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0157-7DD2-45EB-B359-3C1133D6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08AC0-E98B-4F11-9C5E-D61221C1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5AC6B-7B48-4B03-AE11-D0C65F72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094E-D2CB-42F5-8BBE-9658EBC60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F90F-8A8C-47C5-ACEC-76499E42A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C639-E117-4FD0-A595-6138E4B5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69AD-EB11-4365-BF30-A9C0D1D9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14B5-6A89-4583-AD51-C5741B12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7EA9-0F7D-419C-8927-9EB57FA7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EE60-8B0D-4007-9F6B-42D76E33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FA67-EB23-432C-A501-83D38AD9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5F1F-260A-457C-A033-7FAF6140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3B18-8154-429A-8E2D-FC388F3E1E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DDDA-7764-4760-BC05-28187F94CE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 Access Work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6: Forms and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7882-C269-4301-BA99-6A70CE4BDCC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itial Grid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200320" y="2100240"/>
            <a:ext cx="47433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F1E3-C319-4494-9E87-DFB8EA0B87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0" y="2209680"/>
            <a:ext cx="4648320" cy="21337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form with the wi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: SkiBoard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s: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Datasheet 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171A-AC90-4E4C-9978-E0B8379F94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4629240" cy="34956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rid Form Wizar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19920" y="3581280"/>
            <a:ext cx="23619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heet style is simpler than Tab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19920" y="2133720"/>
            <a:ext cx="23619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ular style has more design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2514600"/>
            <a:ext cx="1676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4723920" y="3123720"/>
            <a:ext cx="12956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62C7-3FAF-40D3-8941-281D4BEA95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1828800"/>
            <a:ext cx="6629400" cy="38098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to form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the box for Categ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combo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first lookup 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the ProductCategory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the Category and CategoryDescription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column wid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Category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value into the Category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ame the combo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tab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form and test the combo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7E7D-FC03-4C96-ABCA-9FC39558B6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843200" y="1916280"/>
            <a:ext cx="5395680" cy="41036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dd a Combo Box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5029200"/>
            <a:ext cx="23623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the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819520" y="48006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0" y="2743200"/>
            <a:ext cx="13716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combo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6477120" y="3124080"/>
            <a:ext cx="380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114800" y="3124080"/>
            <a:ext cx="27432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80A2-7D56-4030-976F-40D6580449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4628880" cy="32482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bo Box Ro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71800" y="5029200"/>
            <a:ext cx="2590920" cy="110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Board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48120" y="5410080"/>
            <a:ext cx="2514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63828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63828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hil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00800" y="2286000"/>
            <a:ext cx="213372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Categ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2666880"/>
            <a:ext cx="1676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t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ctron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a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038480" y="3276720"/>
            <a:ext cx="121932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81480" y="4114800"/>
            <a:ext cx="3289320" cy="1828800"/>
          </a:xfrm>
          <a:custGeom>
            <a:avLst/>
            <a:gdLst/>
            <a:ahLst/>
            <a:rect l="l" t="t" r="r" b="b"/>
            <a:pathLst>
              <a:path w="2072" h="1152">
                <a:moveTo>
                  <a:pt x="1200" y="0"/>
                </a:moveTo>
                <a:cubicBezTo>
                  <a:pt x="1636" y="192"/>
                  <a:pt x="2072" y="384"/>
                  <a:pt x="1872" y="576"/>
                </a:cubicBezTo>
                <a:cubicBezTo>
                  <a:pt x="1672" y="768"/>
                  <a:pt x="836" y="960"/>
                  <a:pt x="0" y="11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555960" y="175248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234840" y="51418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621E-E57F-47F8-B92E-5A096C050C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066680" y="1492200"/>
            <a:ext cx="5853240" cy="44514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bo Box Runtim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477120" y="2960640"/>
            <a:ext cx="17524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5562720" y="311292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477120" y="3722760"/>
            <a:ext cx="17524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5867280" y="395136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09680" y="5029200"/>
            <a:ext cx="21337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sen value is transferred to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343400" y="3733560"/>
            <a:ext cx="3808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6E1F-CE86-417C-9396-434D530A8C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71600" y="1828800"/>
            <a:ext cx="6248520" cy="24382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form with the wi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 table, all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table use name, phone, and e-mail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 table, use th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Item table, all columns except 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Model table, use Category, ModelID, and List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sh the wizard and test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2AC2-5B56-4B2D-AF47-8D2EBA5BCF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ain/Subform by Sa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257560" y="1681200"/>
            <a:ext cx="4628880" cy="349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E569-AA38-402C-A85D-E2932F069C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819520" y="1833480"/>
            <a:ext cx="5562360" cy="31910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itial Sale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666880"/>
            <a:ext cx="2057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combo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438280" y="2819160"/>
            <a:ext cx="9907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38280" y="28954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38280" y="2895480"/>
            <a:ext cx="11430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1828800"/>
            <a:ext cx="22860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 layout and siz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057400" y="5257800"/>
            <a:ext cx="28195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price by 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62720" y="5257800"/>
            <a:ext cx="22096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sub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876920" y="4191120"/>
            <a:ext cx="17524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6095880" y="4876920"/>
            <a:ext cx="1295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9C60-A34C-4563-BC27-511C28AB97F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orm Typ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429000" y="1739880"/>
          <a:ext cx="3886200" cy="1460520"/>
        </p:xfrm>
        <a:graphic>
          <a:graphicData uri="http://schemas.openxmlformats.org/drawingml/2006/table">
            <a:tbl>
              <a:tblPr/>
              <a:tblGrid>
                <a:gridCol w="727200"/>
                <a:gridCol w="1992240"/>
                <a:gridCol w="1166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y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yle 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533520" y="1676520"/>
            <a:ext cx="22860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69200" y="18288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5440" y="2246400"/>
            <a:ext cx="129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5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26478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293364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3219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3505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98200" y="137160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 Board 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29000" y="3809880"/>
            <a:ext cx="49528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61800" y="38466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000" y="420516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65960" y="420516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s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505320" y="4572000"/>
          <a:ext cx="4701960" cy="1187280"/>
        </p:xfrm>
        <a:graphic>
          <a:graphicData uri="http://schemas.openxmlformats.org/drawingml/2006/table">
            <a:tbl>
              <a:tblPr/>
              <a:tblGrid>
                <a:gridCol w="857160"/>
                <a:gridCol w="1326960"/>
                <a:gridCol w="704880"/>
                <a:gridCol w="1035360"/>
                <a:gridCol w="777600"/>
              </a:tblGrid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748440" y="4227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920" y="2133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12560" y="4952880"/>
            <a:ext cx="1118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Main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ub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1577-91A0-4D3C-ACEF-D41D76267F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057400" y="1905120"/>
            <a:ext cx="4800600" cy="236196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to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CustomerID, EmployeeID, and PaymentMethod with combo bo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Row Source property of the combo boxes to set a sort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ab order and run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C7CC-740A-4E06-A589-2775536E6A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itial Sale Form Improveme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409760" y="1523880"/>
            <a:ext cx="6324480" cy="465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2183-74EC-42D6-A571-35335AE66D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805040" y="1461960"/>
            <a:ext cx="5533920" cy="3934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st of the Sale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248520" y="4495680"/>
            <a:ext cx="22096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 the sub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5257800" y="4648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98B2-E3CA-4FE9-98D0-2BF1B54F479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43000" y="1828800"/>
            <a:ext cx="6781680" cy="36576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sub form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a combo box for the 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text box to compute Value=QuantitySold*Sale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text box to the footer to compute the subtotal: =Sum(QuantitySold*SalePr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ab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sub form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main form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subtotal text box and use the expression builder to copy the subtotal value from the subfrom sub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D93C-2866-42F7-8FC0-86FD8E1D2EE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524400" y="2209680"/>
            <a:ext cx="3867120" cy="30196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xpression Builder to Copy Subtot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09800" y="3006720"/>
            <a:ext cx="22096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Sal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19480" y="3159000"/>
            <a:ext cx="43812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4149720"/>
            <a:ext cx="22100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sub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276720" y="384480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90720" y="5292720"/>
            <a:ext cx="22096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click the subtotal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200400" y="4606560"/>
            <a:ext cx="18288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34120" y="1447920"/>
            <a:ext cx="22096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 to copy the subtotal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4800600" y="182880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46A5-09E8-425A-A09A-B74343D11B2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inal Sale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695600" y="1457280"/>
            <a:ext cx="5752800" cy="394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036D-7864-4B3D-BB15-803E03F191D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81080" y="1828800"/>
            <a:ext cx="4953240" cy="28954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report with the wi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table, use all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 table, use all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Item table, use all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y the group brea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Summary Options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 totals for the 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sh the wizard and switch to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A3BD-DA32-4298-8ADF-F0E7B9CA16F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izing Form Propert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219320" y="1876320"/>
            <a:ext cx="6419880" cy="42195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2819520" y="1571760"/>
            <a:ext cx="18288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286000" y="195264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00400" y="1952640"/>
            <a:ext cx="1447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2257560"/>
            <a:ext cx="11430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2638440"/>
            <a:ext cx="3808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19320" y="2562120"/>
            <a:ext cx="21333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C0E8-F75B-4635-9348-F1C027748FE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905120" y="1981080"/>
            <a:ext cx="5333760" cy="23623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a copy of the Customer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Design View, add a hea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the Customer title onto the hea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background color of the header to yel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5C28-82BF-4094-BCFA-9D51C029BFA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009800" y="2066760"/>
            <a:ext cx="4628880" cy="349596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reate the Customer Sales Repor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1523880"/>
            <a:ext cx="68580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all columns from the Customer, Sale, and SaleItem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259092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95880" y="327672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 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95880" y="396252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Item 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5028840" y="274320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5028840" y="304812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4952520" y="335232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0A67-8F78-4828-B9F1-E7A2E608563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953240" cy="32288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Main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24480" y="388620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o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029200" y="4038480"/>
            <a:ext cx="1295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5334120"/>
            <a:ext cx="22100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 nav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962520" y="487656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220968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952880" y="2438280"/>
            <a:ext cx="14479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2514600"/>
            <a:ext cx="10666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523880" y="251424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83EF-0EE7-4AD2-BE8F-0E03726D1F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981080" y="1828800"/>
            <a:ext cx="4953240" cy="28954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report with the wi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CCAB-1678-4F51-A0B8-986E244D198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4629240" cy="34956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port Summary O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153120" y="4114800"/>
            <a:ext cx="21337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is button to calculate subtotals eas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5086080" y="44956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1FD8-17F5-4E94-9CCE-4802540CA8A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 O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371680" y="1762200"/>
            <a:ext cx="4400640" cy="333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F40F-AB26-4C61-8B13-DD80F713333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990800" y="1447920"/>
            <a:ext cx="3495600" cy="464796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itial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324480" y="251928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324480" y="320508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 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324480" y="389088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Item 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5105520" y="2209680"/>
            <a:ext cx="1218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5029200" y="274320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4952880" y="251460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4952880" y="342900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4952880" y="4114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4952880" y="4114800"/>
            <a:ext cx="13716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67A0-605F-4B90-96C6-11759A9ABAC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4572000" cy="46389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port Desig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4920" y="2048040"/>
            <a:ext cx="19047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4920" y="2733840"/>
            <a:ext cx="19047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 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04920" y="3267000"/>
            <a:ext cx="19047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Item 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09680" y="227664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209680" y="2962440"/>
            <a:ext cx="762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09680" y="3495600"/>
            <a:ext cx="762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467480" y="3876840"/>
            <a:ext cx="12193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textbox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6400440" y="425772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6933960" y="2962440"/>
            <a:ext cx="5331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0364-4972-4522-82CA-6647ACFDA28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905120" y="1828800"/>
            <a:ext cx="5029200" cy="28195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some unnecessary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 items around to improve the l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text box in the Detail section called Value to compute [QuantitySold]*[SalePric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currency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the Sum calculations to be Sum([QuantitySold]*[SalePric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form and clean up the 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51BF-9056-4A3E-B20D-FCA4C9C05F2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2895480" y="1708200"/>
            <a:ext cx="5133960" cy="42354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inal Desig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4267080"/>
            <a:ext cx="15238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057400" y="449568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48320" y="4648320"/>
            <a:ext cx="15238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ct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172200" y="457164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72200" y="48769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72200" y="4876920"/>
            <a:ext cx="3808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B5E3-69E7-4E9B-8803-B827EFB8127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inal Report (One Page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340200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04B9-F40A-43AD-8547-E6D69E955B3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752480" y="1981080"/>
            <a:ext cx="5334120" cy="266724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to total sales by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report based o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Customer group, set the Keep Together property to Whol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DB10-FE26-43F3-B434-2A8145283E4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Totals Without Ite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85800" y="2057400"/>
            <a:ext cx="784872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ustomer.CustomerID, Customer.LastName, Customer.FirstName, Customer.Phone, Customer.EMail, Sale.SaleID, Sale.SaleDate, Sale.ShipCity, Sale.ShipState, Sum([SalePrice]*[QuantitySold]) AS [Valu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(Customer INNER JOIN Sale ON Customer.CustomerID = Sale.CustomerID) INNER JOIN SaleItem ON Sale.SaleID = SaleItem.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Y Customer.CustomerID, Customer.LastName, Customer.FirstName, Customer.Phone, Customer.EMail, Sale.SaleID, Sale.SaleDate, Sale.ShipCity, Sale.Ship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 BY Customer.LastName, Customer.First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850F-0FBF-46E0-97BE-BB7A7A0E4E1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09680" y="2057400"/>
            <a:ext cx="4648320" cy="22860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the form wi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Customer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er all columns to the right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Columnar 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a 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a name for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7DDE-93EE-4433-B0D5-5097CCD53F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les Total Desig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4572000" cy="463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D8B5-F556-4BD2-B28E-57582999574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143000" y="1828800"/>
            <a:ext cx="6858000" cy="33526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simple report based on the Customer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Sale sub-report from the Sale and SaleItem tables, grouping it by SaleI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Rental sub-report from the Rental and RentalItem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Customer report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and drop the two sub-reports onto the Detail section of the Customer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properties of the sub-reports to set the Link Child and Link Master Fields to 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B5F6-CAF7-43C1-82C0-4B102F80E46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1981080" y="1606680"/>
            <a:ext cx="5181840" cy="44892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report: Sales and Renta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3276720"/>
            <a:ext cx="12956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report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905120" y="3657600"/>
            <a:ext cx="1752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1905120" y="2971440"/>
            <a:ext cx="2666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162920" y="2438280"/>
            <a:ext cx="1371600" cy="1739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main customer report (master) to subreport (chil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6095880" y="3276720"/>
            <a:ext cx="10670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6172200" y="32767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F14E-CC9F-4CA5-897F-8D9D000333E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report Displa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86040" y="1476360"/>
            <a:ext cx="3386160" cy="454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6DA8-1388-4371-B668-B5BDFBB3472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600200" y="1981080"/>
            <a:ext cx="5715000" cy="266724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blank form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properties to remove the scroll bars and navigation but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ommand buttons to open other forms (Form Operations/Open Form) and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olors and graphics to make the form appe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form and test all but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B9F2-AC4D-4398-B2AD-E30964E59D0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2610000" y="1863720"/>
            <a:ext cx="5848200" cy="352440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ing a Switchboard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2168640"/>
            <a:ext cx="14475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209680" y="247320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62120" y="3006720"/>
            <a:ext cx="144756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ommand but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2209680" y="3387600"/>
            <a:ext cx="1143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209680" y="3540240"/>
            <a:ext cx="12193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038480" y="5369040"/>
            <a:ext cx="14479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forms or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4419720" y="3921120"/>
            <a:ext cx="76176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4419720" y="4073040"/>
            <a:ext cx="8380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4D18-6D34-4E7D-B7CC-E7AF93FE960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133720" y="1905120"/>
            <a:ext cx="4952880" cy="304776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View/Toolbars/Custom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Toolbars tab create a new tool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Commands t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the main form icon onto the tool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Customers menu option and drag the customer forms and reports onto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Help i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tool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5DF9-A501-4916-BB5E-FE0B2CEE755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1819440" y="1771560"/>
            <a:ext cx="3666960" cy="348624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ing Toolbars and Menu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2209680"/>
            <a:ext cx="14479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tool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5257440" y="2514600"/>
            <a:ext cx="11430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2437920" y="2285640"/>
            <a:ext cx="3962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0837-957E-45B9-A8FD-15A406ECC85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781280" y="1452600"/>
            <a:ext cx="4467240" cy="440532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oolbars and Menu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477120" y="2819520"/>
            <a:ext cx="144756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commands onto the tool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4952880" y="3123720"/>
            <a:ext cx="1524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3657600" y="3429000"/>
            <a:ext cx="281952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2895120" y="3429000"/>
            <a:ext cx="3581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C6E9-130E-4A64-B5FF-E715E994888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914400" y="1600200"/>
            <a:ext cx="7238880" cy="37339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t least three HTML help files for the All Powder forms using an HTML editor or Word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ecessary, download and install the HTML Help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project in the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HTML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the HTML files to add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mapping file with a text editor and add it to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project options to build the TOC and index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e and test the help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the database forms and add the help file name and Content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form and press the F1 key to test the help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4AE4-D49E-4DC7-A674-C7438199369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33680" y="1681200"/>
            <a:ext cx="4629240" cy="34956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ain Form Wizar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2514600"/>
            <a:ext cx="16002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10080" y="2590920"/>
            <a:ext cx="23623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/transfer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647960" y="2971800"/>
            <a:ext cx="14475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486040" y="2971800"/>
            <a:ext cx="6094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57400" y="26668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6614-98A3-478E-A6B1-F4D9ADC30D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TML Hel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" y="3807360"/>
            <a:ext cx="1600200" cy="1620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370240" y="2059200"/>
            <a:ext cx="1701720" cy="785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Powder.c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095880" y="2116800"/>
            <a:ext cx="91440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Top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095880" y="3204360"/>
            <a:ext cx="91440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Top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095880" y="4271040"/>
            <a:ext cx="91440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Top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315200" y="2116800"/>
            <a:ext cx="91440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Top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204360"/>
            <a:ext cx="91440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Top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15200" y="4271040"/>
            <a:ext cx="91440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To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38080" y="4923000"/>
            <a:ext cx="2667240" cy="107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erti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p File: AllPowder.ch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p Context ID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350240" y="3205080"/>
            <a:ext cx="115776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Topic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Topic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Topic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Topic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Topic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Topic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5486400" y="2590920"/>
            <a:ext cx="609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5562720" y="342864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486400" y="39625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75040" y="1225440"/>
            <a:ext cx="4749840" cy="4683240"/>
          </a:xfrm>
          <a:custGeom>
            <a:avLst/>
            <a:gdLst/>
            <a:ahLst/>
            <a:rect l="l" t="t" r="r" b="b"/>
            <a:pathLst>
              <a:path w="2992" h="2950">
                <a:moveTo>
                  <a:pt x="1554" y="340"/>
                </a:moveTo>
                <a:cubicBezTo>
                  <a:pt x="1154" y="445"/>
                  <a:pt x="621" y="717"/>
                  <a:pt x="375" y="996"/>
                </a:cubicBezTo>
                <a:cubicBezTo>
                  <a:pt x="129" y="1275"/>
                  <a:pt x="0" y="1707"/>
                  <a:pt x="79" y="2012"/>
                </a:cubicBezTo>
                <a:cubicBezTo>
                  <a:pt x="158" y="2317"/>
                  <a:pt x="415" y="2740"/>
                  <a:pt x="847" y="2828"/>
                </a:cubicBezTo>
                <a:cubicBezTo>
                  <a:pt x="1279" y="2916"/>
                  <a:pt x="2350" y="2950"/>
                  <a:pt x="2671" y="2540"/>
                </a:cubicBezTo>
                <a:cubicBezTo>
                  <a:pt x="2992" y="2130"/>
                  <a:pt x="2959" y="734"/>
                  <a:pt x="2773" y="367"/>
                </a:cubicBezTo>
                <a:cubicBezTo>
                  <a:pt x="2587" y="0"/>
                  <a:pt x="1933" y="237"/>
                  <a:pt x="1554" y="34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2209680" y="2819160"/>
            <a:ext cx="121932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194000" y="190512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4114800" y="2286000"/>
            <a:ext cx="9907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60C1-FB0A-4AF9-81F7-D6B86C7C8F9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TML Help Fi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38080" y="1371600"/>
            <a:ext cx="716292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Object type="application/x-oleobject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id="clsid:1e2a7bd0-dab9-11d0-b93a-00c04fc99f9e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ARAM name="Keyword" value="Content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ARAM name="Keyword" value="Introduction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ARAM name="Keyword" value="Start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ARAM name="Keyword" value="Management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OBJECT&gt;&lt;HTML&gt;&lt;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ITLE&gt;All Powder Board and Ski Shop&lt;/TIT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NK rel="stylesheet" type="text/css" href="Styles.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HEAD&gt;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H1&gt;Introduction to the All Powder Board and Ski Shop&lt;/H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ABLE&gt;&lt;T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D&gt;&lt;IMG SRC='BoardLogo1.gif' border='0'&gt;&lt;/T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D&gt;All Powder Board and Ski Shop sells and rents snowboards and skis for all levels of riders and skiers.&lt;/T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TR&gt;&lt;/TAB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H2&gt;The Board and Ski Shop&lt;/H2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UL&gt;&lt;LI&gt;&lt;A HREF=’Customers.html'&gt;Customers&lt;/A&gt;&lt;/LI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&gt;&lt;A HREF=’Sales.html'&gt;Sales &lt;/A&gt;&lt;/LI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UL&gt;&lt;/BODY&gt;&lt;/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5DAB-7D5B-442D-AF40-2B127BE8DA3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opics Map Fi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981080" y="2057400"/>
            <a:ext cx="457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define AllPow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define Custom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define Sa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DFB5-AEA2-4168-8810-E88F227F7CA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elp Compiler and Fi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077840" y="1600200"/>
            <a:ext cx="698652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0854-3917-4816-9B10-121E1E18549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2233440" y="1542960"/>
            <a:ext cx="4624560" cy="45529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elp File on Access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781680" y="4133880"/>
            <a:ext cx="14479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4572000" y="4362480"/>
            <a:ext cx="22096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781680" y="4971960"/>
            <a:ext cx="16765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ic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4343040" y="5200560"/>
            <a:ext cx="2438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F2E4-4881-4E36-A589-250B9D70937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752480" y="1166760"/>
            <a:ext cx="5562720" cy="50817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orm Design View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86600" y="1905120"/>
            <a:ext cx="16002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box to add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629400" y="228600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010280" y="4114800"/>
            <a:ext cx="19814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rties to control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5866920" y="4190760"/>
            <a:ext cx="11430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4038480"/>
            <a:ext cx="129564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to open control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447920" y="3352680"/>
            <a:ext cx="190476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2610000"/>
            <a:ext cx="129564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to open form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1447920" y="274320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2280" y="1143000"/>
            <a:ext cx="129564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to design or display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16002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685800"/>
            <a:ext cx="16002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 Lis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724280" y="1066680"/>
            <a:ext cx="9144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23FC-36DC-4E37-83FF-20077164C8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0" y="2876400"/>
            <a:ext cx="3095640" cy="23814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838080" y="2876400"/>
            <a:ext cx="3095640" cy="23814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ata Source Propert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2016000"/>
            <a:ext cx="22096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 Source = Customer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26400" y="525780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04360" y="525780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229360" y="2016000"/>
            <a:ext cx="23619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Source = CustomerID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742840" y="2666880"/>
            <a:ext cx="6094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372000" y="2666880"/>
            <a:ext cx="99036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F2C2-100D-4C0C-9C82-EE49D978A0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81080" y="1905120"/>
            <a:ext cx="5257800" cy="2743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Customer form to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label as a form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command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Record Operation/Delete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command button to insert 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form and test the but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/Tab Order and verify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ED77-2613-4802-99B6-05201F592B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dding Command Butt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257560" y="1909800"/>
            <a:ext cx="4628880" cy="303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EF89-FB6A-4882-9258-7241F30D39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6-06-22T23:16:00Z</dcterms:modified>
  <cp:revision>51</cp:revision>
  <dc:subject/>
  <dc:title>All Powder Board and Ski</dc:title>
</cp:coreProperties>
</file>