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423-7516-4007-8B7E-A4A8080B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814-A375-4F6D-8044-05384E3C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E17-D2A3-4A0C-8D35-4E0648A2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208-2ACD-499A-9FE8-98CA8D3D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F228-1840-4F88-9DDE-5F1D72BA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6941-29FB-4C15-80FE-EE32548A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C76E-71B6-471E-984C-5391F241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2BF2-EE07-4690-9784-4583003B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E0C3-F032-4FF6-B89F-0913FE27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8B31-B8CA-4295-8E70-AF62C9E5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0E84-9F69-44A6-A4CF-2E3A1BA2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607-3442-453F-8728-35A6AFC1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E4EE-9F4A-480C-8DCF-084C0034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5C00-0E2B-42ED-802D-0D8E9B59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7E37-162E-455E-88BA-815F54E1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562A-8AE9-4550-A197-CA391A43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542F-E067-4F66-8E56-8291A1E8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C56-273C-4339-AA55-3F4196D5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83B-1607-4F1A-8FEE-508B3782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B9E-DC32-4A6B-B738-26256B09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D632-BBFF-4827-8CD7-F1058525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A17-0D8A-4E9F-8D8C-E2FDC66B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507-AB3A-4A6E-AB97-7CA3E854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22C-ED8A-48FC-ADA4-D111C6E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0FAC-1FB6-4117-84B9-4C9D2A9F7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47C6-FD6E-466E-8CAB-580211E8E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8291-C386-45CF-A304-B965F3B7E5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2: Physical Data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562720" cy="446256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E712-6654-44BB-ABF0-5C3630B90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: Manual Data Part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3352680" y="4876920"/>
            <a:ext cx="17528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able to old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4724280" y="4038480"/>
            <a:ext cx="17528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3"/>
          <p:cNvSpPr/>
          <p:nvPr/>
        </p:nvSpPr>
        <p:spPr>
          <a:xfrm flipH="1">
            <a:off x="2590920" y="525780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3309-A457-4383-BFD8-6DFE220AE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828800" y="2057400"/>
            <a:ext cx="5410080" cy="29718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blank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opy of the ItemModel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it with all data before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ItemModel table in the main database, remove the data before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linked table in the main database to connect to the olde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UNION query that retrieves all rows of data for the ItemModel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EF9F-DD48-4A4B-9A96-365B8D5E1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icrosoft Access File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600200"/>
          <a:ext cx="7497720" cy="3924360"/>
        </p:xfrm>
        <a:graphic>
          <a:graphicData uri="http://schemas.openxmlformats.org/drawingml/2006/table">
            <a:tbl>
              <a:tblPr/>
              <a:tblGrid>
                <a:gridCol w="1176480"/>
                <a:gridCol w="1176480"/>
                <a:gridCol w="514476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uf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 Suf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database file to hold data, forms, and repor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C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s lock data to prevent multi-user collisio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pped down MDB file that removes source code and prevents users from editing forms and repor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late file. Download the Access Extensions to create template files from your datab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-time version that prevents changes to forms and reports. You can restore it by renaming the extens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group file that contains user and group login information. The default is System.MDW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file that contains code to connect to a SQL Server datab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AF35-1E55-4E3A-B140-1E6AFA3CB5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et Engine Registry Sett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2" descr=""/>
          <p:cNvPicPr/>
          <p:nvPr/>
        </p:nvPicPr>
        <p:blipFill>
          <a:blip r:embed="rId1"/>
          <a:stretch/>
        </p:blipFill>
        <p:spPr>
          <a:xfrm>
            <a:off x="981000" y="1495440"/>
            <a:ext cx="7182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D4DE-4FE9-4B74-8358-D8A4028F0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14400" y="1905120"/>
            <a:ext cx="7162920" cy="16761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he registry editor with Start/Run/rege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Local Machine keys to find the entries for the Jet eng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Threads value from 3 t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some queries and forms to see if performanc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4T17:48:11Z</dcterms:modified>
  <cp:revision>87</cp:revision>
  <dc:subject/>
  <dc:title>All Powder Board and Ski</dc:title>
</cp:coreProperties>
</file>