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2395-F529-41EC-95DF-D9CD2A447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FE96-7377-4F1C-99F8-EFCFDF73B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24A1-6080-49B9-B13F-3F1E3D741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3D74-BDEA-48F7-92F6-D595EF6A2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BDF49-111F-4767-A9AB-F0A1BB791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A51E9-E334-4A6C-AB43-E48F21A1F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30236-4781-4EE2-AADE-B593E6F04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B6AC2-1140-4987-9A3B-0EEBE38FE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D8921-5117-4E94-8CFC-90169F5E7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EC68B-1BEB-483D-A14D-E41F70053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516C7-6234-4E45-BD80-2461AAC13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0EA9-CD7B-489F-996D-53BA5BBC7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4BBFD-8581-4136-B55F-74CE49587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789C8-CD60-4328-ACD8-ED51CC4E6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AF3B0-8879-4FFB-9649-B9DDA21CE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DD97A-CE6E-4320-BDE0-1CAB77388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A893D-4FE4-4797-BE64-0EB455967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68A7-36D3-40A0-93C2-54C3E861D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C350-50F7-4977-9085-DB3374299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A297-D795-455C-8EE2-5186A4CC1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8FF0-439F-4FCA-A858-BBF284762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8A21-F8D2-4F1B-A18E-DFA3C8B2E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F53C-E11F-4AE1-B218-C40E1868D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41D0-A158-49E7-BD52-007373520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E68DD-67D5-4CD0-8D5B-E1CB841028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D498F-3908-4E7E-BB1C-58EDD0A12F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1"/>
          <p:cNvSpPr/>
          <p:nvPr/>
        </p:nvSpPr>
        <p:spPr>
          <a:xfrm>
            <a:off x="6553080" y="6248520"/>
            <a:ext cx="2133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19866-3FEF-4F1E-B9D6-2B0B3CA913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All Powder Board and Ski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rosoft Access Work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4: Qu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rry P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right ©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0A8FF-9E4D-41B6-BF26-B278667B65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QL Versio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533520" y="1322280"/>
            <a:ext cx="8153280" cy="28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ItemModel.Category, ItemModel.Color, ItemModel.ItemMaterial, ItemModel.Style, ItemModel.List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Item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(((ItemModel.Category)="Ski") AND ((ItemModel.Color)="Yellow") AND ((ItemModel.ItemMaterial)="Composite") AND ((ItemModel.Style)="Jump") AND ((ItemModel.ListPrice)&lt;300)) OR (((ItemModel.Category)="Ski") AND ((ItemModel.Color)="Red") AND ((ItemModel.ItemMaterial)="Composite") AND ((ItemModel.Style)="Jump") AND ((ItemModel.ListPrice)&lt;400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609480" y="4416480"/>
            <a:ext cx="80773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Category, Color, ItemMaterial, Style, List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Item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(Category="Ski" AND ItemMaterial="Composite" AND Style="Jump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( ( Color="Yellow" AND ListPrice&lt;3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(Color="Red" AND ListPrice&lt;400)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18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4717800" cy="2971800"/>
          </a:xfrm>
          <a:prstGeom prst="rect">
            <a:avLst/>
          </a:prstGeom>
          <a:ln w="0">
            <a:noFill/>
          </a:ln>
        </p:spPr>
      </p:pic>
      <p:sp>
        <p:nvSpPr>
          <p:cNvPr id="152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B12AA-2BFF-4FD0-B4EA-F376769858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JOIN Query: Sal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9"/>
          <p:cNvSpPr/>
          <p:nvPr/>
        </p:nvSpPr>
        <p:spPr>
          <a:xfrm>
            <a:off x="3048120" y="1981080"/>
            <a:ext cx="15238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s in M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0"/>
          <p:cNvSpPr/>
          <p:nvPr/>
        </p:nvSpPr>
        <p:spPr>
          <a:xfrm>
            <a:off x="4800600" y="1981080"/>
            <a:ext cx="16765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h pa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1"/>
          <p:cNvSpPr/>
          <p:nvPr/>
        </p:nvSpPr>
        <p:spPr>
          <a:xfrm flipH="1">
            <a:off x="3733920" y="2362320"/>
            <a:ext cx="38088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2"/>
          <p:cNvSpPr/>
          <p:nvPr/>
        </p:nvSpPr>
        <p:spPr>
          <a:xfrm>
            <a:off x="5105520" y="2362320"/>
            <a:ext cx="3045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9" descr=""/>
          <p:cNvPicPr/>
          <p:nvPr/>
        </p:nvPicPr>
        <p:blipFill>
          <a:blip r:embed="rId2"/>
          <a:stretch/>
        </p:blipFill>
        <p:spPr>
          <a:xfrm>
            <a:off x="1905120" y="4191120"/>
            <a:ext cx="472428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1009E-3057-4E1E-9D7F-45AB90CF59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838080" y="1905120"/>
            <a:ext cx="7391520" cy="304776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query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the Sal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columns: SaleID, SaleDate, CustomerID, and Payment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conditions for Cash sales in M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Query/Show Table (or butt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he Customer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columns: LastName, Firs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w the 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0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6172200" cy="32385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1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6400800" cy="1981080"/>
          </a:xfrm>
          <a:prstGeom prst="rect">
            <a:avLst/>
          </a:prstGeom>
          <a:ln w="0">
            <a:noFill/>
          </a:ln>
        </p:spPr>
      </p:pic>
      <p:sp>
        <p:nvSpPr>
          <p:cNvPr id="164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50DB1-7354-48CA-8431-3B7A658B57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JOIN Tables: Sale + Custome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13"/>
          <p:cNvSpPr/>
          <p:nvPr/>
        </p:nvSpPr>
        <p:spPr>
          <a:xfrm>
            <a:off x="4191120" y="2438280"/>
            <a:ext cx="20574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ching n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4"/>
          <p:cNvSpPr/>
          <p:nvPr/>
        </p:nvSpPr>
        <p:spPr>
          <a:xfrm flipH="1">
            <a:off x="4343400" y="281952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5"/>
          <p:cNvSpPr/>
          <p:nvPr/>
        </p:nvSpPr>
        <p:spPr>
          <a:xfrm flipH="1">
            <a:off x="4952520" y="2819520"/>
            <a:ext cx="38124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3BDF2-E7AA-43F7-87FA-0FA74BA273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JOIN: SQ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533520" y="2009880"/>
            <a:ext cx="78483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Sale.SaleID, Sale.SaleDate, Sale.CustomerID, Customer.LastName, Customer.FirstName, Sale.Payment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Customer INNER JOIN Sale ON Customer.CustomerID = Sale.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(Sale.SaleDate Between #5/1/2006# And #5/31/2006# AND Sale.PaymentMethod="Cash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82FA4-E12F-4883-95BC-9761739161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Building a More Complex Que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914400" y="1523880"/>
            <a:ext cx="65530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customers bought Atomic skis in January or Februar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914400" y="2128680"/>
          <a:ext cx="6934320" cy="1700280"/>
        </p:xfrm>
        <a:graphic>
          <a:graphicData uri="http://schemas.openxmlformats.org/drawingml/2006/table">
            <a:tbl>
              <a:tblPr/>
              <a:tblGrid>
                <a:gridCol w="3112920"/>
                <a:gridCol w="38214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do you want to see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mer names, Sale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do you know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facturer name, SaleDate range, Category is Sk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tables are involved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are they joined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mer … Sale … ItemModel, Manufactur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Text Box 31"/>
          <p:cNvSpPr/>
          <p:nvPr/>
        </p:nvSpPr>
        <p:spPr>
          <a:xfrm>
            <a:off x="914400" y="4186080"/>
            <a:ext cx="708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Name, FirstName, Sale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Customer, …, Sale, …, ItemModel, Manufactu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Manufacturer.Name=“Atomic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Sale.SaleDate BETWEEN 1/1/2006 AND 2/28/200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ItemModel.Category = “Ski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32"/>
          <p:cNvSpPr/>
          <p:nvPr/>
        </p:nvSpPr>
        <p:spPr>
          <a:xfrm>
            <a:off x="5549760" y="2286000"/>
            <a:ext cx="2934000" cy="2073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33"/>
          <p:cNvSpPr/>
          <p:nvPr/>
        </p:nvSpPr>
        <p:spPr>
          <a:xfrm>
            <a:off x="6324480" y="2819520"/>
            <a:ext cx="2298960" cy="23619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15" descr=""/>
          <p:cNvPicPr/>
          <p:nvPr/>
        </p:nvPicPr>
        <p:blipFill>
          <a:blip r:embed="rId1"/>
          <a:stretch/>
        </p:blipFill>
        <p:spPr>
          <a:xfrm>
            <a:off x="1219320" y="990720"/>
            <a:ext cx="6451560" cy="4197240"/>
          </a:xfrm>
          <a:prstGeom prst="rect">
            <a:avLst/>
          </a:prstGeom>
          <a:ln w="0">
            <a:noFill/>
          </a:ln>
        </p:spPr>
      </p:pic>
      <p:sp>
        <p:nvSpPr>
          <p:cNvPr id="180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46BB9-17BA-46AE-A88E-95FD70711B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Join: Many Tabl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16" descr=""/>
          <p:cNvPicPr/>
          <p:nvPr/>
        </p:nvPicPr>
        <p:blipFill>
          <a:blip r:embed="rId2"/>
          <a:stretch/>
        </p:blipFill>
        <p:spPr>
          <a:xfrm>
            <a:off x="1066680" y="5029200"/>
            <a:ext cx="686916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C7AAF-2C3A-4002-8A3F-F01B547514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QL: Many Table Joi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457200" y="1905120"/>
            <a:ext cx="815328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Customer.LastName, Customer.FirstName, ItemModel.Category, Manufacturer.Name, Sale.Sale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Manufacturer INNER JOIN (ItemModel INNER JOIN (Inventory INNER JOIN ((Customer INNER JOIN Sale ON Customer.CustomerID = Sale.CustomerID) INNER JOIN SaleItem ON Sale.SaleID = SaleItem.SaleID) ON Inventory.SKU = SaleItem.SKU) ON ItemModel.ModelID = Inventory.ModelID) ON Manufacturer.ManufacturerID = ItemModel.Manufactur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(((ItemModel.Category)="Ski") AND ((Manufacturer.Name)="Atomic") AND ((Sale.SaleDate) Between #1/1/2006# And #2/29/2006#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479A5-2916-4207-BA79-13FB1E33D4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1676520" y="1981080"/>
            <a:ext cx="5790960" cy="198144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query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he ItemModel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columns: Category, ItemMaterial, and List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new column as Profit: [ListPrice]-[Cost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3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4343400" cy="30542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4" descr=""/>
          <p:cNvPicPr/>
          <p:nvPr/>
        </p:nvPicPr>
        <p:blipFill>
          <a:blip r:embed="rId2"/>
          <a:stretch/>
        </p:blipFill>
        <p:spPr>
          <a:xfrm>
            <a:off x="4648320" y="2514600"/>
            <a:ext cx="4005000" cy="3213000"/>
          </a:xfrm>
          <a:prstGeom prst="rect">
            <a:avLst/>
          </a:prstGeom>
          <a:ln w="0">
            <a:noFill/>
          </a:ln>
        </p:spPr>
      </p:pic>
      <p:sp>
        <p:nvSpPr>
          <p:cNvPr id="191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35764-D907-41B9-9267-00C7DC1705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alculatio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9"/>
          <p:cNvSpPr/>
          <p:nvPr/>
        </p:nvSpPr>
        <p:spPr>
          <a:xfrm>
            <a:off x="3048120" y="1905120"/>
            <a:ext cx="22860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d colu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4"/>
          <p:cNvSpPr/>
          <p:nvPr/>
        </p:nvSpPr>
        <p:spPr>
          <a:xfrm>
            <a:off x="7772400" y="2743200"/>
            <a:ext cx="685800" cy="29718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5"/>
          <p:cNvSpPr/>
          <p:nvPr/>
        </p:nvSpPr>
        <p:spPr>
          <a:xfrm>
            <a:off x="533520" y="44956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Category, ItemMaterial, ListPrice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stPrice-Cost AS Pro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Item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ER BY Category, ListPrice DES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6"/>
          <p:cNvSpPr/>
          <p:nvPr/>
        </p:nvSpPr>
        <p:spPr>
          <a:xfrm flipH="1">
            <a:off x="3809880" y="2286000"/>
            <a:ext cx="6098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7"/>
          <p:cNvSpPr/>
          <p:nvPr/>
        </p:nvSpPr>
        <p:spPr>
          <a:xfrm>
            <a:off x="4419720" y="2286000"/>
            <a:ext cx="34290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7C4EC-E4E6-4A63-A98E-347BD7418C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imary Tabl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871560" y="1828800"/>
            <a:ext cx="7399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6A85C-AC10-4DA0-A5FB-35F5A9FFF8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mmon Functio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1523880" y="1447920"/>
            <a:ext cx="57913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ca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lower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gth/number of charac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 sub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ve leading and trailing sp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ca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upper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Ad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days, months, years to a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Dif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tract two 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ly detailed format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date and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olute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ine, all common trig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er, drop decimal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g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nd-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5" descr=""/>
          <p:cNvPicPr/>
          <p:nvPr/>
        </p:nvPicPr>
        <p:blipFill>
          <a:blip r:embed="rId1"/>
          <a:stretch/>
        </p:blipFill>
        <p:spPr>
          <a:xfrm>
            <a:off x="304920" y="2286000"/>
            <a:ext cx="3711600" cy="3733920"/>
          </a:xfrm>
          <a:prstGeom prst="rect">
            <a:avLst/>
          </a:prstGeom>
          <a:ln w="0">
            <a:noFill/>
          </a:ln>
        </p:spPr>
      </p:pic>
      <p:sp>
        <p:nvSpPr>
          <p:cNvPr id="202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E3C34-F1F1-4935-945C-55AACE737D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ormat Fun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9"/>
          <p:cNvSpPr/>
          <p:nvPr/>
        </p:nvSpPr>
        <p:spPr>
          <a:xfrm>
            <a:off x="2666880" y="2590920"/>
            <a:ext cx="838440" cy="31240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14" descr=""/>
          <p:cNvPicPr/>
          <p:nvPr/>
        </p:nvPicPr>
        <p:blipFill>
          <a:blip r:embed="rId2"/>
          <a:stretch/>
        </p:blipFill>
        <p:spPr>
          <a:xfrm>
            <a:off x="3581280" y="1371600"/>
            <a:ext cx="495324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4723B-76CF-470F-AE0B-EC8A2AEC7D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990720" y="2057400"/>
            <a:ext cx="7162560" cy="228600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query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he Sal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columns: SaleID and Sale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new column as LateDate: [SaleDate]+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new column as LateMonth: DateAdd(“m”,1,[SaleDate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0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5486400" cy="30780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1" descr=""/>
          <p:cNvPicPr/>
          <p:nvPr/>
        </p:nvPicPr>
        <p:blipFill>
          <a:blip r:embed="rId2"/>
          <a:stretch/>
        </p:blipFill>
        <p:spPr>
          <a:xfrm>
            <a:off x="3352680" y="3429000"/>
            <a:ext cx="3426120" cy="2743200"/>
          </a:xfrm>
          <a:prstGeom prst="rect">
            <a:avLst/>
          </a:prstGeom>
          <a:ln w="0">
            <a:noFill/>
          </a:ln>
        </p:spPr>
      </p:pic>
      <p:sp>
        <p:nvSpPr>
          <p:cNvPr id="211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B7A45-2AAF-4DEA-9E7E-2FC9CD342E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ateAdd and DateDiff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9"/>
          <p:cNvSpPr/>
          <p:nvPr/>
        </p:nvSpPr>
        <p:spPr>
          <a:xfrm>
            <a:off x="5410080" y="1828800"/>
            <a:ext cx="27432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Date + one mo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0"/>
          <p:cNvSpPr/>
          <p:nvPr/>
        </p:nvSpPr>
        <p:spPr>
          <a:xfrm>
            <a:off x="2514600" y="1828800"/>
            <a:ext cx="22860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Date + 30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1"/>
          <p:cNvSpPr/>
          <p:nvPr/>
        </p:nvSpPr>
        <p:spPr>
          <a:xfrm>
            <a:off x="3048120" y="2209680"/>
            <a:ext cx="15228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3"/>
          <p:cNvSpPr/>
          <p:nvPr/>
        </p:nvSpPr>
        <p:spPr>
          <a:xfrm>
            <a:off x="3048120" y="2209680"/>
            <a:ext cx="22860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4"/>
          <p:cNvSpPr/>
          <p:nvPr/>
        </p:nvSpPr>
        <p:spPr>
          <a:xfrm flipH="1">
            <a:off x="5181120" y="2209680"/>
            <a:ext cx="129564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5"/>
          <p:cNvSpPr/>
          <p:nvPr/>
        </p:nvSpPr>
        <p:spPr>
          <a:xfrm>
            <a:off x="6477120" y="22096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43E75-7631-4D91-813F-3B3A9333F1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1752480" y="1905120"/>
            <a:ext cx="5867640" cy="274320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query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he Sal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columns: ShipState and Sales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w/Totals (or Totals butt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“Where” for Total row in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“CA” as a cri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“Sum” for SalesTax Total 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17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7620120" cy="4981320"/>
          </a:xfrm>
          <a:prstGeom prst="rect">
            <a:avLst/>
          </a:prstGeom>
          <a:ln w="0">
            <a:noFill/>
          </a:ln>
        </p:spPr>
      </p:pic>
      <p:sp>
        <p:nvSpPr>
          <p:cNvPr id="22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B5502-1517-44EA-A27D-C3EF1D3F34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Query: Su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Line 8"/>
          <p:cNvSpPr/>
          <p:nvPr/>
        </p:nvSpPr>
        <p:spPr>
          <a:xfrm flipV="1">
            <a:off x="5867280" y="220968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9"/>
          <p:cNvSpPr/>
          <p:nvPr/>
        </p:nvSpPr>
        <p:spPr>
          <a:xfrm flipH="1">
            <a:off x="3123720" y="3276720"/>
            <a:ext cx="20574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343400" y="2666880"/>
            <a:ext cx="23623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s button adds the Total 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0"/>
          <p:cNvSpPr/>
          <p:nvPr/>
        </p:nvSpPr>
        <p:spPr>
          <a:xfrm>
            <a:off x="5257800" y="4495680"/>
            <a:ext cx="23623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11"/>
          <p:cNvSpPr/>
          <p:nvPr/>
        </p:nvSpPr>
        <p:spPr>
          <a:xfrm flipH="1">
            <a:off x="4724280" y="4724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4"/>
          <p:cNvSpPr/>
          <p:nvPr/>
        </p:nvSpPr>
        <p:spPr>
          <a:xfrm>
            <a:off x="5715000" y="3429000"/>
            <a:ext cx="1905120" cy="7855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OfSales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5,332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CA24C-52C6-49A6-9DF7-54DEBC9E3C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QL: Su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990720" y="190512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Sum(Sale.SalesTax) AS SumOfSales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Sale.ShipState="CA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00A72-9C29-43A9-BFA2-0077120934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2057400" y="1981080"/>
            <a:ext cx="5257800" cy="236232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query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he Sal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columns: ShipState and Sales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w/Totals (or Totals butt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“Sum” for SalesTax Total 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17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4880160" cy="38098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6" descr=""/>
          <p:cNvPicPr/>
          <p:nvPr/>
        </p:nvPicPr>
        <p:blipFill>
          <a:blip r:embed="rId2"/>
          <a:stretch/>
        </p:blipFill>
        <p:spPr>
          <a:xfrm>
            <a:off x="3429000" y="1676520"/>
            <a:ext cx="4089240" cy="3176640"/>
          </a:xfrm>
          <a:prstGeom prst="rect">
            <a:avLst/>
          </a:prstGeom>
          <a:ln w="0">
            <a:noFill/>
          </a:ln>
        </p:spPr>
      </p:pic>
      <p:sp>
        <p:nvSpPr>
          <p:cNvPr id="239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0A3A2-A9C2-4779-8C79-203B2C100A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Query: Group B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Line 10"/>
          <p:cNvSpPr/>
          <p:nvPr/>
        </p:nvSpPr>
        <p:spPr>
          <a:xfrm flipH="1">
            <a:off x="4876560" y="2895480"/>
            <a:ext cx="10666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11"/>
          <p:cNvSpPr/>
          <p:nvPr/>
        </p:nvSpPr>
        <p:spPr>
          <a:xfrm flipH="1">
            <a:off x="1980720" y="2819520"/>
            <a:ext cx="396252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9"/>
          <p:cNvSpPr/>
          <p:nvPr/>
        </p:nvSpPr>
        <p:spPr>
          <a:xfrm>
            <a:off x="5410080" y="1981080"/>
            <a:ext cx="266724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By produces subtotals for all values in the specified colu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A5343-9EAC-424A-ACBD-0D1BD030D1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QL: Group B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762120" y="2286000"/>
            <a:ext cx="73152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Sale.ShipState, Sum(Sale.SalesTax) AS SumOfSales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BY Sale.ShipStat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7" descr=""/>
          <p:cNvPicPr/>
          <p:nvPr/>
        </p:nvPicPr>
        <p:blipFill>
          <a:blip r:embed="rId1"/>
          <a:stretch/>
        </p:blipFill>
        <p:spPr>
          <a:xfrm>
            <a:off x="2133720" y="1523880"/>
            <a:ext cx="6262560" cy="4543560"/>
          </a:xfrm>
          <a:prstGeom prst="rect">
            <a:avLst/>
          </a:prstGeom>
          <a:ln w="0">
            <a:noFill/>
          </a:ln>
        </p:spPr>
      </p:pic>
      <p:sp>
        <p:nvSpPr>
          <p:cNvPr id="9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FFC90-E918-4BC2-8878-4094470440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tarting a Que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457200" y="3124080"/>
            <a:ext cx="16002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9"/>
          <p:cNvSpPr/>
          <p:nvPr/>
        </p:nvSpPr>
        <p:spPr>
          <a:xfrm>
            <a:off x="2057400" y="3276720"/>
            <a:ext cx="190512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6934320" y="2057400"/>
            <a:ext cx="17524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w table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1"/>
          <p:cNvSpPr/>
          <p:nvPr/>
        </p:nvSpPr>
        <p:spPr>
          <a:xfrm flipH="1" flipV="1">
            <a:off x="5562720" y="2057040"/>
            <a:ext cx="1371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2"/>
          <p:cNvSpPr/>
          <p:nvPr/>
        </p:nvSpPr>
        <p:spPr>
          <a:xfrm flipH="1">
            <a:off x="5790960" y="2286000"/>
            <a:ext cx="11430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3"/>
          <p:cNvSpPr/>
          <p:nvPr/>
        </p:nvSpPr>
        <p:spPr>
          <a:xfrm>
            <a:off x="533520" y="4038480"/>
            <a:ext cx="18288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lay fields/colum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4"/>
          <p:cNvSpPr/>
          <p:nvPr/>
        </p:nvSpPr>
        <p:spPr>
          <a:xfrm>
            <a:off x="2362320" y="4267080"/>
            <a:ext cx="198108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533520" y="5257800"/>
            <a:ext cx="15238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6"/>
          <p:cNvSpPr/>
          <p:nvPr/>
        </p:nvSpPr>
        <p:spPr>
          <a:xfrm>
            <a:off x="2057400" y="5410080"/>
            <a:ext cx="22096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1"/>
          <p:cNvSpPr/>
          <p:nvPr/>
        </p:nvSpPr>
        <p:spPr>
          <a:xfrm flipV="1">
            <a:off x="2057400" y="3200400"/>
            <a:ext cx="19051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2"/>
          <p:cNvSpPr/>
          <p:nvPr/>
        </p:nvSpPr>
        <p:spPr>
          <a:xfrm>
            <a:off x="457200" y="2133720"/>
            <a:ext cx="17524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 to SQL or view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23"/>
          <p:cNvSpPr/>
          <p:nvPr/>
        </p:nvSpPr>
        <p:spPr>
          <a:xfrm flipV="1">
            <a:off x="2209680" y="228564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4"/>
          <p:cNvSpPr/>
          <p:nvPr/>
        </p:nvSpPr>
        <p:spPr>
          <a:xfrm flipV="1">
            <a:off x="2209680" y="20574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82C6F-DD58-4B28-B8F9-F502A35801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otal Sales Value in Colorad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5867280" y="3124080"/>
            <a:ext cx="1295640" cy="7855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4,964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8"/>
          <p:cNvSpPr/>
          <p:nvPr/>
        </p:nvSpPr>
        <p:spPr>
          <a:xfrm>
            <a:off x="990720" y="4751280"/>
            <a:ext cx="73911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Sum([QuantitySold]*[SalePrice]) AS Sale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Sale INNER JOIN SaleItem ON Sale.SaleID = SaleItem.Sal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Sale.ShipState="CO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11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4343400" cy="31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05256-64E8-4858-AE7F-9FDF5544F1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1600200" y="2286000"/>
            <a:ext cx="5867280" cy="228600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5360" indent="-225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Create/Query/Query Design to start a new que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he ItemModel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columns for Category, ListPrice, WeightMax, Color, and Graph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conditions for Board, ListPrice, and W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B8578-0DBE-4530-9723-E48D2F6045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ample Que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533520" y="362592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Display snowboards with a list price under $300 and max weight over 150 pou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533520" y="4343400"/>
            <a:ext cx="80010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ItemModel.Category, ItemModel.ListPrice, ItemModel.WeightMax, ItemModel.Color, ItemModel.Graph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Item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(((ItemModel.Category)="Board") AND ((ItemModel.ListPrice)&lt;300) AND ((ItemModel.WeightMax)&gt;150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4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3733560" cy="22460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5" descr=""/>
          <p:cNvPicPr/>
          <p:nvPr/>
        </p:nvPicPr>
        <p:blipFill>
          <a:blip r:embed="rId2"/>
          <a:stretch/>
        </p:blipFill>
        <p:spPr>
          <a:xfrm>
            <a:off x="4572000" y="1447920"/>
            <a:ext cx="358128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4041E-7012-4023-843F-65497E5EBA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2057400" y="2209680"/>
            <a:ext cx="4800600" cy="274320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5360" indent="-225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query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he ItemModel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columns: Category, Color, ItemMaterial, Style, and List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requested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the 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5" descr=""/>
          <p:cNvPicPr/>
          <p:nvPr/>
        </p:nvPicPr>
        <p:blipFill>
          <a:blip r:embed="rId1"/>
          <a:stretch/>
        </p:blipFill>
        <p:spPr>
          <a:xfrm>
            <a:off x="1905120" y="3111480"/>
            <a:ext cx="5333760" cy="2832120"/>
          </a:xfrm>
          <a:prstGeom prst="rect">
            <a:avLst/>
          </a:prstGeom>
          <a:ln w="0">
            <a:noFill/>
          </a:ln>
        </p:spPr>
      </p:pic>
      <p:sp>
        <p:nvSpPr>
          <p:cNvPr id="12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546B1-C9E9-452D-804E-D32F72136D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re Complex Que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369360" y="1407960"/>
            <a:ext cx="3465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i for jump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site mater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 or Yellow main col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llow skis must be under $3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 skis must be under $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3581280" y="3581280"/>
            <a:ext cx="266724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 main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0"/>
          <p:cNvSpPr/>
          <p:nvPr/>
        </p:nvSpPr>
        <p:spPr>
          <a:xfrm flipH="1">
            <a:off x="2819520" y="3962520"/>
            <a:ext cx="175248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1"/>
          <p:cNvSpPr/>
          <p:nvPr/>
        </p:nvSpPr>
        <p:spPr>
          <a:xfrm>
            <a:off x="4572000" y="39625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2"/>
          <p:cNvSpPr/>
          <p:nvPr/>
        </p:nvSpPr>
        <p:spPr>
          <a:xfrm>
            <a:off x="4572000" y="3962520"/>
            <a:ext cx="76212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6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5165640" cy="2743200"/>
          </a:xfrm>
          <a:prstGeom prst="rect">
            <a:avLst/>
          </a:prstGeom>
          <a:ln w="0">
            <a:noFill/>
          </a:ln>
        </p:spPr>
      </p:pic>
      <p:sp>
        <p:nvSpPr>
          <p:cNvPr id="134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EAFD0-F540-4E3F-84C2-8D292B12E7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lor Optio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2695680" y="2209680"/>
            <a:ext cx="33526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llow and price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9"/>
          <p:cNvSpPr/>
          <p:nvPr/>
        </p:nvSpPr>
        <p:spPr>
          <a:xfrm flipH="1">
            <a:off x="2924280" y="2590920"/>
            <a:ext cx="9144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0"/>
          <p:cNvSpPr/>
          <p:nvPr/>
        </p:nvSpPr>
        <p:spPr>
          <a:xfrm>
            <a:off x="3838680" y="2590920"/>
            <a:ext cx="16002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1"/>
          <p:cNvSpPr/>
          <p:nvPr/>
        </p:nvSpPr>
        <p:spPr>
          <a:xfrm>
            <a:off x="1400040" y="4419720"/>
            <a:ext cx="55627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5 conditions must hold, so only one row mat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7" descr=""/>
          <p:cNvPicPr/>
          <p:nvPr/>
        </p:nvPicPr>
        <p:blipFill>
          <a:blip r:embed="rId2"/>
          <a:stretch/>
        </p:blipFill>
        <p:spPr>
          <a:xfrm>
            <a:off x="1371600" y="4890960"/>
            <a:ext cx="4648320" cy="13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6" descr=""/>
          <p:cNvPicPr/>
          <p:nvPr/>
        </p:nvPicPr>
        <p:blipFill>
          <a:blip r:embed="rId1"/>
          <a:stretch/>
        </p:blipFill>
        <p:spPr>
          <a:xfrm>
            <a:off x="1301760" y="1106640"/>
            <a:ext cx="6083280" cy="3313080"/>
          </a:xfrm>
          <a:prstGeom prst="rect">
            <a:avLst/>
          </a:prstGeom>
          <a:ln w="0">
            <a:noFill/>
          </a:ln>
        </p:spPr>
      </p:pic>
      <p:sp>
        <p:nvSpPr>
          <p:cNvPr id="142" name="Slide Number Placeholder 6"/>
          <p:cNvSpPr/>
          <p:nvPr/>
        </p:nvSpPr>
        <p:spPr>
          <a:xfrm>
            <a:off x="6527880" y="6248520"/>
            <a:ext cx="218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E8F3C-2134-494C-83E2-D1113AF6B6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0080" y="228600"/>
            <a:ext cx="82058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ultiple Conditio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2525760" y="2200320"/>
            <a:ext cx="390204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 new Criteria row for red sk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1"/>
          <p:cNvSpPr/>
          <p:nvPr/>
        </p:nvSpPr>
        <p:spPr>
          <a:xfrm flipH="1">
            <a:off x="3246480" y="2581200"/>
            <a:ext cx="93672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7" descr=""/>
          <p:cNvPicPr/>
          <p:nvPr/>
        </p:nvPicPr>
        <p:blipFill>
          <a:blip r:embed="rId2"/>
          <a:stretch/>
        </p:blipFill>
        <p:spPr>
          <a:xfrm>
            <a:off x="1311120" y="4446720"/>
            <a:ext cx="522612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8T22:44:22Z</dcterms:created>
  <dc:creator>Jerry Post</dc:creator>
  <dc:description/>
  <dc:language>en-US</dc:language>
  <cp:lastModifiedBy>Jerry Post</cp:lastModifiedBy>
  <dcterms:modified xsi:type="dcterms:W3CDTF">2007-11-26T00:24:12Z</dcterms:modified>
  <cp:revision>50</cp:revision>
  <dc:subject/>
  <dc:title>All Powder Board and Ski</dc:title>
</cp:coreProperties>
</file>