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DB4-86F8-4D9C-AF2C-FF4DFA97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3B2-AE1D-4B99-B129-29B104E5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20F-4F3B-4332-B063-62DEF8B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FE9-C29D-4845-9CA4-5DCDA095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2C79-7E17-47C1-9A01-5BA1964D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D1F-50BD-4790-B684-73BAB14C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3635-9255-41CE-8CFA-8C69E75E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11A2-3D8B-4AC9-878E-B37AECB6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07BC-6DFD-4DB7-848A-91262C9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2838-9125-4B0B-A150-F00A9F89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8BB0-C54A-4D2B-86DE-21D944AF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613-26D2-4031-B90C-DFF6280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378C-9913-41C0-B92D-34E9EDA2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AFE4-D9F1-4B8C-BD9B-AC1F058B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92CD-B74F-4D27-B85C-C117D314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2655-21D4-44A9-8865-6D501B88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76BC-B7EE-4CB0-8416-C0D2CD8F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67E-B094-44DD-8D81-F893E22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177-F626-4C22-BB01-18BEC72D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F4C-9C73-4E37-8D0D-AE4DCD28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7C5-CBBD-451A-8822-B032072F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164-EA83-4DF0-8619-1C5D9FA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6B3-4CB6-463A-963D-3B4738D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915-B421-4459-A32A-E9DD0CB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0C1-3ECE-48CF-A076-0119B7FEB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C68A-DB4F-486C-A6FB-8CD56E6ED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9136-5584-4F8D-8B1A-EFC4E79EC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9: Data Warehouses and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8769-2D1D-40DD-B816-A407ACEAF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sert Model Data into Item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33520" y="20574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temModel (ModelID, ManufacturerID, Category, Color, ModelYear, Graphics, ItemMaterial, ListPrice, Style, SkillLevel, WeightMax, WaistWidth, BindingSty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Models.ModelID, qryOldModels.ManufacturerID, qryOldModels.Category, qryOldModels.Color, qryOldModels.ModelYear, qryOldModels.Graphics, qryOldModels.ItemMaterial, qryOldModels.ListPrice, qryOldModels.Style, qryOldModels.SkillLevel, qryOldModels.WeightMax, qryOldModels.WaistWidth, qryOldModels.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Mode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D20B-A33E-41D7-820B-8EDFD9EB0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SKU Data into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85800" y="2284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nventory (ModelID, SKU, Size, QuantityOn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Inventory.ModelID, qryOldInventory.SKU, qryOldInventory.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As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Inven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962520" y="3886200"/>
            <a:ext cx="327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use of the column alias to force a zero value for QuantityOnHand 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H="1" flipV="1">
            <a:off x="4114440" y="3200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AC9E-040E-4752-BD8E-711BD1871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s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3520" y="1828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s (SaleID, SaleDate, ShipState, ShipZIP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, OldSales.SaleDate, OldSales.ShipState, OldSales.ShipZIP, OldSales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914400" y="3368520"/>
            <a:ext cx="3276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if you have added data to your Sales table, your existing SaleID values might conflict with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648320" y="3368520"/>
            <a:ext cx="3276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problem by adding a number to these values so they are all larger than your highes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4800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s (SaleID, SaleDate, ShipState, ShipZIP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s.SaleDate, OldSales.ShipState, OldSales.ShipZIP, OldSales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E19B-A202-4E5E-BEF7-AAAD93777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Item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s.SKU, OldSales.QuantitySold, OldSales.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648320" y="3809880"/>
            <a:ext cx="32763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transformed the SaleID in the prior step for the Sale data, you must do the exact same calculation for SaleID in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 flipV="1">
            <a:off x="4876920" y="26665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2F47-43A2-43A8-97C5-53F6E4EF0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143000" y="1905120"/>
            <a:ext cx="6553080" cy="21333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, SaleItem, Inventory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ShipState, PaymentMethod, SaleMonth with a format of “yyyy-mm”, and Value = QuantitySold*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query and s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58280" cy="341604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96E0-FD5D-40A1-8EFE-2A9E10667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Pivot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5334120"/>
            <a:ext cx="3810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all desired sale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1676520" y="39625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105520" y="541008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Value as quantity time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 flipH="1" flipV="1">
            <a:off x="6477120" y="3622680"/>
            <a:ext cx="3045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3581280" y="457200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SaleDate as year and month: yyyy-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 flipH="1" flipV="1">
            <a:off x="4419360" y="35812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V="1">
            <a:off x="1676520" y="3962520"/>
            <a:ext cx="14475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54ED-3F55-439E-A920-62E2DC345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371600" y="1828800"/>
            <a:ext cx="6400800" cy="3886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qryMonthlyPivot in the Navigation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bbon, find Create/Forms/More Forms/Pivo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aleMonth and drop it on the column field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Category and ShipState fields and drop them on the row field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Value field and drop it in the middle Detai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other fields and drop them at the top as filter fields for fut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 the main grid to the f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he Value field in the Totals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0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34320" cy="484344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5AB0-9ABE-4149-A1E1-D26A8F873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419720" y="23623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columns (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048120" y="335268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rows (State, Categ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657600" y="4724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Valu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 flipH="1" flipV="1">
            <a:off x="5562720" y="30477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H="1" flipV="1">
            <a:off x="3809880" y="27432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5181120" y="35812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H="1" flipV="1">
            <a:off x="251460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990720" y="25146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ther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V="1">
            <a:off x="236232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 flipH="1">
            <a:off x="5486400" y="38862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 flipV="1">
            <a:off x="4114800" y="4419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FEE9-B04D-4DA3-A03D-E7AA07E6F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066680" y="1981080"/>
            <a:ext cx="7010640" cy="32767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quarterl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first month and right click on the third month to highligh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select the Group/Group Items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new cell SaleMonth1 and change its Caption property to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Group1 cell and set its caption to 2001-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he process for all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group the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llapse option to reduce the gri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85468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F3F3-E6F9-4E11-B8C4-BA7726AA6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600200" y="2514600"/>
            <a:ext cx="14479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select all columns and choose  Hid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V="1">
            <a:off x="3048120" y="289548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89DC-1512-485B-B0BB-83ADA67CC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red Sales Cube Dimen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600200" y="18288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(sh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Ma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ater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Wid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73E5-7CE1-4B7F-A148-320CB47CA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Grou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755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9A01-6B54-41AE-8AB8-FB10DD24B2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295280" y="1828800"/>
            <a:ext cx="647712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Excel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nsert/Pivo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ernal dat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Choose Connection but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 to your database and select the query built in the previou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votTable with the SaleMonth field as rows, the Category field as columns and Value as the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2684-67CF-4596-8F6C-ECE2C5147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19320" y="1752480"/>
            <a:ext cx="678168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ivotChart option in the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 lin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ivotChart worksheet remove all categories except Boards, Skis, Boots, 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each series and Add Tren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linear trend and forecast it for 3 periods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ies to improve the chart’s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741A-0EA3-4BFA-9BEA-B0BF8C85C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Analysis: Exc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053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091E-AFAF-4BFB-8D7A-9857F83BC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981080" y="2133720"/>
            <a:ext cx="518184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Data Analysis Add-Ins are installed in Excel (Tools/Add-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-Test Two-sample with unequal var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he Board and Ski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9997-C76B-44D2-A12C-A3853EF23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981080" y="1828800"/>
            <a:ext cx="5562720" cy="3352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Microsoft Map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 new Excel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votTable with rows for ShipState and columns for Board, Boots, Clothes, and S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econd worksheet that copies the main data and titles from the PivotTable without the first titl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MapPoi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wizard instructions to add a North American map with pi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4CBA-507F-42D5-9AF4-B9A40E529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5" descr=""/>
          <p:cNvPicPr/>
          <p:nvPr/>
        </p:nvPicPr>
        <p:blipFill>
          <a:blip r:embed="rId1"/>
          <a:stretch/>
        </p:blipFill>
        <p:spPr>
          <a:xfrm>
            <a:off x="961920" y="1447920"/>
            <a:ext cx="5133960" cy="4770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: Microsoft Map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114800" y="24382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votTable places the data into rows an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733920" y="5562720"/>
            <a:ext cx="3504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ynamic copy of this sheet is used to remove the top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 flipV="1">
            <a:off x="2819520" y="60958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H="1" flipV="1">
            <a:off x="3428640" y="2590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A4FF-A33D-43E7-9FD8-4F8531524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Point Data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86200" cy="3921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886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2B32-3050-48C5-910F-F36537DD3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 Analysis of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1500120" y="1371600"/>
            <a:ext cx="59673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BD12-BD50-438A-BC5E-8C1373650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066680" y="1752480"/>
            <a:ext cx="7010640" cy="33530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atabase command File/Get External Data/Import to read the demographic spreadshee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query to combine the sales data by state with the demograph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and paste the three columns of data into a new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xcel, choose Tools/Data Analysis/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Value column as the Y-range and the population and income columns as the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top row as label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4E0B-E30A-40E8-90F5-2C5CF8149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arly Data: Spreadshe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480960" y="1461960"/>
            <a:ext cx="6784920" cy="32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6499080" cy="3124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843840" y="5562720"/>
            <a:ext cx="76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o 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Slide 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se AllPowder2007-09-Data if you need to sav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B573-3CEF-4CB0-9F72-50E24B836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by State for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666880" y="54100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some states are missing from th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8420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7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495680" cy="426744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3C54-9B2C-4626-9CEA-0B60B5163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Set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3772080" cy="33116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914400" y="45720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include the label row but be sure to check the box to show you includ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2057400" y="365760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096240" cy="3726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A9E6-1BC2-48A9-B0EB-93C5BC25D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62520" y="213372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R-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3048120" y="22860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2057400" y="563868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is a significant predictor, incom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 flipV="1">
            <a:off x="3047760" y="52578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V="1">
            <a:off x="35812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EAE6-C168-4F39-BCE1-6D4145294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514600" y="1981080"/>
            <a:ext cx="4800600" cy="19814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External Data/Import/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Sales spreadsheet into a 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Rental data into another 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entries for CustomerID and EmployeeID equal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1ED-9533-4986-ADFA-5ACC46425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ustomer and Employ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38080" y="1636560"/>
            <a:ext cx="76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 and EmployeeID are missing from the ol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relying on blank cell values, create a new customer called “Walk-in” and a new employee called “Employ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the ID numbers generated for these anonymous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SQL, you can assign a value of zero to thes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838080" y="3429000"/>
            <a:ext cx="5715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Walk-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838080" y="4343400"/>
            <a:ext cx="579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Employee (Employee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Staff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5E83-61BE-4DEF-8033-A632447119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ract Mode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143000" y="388620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ldSales.ModelID, OldSales.ManufacturerID, OldSales.Category, OldSales.Color, OldSales.ModelYear, OldSales.Graphics, OldSales.ItemMaterial, OldSales.ListPrice, OldSales.Style, OldSales.SkillLevel, OldSales.WeightMax, OldSales.WaistWidth, OldSales.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461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300F-8F96-4E4E-8605-E66807D23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676520" y="2057400"/>
            <a:ext cx="5486400" cy="1905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ISTINCT data from the new sale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ISTINCT data from the new rent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two queries with a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8270-36C5-43D3-B5F5-C00C19CE6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 f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5800" y="182880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CE52-39ED-47F8-9366-2F135FED9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066680" y="1905120"/>
            <a:ext cx="6629400" cy="3352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hat retrieves DISTINCT values from the saved UNIO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it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 INSERT INTO statement above the SELECT statement to copy the data to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add SKU, ModelID, and Size to the Invento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 similar process to copy the Sales, Rental, SalesItem, and RentalItems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3T02:05:34Z</dcterms:modified>
  <cp:revision>99</cp:revision>
  <dc:subject/>
  <dc:title>All Powder Board and Ski</dc:title>
</cp:coreProperties>
</file>