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20F-461B-45A3-A142-1B19B63E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31D-FA1E-48E9-A429-23579C55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452-6529-4DE6-BF21-E5855CC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5FC-FB57-4A29-8444-941824E1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C03A-9A41-484B-B779-47C43495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0406-9F57-4482-B811-083216A2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D355-A974-44A2-83DB-66277F45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E0C-BA26-47E3-BFD7-4FCF4DE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9B2-B8D8-4CAB-A9A1-7B53E14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53F-9068-4FC1-8630-A41DC3F2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4452-AC44-47F1-85AA-02E53A3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294-C0A8-4195-B024-6BBEEBB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3C0-E042-4653-8A19-46A4EF42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206-325B-4416-91FD-F00150D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986-F3EC-4FB1-A427-6236F70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BE07-89DC-4696-9BB9-384FFA91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1E66-2552-4595-BA61-B20B03E8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38E-7B77-4729-88C6-55940EB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1A3-F606-4C25-A4BB-65C5FFA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860-6DBE-441C-8FA0-2F4AD118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720-2A7F-4410-90A3-5921A96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957-C596-428E-9C49-A9CFF33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CEB-6AB3-4B9D-A670-F19258E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FEC-215E-4068-A109-DA624C5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3C56-7909-4708-9AD4-055943799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438B-62C0-40AE-8205-AFD70A322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ndowsupdate.microsoft.com/" TargetMode="External"/><Relationship Id="rId2" Type="http://schemas.openxmlformats.org/officeDocument/2006/relationships/hyperlink" Target="http://office.microsoft.com/productupdates" TargetMode="External"/><Relationship Id="rId3" Type="http://schemas.openxmlformats.org/officeDocument/2006/relationships/hyperlink" Target="http://www.microsoft.com/data/download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2264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6436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indowsupdate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office.microsoft.com/product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cess componen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www.microsoft.com/data/downloa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highest numbered MDAC R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052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861840" y="2948040"/>
            <a:ext cx="74203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600200" y="1905120"/>
            <a:ext cx="533412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ccess and create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with the Form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column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by enter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8817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7984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7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5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00200" y="1905120"/>
            <a:ext cx="5181480" cy="1523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9568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7T22:04:00Z</dcterms:modified>
  <cp:revision>6</cp:revision>
  <dc:subject/>
  <dc:title>All Powder Board and Ski</dc:title>
</cp:coreProperties>
</file>