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E8E-459A-406E-BEDA-85249322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C50-7081-4CDB-9A71-C83B7E5E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FFA-D21A-4608-9322-C9EC3805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F56-F7DA-49B6-ACF9-C438FF36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BA6D-71A8-4085-A275-5EC9F3DB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4433-D4A7-46B0-A001-EE1B0FCC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73F3-AFCF-4677-9B55-AE5AE78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B327-40B3-4044-9401-E593CFDD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CF84-B17C-4AE1-9EA6-C934836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E37F-B3BD-43CC-AB78-7CCCD5C2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D38-D03C-49DC-8725-2B511F6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BF3-25B6-408A-AA44-B842BA2B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F3D-032A-48FD-AA16-7E910BB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49D-15E6-4369-A24B-904B5A2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342-DAEA-4D3D-B748-2328F38B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BAE7-A399-4275-A0E2-014F2103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2E56-EE39-4D04-A498-26890659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F70-8D40-4A08-A6F9-5DB4F62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4AA-8FF1-42C9-9EAB-C40C5918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219-ED4A-45E0-A828-F2E7840B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9C0-8CF7-4756-B766-2F623B6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BB2-F96D-4A95-999B-32F94F1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273-8C03-4D71-AEA4-9E05133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330-C6F0-4E17-8A9C-140BD1B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EBBF-7E1D-42D0-A862-778A12761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D77-733E-47BB-9D14-ED2255EA6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47920" y="2362320"/>
            <a:ext cx="6172200" cy="2057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ule: “Female” Or “Male” Or “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text: Please enter Female, Male, or Un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7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952880" cy="4141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4419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371600" y="518652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2666880" y="2971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2666880" y="457200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 flipV="1">
            <a:off x="2666880" y="5105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057400" y="2362320"/>
            <a:ext cx="5257800" cy="25905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Control: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 Type: 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: “Female”;”Male”;”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atasheet view and 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0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46876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mple Lookup Li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09480" y="38862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666880" y="2971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1981080" y="40384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09480" y="4419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1981080" y="4572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09480" y="4952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quotes and separated by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666880" y="46483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486400" y="32004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3885840" y="3352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790128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800600" y="41911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6172200" y="3657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133720" y="41911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umber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 flipV="1">
            <a:off x="2133720" y="35812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 flipV="1">
            <a:off x="2209320" y="3428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-valued Fiel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919760" cy="3746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5867280" y="1600200"/>
            <a:ext cx="243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employees can participate in many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 are selected through a list of checkboxes that were created with a multi-valued Lookup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ly, Access stores the SaleID, EmployeeID pairs in a hidden system table to avoid the problems of violating 1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133720" y="2362320"/>
            <a:ext cx="518148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Relationships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l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nd resize them to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key columns on foreig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ntegrity and cascad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l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8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6195960" cy="4419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638680" y="2209680"/>
            <a:ext cx="1981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133720" y="495288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all thre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2057400" y="274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 and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2514600" y="39625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both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0"/>
          <p:cNvCxnSpPr>
            <a:stCxn id="180" idx="1"/>
          </p:cNvCxnSpPr>
          <p:nvPr/>
        </p:nvCxnSpPr>
        <p:spPr>
          <a:xfrm flipH="1">
            <a:off x="5181120" y="2396160"/>
            <a:ext cx="45792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5" name="Straight Arrow Connector 22"/>
          <p:cNvCxnSpPr>
            <a:stCxn id="182" idx="3"/>
          </p:cNvCxnSpPr>
          <p:nvPr/>
        </p:nvCxnSpPr>
        <p:spPr>
          <a:xfrm>
            <a:off x="3657240" y="3067200"/>
            <a:ext cx="305640" cy="5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6" name="Straight Arrow Connector 24"/>
          <p:cNvCxnSpPr>
            <a:stCxn id="183" idx="3"/>
          </p:cNvCxnSpPr>
          <p:nvPr/>
        </p:nvCxnSpPr>
        <p:spPr>
          <a:xfrm>
            <a:off x="4114800" y="4287960"/>
            <a:ext cx="91512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7" name="Straight Arrow Connector 26"/>
          <p:cNvCxnSpPr>
            <a:stCxn id="181" idx="3"/>
          </p:cNvCxnSpPr>
          <p:nvPr/>
        </p:nvCxnSpPr>
        <p:spPr>
          <a:xfrm flipV="1">
            <a:off x="4572000" y="5028480"/>
            <a:ext cx="45792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1523880"/>
            <a:ext cx="723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Relationship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800" y="14605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Rental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Rental PRIMARY KEY 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RentalCustomer FOREIGN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Customer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DELE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UPDA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ON DELETE AND ON UPDATE are not supported with Access 2002, but hopefully will be supported with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762120" y="160020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286000" y="2286000"/>
            <a:ext cx="457200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able names as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 for: Bytes, Rows,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bytes per tabl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number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table and overall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Object 198"/>
          <p:cNvGraphicFramePr/>
          <p:nvPr/>
        </p:nvGraphicFramePr>
        <p:xfrm>
          <a:off x="762120" y="1447920"/>
          <a:ext cx="75438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1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438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toNumb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11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3"/>
          <p:cNvSpPr/>
          <p:nvPr/>
        </p:nvSpPr>
        <p:spPr>
          <a:xfrm>
            <a:off x="2666880" y="2286000"/>
            <a:ext cx="10670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4"/>
          <p:cNvSpPr/>
          <p:nvPr/>
        </p:nvSpPr>
        <p:spPr>
          <a:xfrm>
            <a:off x="5562720" y="2286000"/>
            <a:ext cx="838080" cy="99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5"/>
          <p:cNvSpPr/>
          <p:nvPr/>
        </p:nvSpPr>
        <p:spPr>
          <a:xfrm>
            <a:off x="5562720" y="3581280"/>
            <a:ext cx="83808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0" y="2362320"/>
            <a:ext cx="4572000" cy="2209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ustomer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5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657680" cy="4191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ables in Acces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800" y="22096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2362320" y="2133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362320" y="23623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867280" y="30481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105520" y="297144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867280" y="365760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typ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 flipH="1">
            <a:off x="4952880" y="3886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85800" y="3276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V="1">
            <a:off x="2362320" y="30481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95720" cy="449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Types: Sub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57200" y="23623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562720" y="27432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57200" y="40384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: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362320" y="25146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480024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362320" y="42670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5T00:08:04Z</dcterms:modified>
  <cp:revision>33</cp:revision>
  <dc:subject/>
  <dc:title>All Powder Board and Ski</dc:title>
</cp:coreProperties>
</file>