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15C-37EA-4F5F-9203-ACD0BC20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6E0-7A28-4534-A56F-EA21002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056-8AC4-4C72-85D0-A242D69D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5E6-824B-4E9C-8DA3-2AF8E868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D670-DA5F-40AA-B1A1-A3B25FD3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8513-E405-4A36-83D9-3167636E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530E-08EB-4DD8-999A-B258FBF4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5E58-43B2-4EF9-A302-DFF64388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B0D9-2B7A-4CAF-AB48-1F033A1C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1670-0E6B-47F4-BE07-CF06AD0A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4960-6596-42FF-879A-0B6D8FB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09C-CBFA-4EF9-9C91-431EE2DE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CBD6-3AF1-436A-97D6-64D7D074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0B71-0425-4ECF-9758-DCAA265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05A7-43A2-4D82-9082-6193A364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BF2B-E03F-4F1E-859D-5D50E856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8A00-CE8E-43A9-BD2E-4AF7BDA4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DFB-10AA-429F-8120-42EEB5BB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3D5-42A3-4CBA-885E-E0AF6E91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79A-1ADE-4438-B808-05F0ED74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74F-4212-4CF2-8C68-5246FFA8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01D-AF5A-4A56-9D8E-53B0D5A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42F-1ECF-4653-BEB2-9DF18657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90F-05C1-4171-B94D-FB2E7AF9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9652-4161-4496-9CE2-53DF3BF06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D42A-9DE0-4BE8-99E7-85BA3E7D3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CA2-FC5B-437E-8011-B7E162420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Advanc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902F-D792-4D1E-A9BE-3C6B3C5A6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ner Join: Same Customer and Da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80880" y="4876920"/>
            <a:ext cx="838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ntal.RentDate, Rental.CustomerID, Sale.CustomerID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Sale ON (Rental.RentDate = Sale.SaleDate) AND (Rental.CustomerID = Sale.Customer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42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100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3E3F-0F2F-4AB8-8A9F-1A9E9958A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057400" y="1905120"/>
            <a:ext cx="5105520" cy="3200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, Sale,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and CustomerID from Sale and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join from Rental to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join from Sale to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is new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option to include all 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1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5848-D5A6-43CC-A97F-71349BD56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 flipH="1">
            <a:off x="1143000" y="41911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: Sales + Rent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0880" y="4309920"/>
            <a:ext cx="8763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Sale.CustomerID,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LEFT JOIN Rental ON Sale.CustomerID = Rental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590920" y="3616200"/>
            <a:ext cx="1904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Properties: Left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3429000" y="254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V="1">
            <a:off x="4191120" y="34290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2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684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6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832280" cy="445752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A9BB-F604-4B61-93EB-A292C8FE3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2590920"/>
            <a:ext cx="259092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who purchased items without renting anything have missing (Null) values for the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 flipH="1" flipV="1">
            <a:off x="4495680" y="25146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H="1" flipV="1">
            <a:off x="4495680" y="28954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 flipH="1" flipV="1">
            <a:off x="4572000" y="312372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 flipH="1">
            <a:off x="4495680" y="3505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2F7-0A6F-451F-A54C-FDA396B67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057400" y="2057400"/>
            <a:ext cx="4876920" cy="3048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and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 for CustomerID (use SQL): Not In 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FC33-6599-4DCD-9F82-9B0B7C801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 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04920" y="4724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.CustomerID Not In 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4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400640" cy="31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259056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607D-486A-4001-9050-CBB3B277B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143000" y="1752480"/>
            <a:ext cx="6934320" cy="32767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ModelID and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QuantityOnHand and sort it in descend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Models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ategoryID, CategoryName, LowLimit, High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0834-3557-41BB-BDF9-96F782CE7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 Quantity On Ha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6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733560" cy="4129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3733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0C12-5508-46C2-8C22-5A16A4ECD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1803240" y="2495520"/>
            <a:ext cx="5537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C57C-F0F6-46DB-A1D1-9FB710AC4C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981080" y="1981080"/>
            <a:ext cx="5257800" cy="22100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ModelsOnHand and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ModelID, SumOfQuantityOnHand, CategoryID, and 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 view add the inequality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A730-C965-4DB9-B440-0AAF94C15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152960" cy="23191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5718-7EA5-4926-9169-42B405671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equality Jo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09480" y="4629240"/>
            <a:ext cx="79250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odelsOnHand.ModelID, ModelsOnHand.SumOfQuantityOnHand, SalesCategory.CategoryID, SalesCategory.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odelsOnHand INNER JOIN SalesCategory ON (ModelsOnHand.SumOfQuantityOnHand&gt;=SalesCategory.LowLimit) AND (ModelsOnHand.SumOfQuantityOnHand&lt;SalesCategory.HighLimi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838080" y="36576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in cannot be displayed in design view and must be entered by hand in SQL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 flipV="1">
            <a:off x="1905120" y="2362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523880" y="45720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581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9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038480" cy="3252600"/>
          </a:xfrm>
          <a:prstGeom prst="rect">
            <a:avLst/>
          </a:prstGeom>
          <a:ln w="0">
            <a:noFill/>
          </a:ln>
        </p:spPr>
      </p:pic>
      <p:sp>
        <p:nvSpPr>
          <p:cNvPr id="18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94F4-9A5B-440E-84E0-CD966C76E5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0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4495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EFF-D9BF-4785-BDD0-1213F920C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295280" y="1828800"/>
            <a:ext cx="6553440" cy="3429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ustomerID, LastName, FirstName, and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January sale date in criteria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entir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word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 the SELECT statement and change the date condition to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A3E2-B490-41E8-BD69-FD6741F14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051520" y="1749600"/>
            <a:ext cx="35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customers who bought items in January or in M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04920" y="3962520"/>
            <a:ext cx="853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"Jan"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Sale.SaleDate) Between #1/1/2006# And #1/31/2006#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"Mar"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Sale.SaleDate) Between #3/1/2006# And #3/31/2006#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1148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ED0C-BA02-47BC-AB3A-23902454B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600200" y="1752480"/>
            <a:ext cx="548640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Rental, RentItem, Inventory, and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RentDate, Category, 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tals to sum 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“Where” and criteria for RentDate to Between [Start Date] And [End Dat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7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991200" cy="364824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F92-3A5E-4655-87B5-502015A81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6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2793960" cy="1600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8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20574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0557-BEE9-4447-96E5-2A7384DB0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981080" y="1981080"/>
            <a:ext cx="4876920" cy="1905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select any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REATE TABLE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4D65-7B5E-40E5-8C29-EA2CE3085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09480" y="175248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ontacts PRIMARY KEY (Contact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ContactsManufacturer FOREIGN KEY 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Manufacturer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8E11-2A5A-44A0-AD5B-6BD077D6D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emporary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09480" y="1905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314A-B4AB-4AF9-ACA3-933CCF9AE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676520" y="1905120"/>
            <a:ext cx="5867280" cy="25905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select any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he INSERT command: INSERT INTO Customer (LastName, FirstName, City, Gender) VALUES (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9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5334120" cy="313200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D30E-7112-4BE5-AC1D-28CABD8B4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d Best Customers: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43840" y="46846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ales by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0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26859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3133-52E7-4183-9450-405C7ED64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One Row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85800" y="1981080"/>
            <a:ext cx="693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LastName, FirstName, City, G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94DA-2C5C-4F27-9FCE-68106EAC8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Copy Row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1981080"/>
            <a:ext cx="5181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MyTemp (ID, LName, F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ity='Sacrament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621D-D0BC-4E97-A956-56F057EFC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523880" y="1905120"/>
            <a:ext cx="5943600" cy="2666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ategory, ModelYear,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: Category=”Board” And ModelYear=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Upda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Cost set Update To: Round([Cost]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7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019560" cy="4213080"/>
          </a:xfrm>
          <a:prstGeom prst="rect">
            <a:avLst/>
          </a:prstGeom>
          <a:ln w="0">
            <a:noFill/>
          </a:ln>
        </p:spPr>
      </p:pic>
      <p:sp>
        <p:nvSpPr>
          <p:cNvPr id="2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150D-5245-40F7-885F-F3CFC01B5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Board Co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648320" y="302580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/ Upda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 flipH="1" flipV="1">
            <a:off x="3047760" y="1828800"/>
            <a:ext cx="1523880" cy="14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3352320" y="3254400"/>
            <a:ext cx="12193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334120" y="42670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7"/>
          <p:cNvSpPr/>
          <p:nvPr/>
        </p:nvSpPr>
        <p:spPr>
          <a:xfrm flipH="1" flipV="1">
            <a:off x="4952520" y="4114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1447920" y="5486400"/>
            <a:ext cx="58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temModel SET Cost = Round([Cost]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ategory="Board") AND (ModelYear=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1828800" y="2286000"/>
            <a:ext cx="838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4"/>
          <p:cNvSpPr/>
          <p:nvPr/>
        </p:nvSpPr>
        <p:spPr>
          <a:xfrm flipH="1" flipV="1">
            <a:off x="1828440" y="1905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BB40-948E-4F66-B319-0F96FCD50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209680" y="2057400"/>
            <a:ext cx="426744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ID, LName, F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: ID&gt;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Dele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EA8E-18CA-4295-B107-3A6B8D3B4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447920" y="45720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D &gt;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673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82E5-EE61-4FB2-9E49-C81F3517E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OP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052280" y="20178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ABLE My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91A5-B0F1-4393-BEE8-B263CFD02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905120" y="2057400"/>
            <a:ext cx="5029200" cy="3581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, Sale,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ustomerID, LastName, FirstName, SalesValue: 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SalesValue, Group By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query as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CustomerSale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tals and select 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156D-A67E-4EE7-9409-8DA451B92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erage Customer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19051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vg(CustomerSales.SalesValue) AS AvgOf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58416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94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19047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2F2C-7D6A-4B40-A898-BC5034105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600200" y="2133720"/>
            <a:ext cx="586728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CustomerSale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 for SalesValue (enter in 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6774-3199-4580-845E-ECA43DFA03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st Custo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62120" y="4753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.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sValue &gt; 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SalesValue D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30532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803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AD73-D632-4DA3-A522-168E047E9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NER JOIN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80880" y="495288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ntal.RentDate, Rental.CustomerID, Sale.CustomerID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Sale ON Rental.CustomerID = Sale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4079880" cy="327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2"/>
          <a:stretch/>
        </p:blipFill>
        <p:spPr>
          <a:xfrm>
            <a:off x="4510080" y="1600200"/>
            <a:ext cx="4100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8EC-C3DA-438B-840C-057BC2BE5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981080" y="1828800"/>
            <a:ext cx="518184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Rental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RentDate, SaleDate, and CustomerID from both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tables on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tables on RentDate=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19T02:25:15Z</dcterms:modified>
  <cp:revision>64</cp:revision>
  <dc:subject/>
  <dc:title>All Powder Board and Ski</dc:title>
</cp:coreProperties>
</file>