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4D1-639D-4FD0-9CFB-060AFBE1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3E8-380C-4803-83FF-3605F368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E79-6C58-4B79-8EC4-180E8D06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675-1052-4519-8DED-D2D7C731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EB9A-EFF6-4815-BFB9-604A2779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150C-DECA-455C-AD60-46C8DDA1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DD47-C94D-4DD0-82C5-D0BB1DD8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7C7A-0175-45E7-87E6-2ECB2210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C182-C650-4553-A613-683CF326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F741-1A61-4C19-AF47-85C3E15B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FDAA-7801-432F-8A7C-6CA2EB3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C99-82C6-4219-8793-286B6FA3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8836-2D67-4E83-8EDD-4B721D7A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F2BF-5228-45A5-BD36-4D2D4024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8F59-5130-4378-816D-D4AD0D32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C543-820B-4505-A686-89B1E3DB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A38E-83CC-4623-BD5B-0C00A72F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432-D76F-42AF-9527-36CC4C76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ADB-69D9-4A70-B87E-10E02D8B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AE2-F32D-477E-ACE3-5322E7D8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844-1EDD-4822-B7B1-C84C0376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3B0-6408-47E9-815B-C07DDD67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CA7-2D1D-4437-A32B-200EE868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F04-3CF8-4ED8-83AD-3B830A3D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1E8B-9940-4B2D-BE8D-1F3725DB3D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418E-6722-43D0-87D5-7C06B2EBD9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ime-post.com/dbdesign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: Databas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7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199040" cy="4419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Exa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172200" y="4191120"/>
            <a:ext cx="129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990720" y="2286000"/>
            <a:ext cx="914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752480" y="3276720"/>
            <a:ext cx="1219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533520" y="518148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457200" y="411480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9"/>
          <p:cNvSpPr/>
          <p:nvPr/>
        </p:nvSpPr>
        <p:spPr>
          <a:xfrm flipV="1">
            <a:off x="297180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 flipV="1">
            <a:off x="1905120" y="24382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1"/>
          <p:cNvSpPr/>
          <p:nvPr/>
        </p:nvSpPr>
        <p:spPr>
          <a:xfrm flipH="1" flipV="1">
            <a:off x="609552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"/>
          <p:cNvSpPr/>
          <p:nvPr/>
        </p:nvSpPr>
        <p:spPr>
          <a:xfrm>
            <a:off x="1447920" y="44956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3"/>
          <p:cNvSpPr/>
          <p:nvPr/>
        </p:nvSpPr>
        <p:spPr>
          <a:xfrm flipV="1">
            <a:off x="1523880" y="5105160"/>
            <a:ext cx="6098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600200" y="2286000"/>
            <a:ext cx="5867280" cy="25909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ustomer and Sal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GenerateKey to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it to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new CustomerID from right side into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ustomerID from Customer and drop it on CustomerID in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relationship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0" descr=""/>
          <p:cNvPicPr/>
          <p:nvPr/>
        </p:nvPicPr>
        <p:blipFill>
          <a:blip r:embed="rId1"/>
          <a:stretch/>
        </p:blipFill>
        <p:spPr>
          <a:xfrm>
            <a:off x="2333520" y="2162160"/>
            <a:ext cx="3409920" cy="3629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5867280" y="157320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-and-drop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6324480" y="3443400"/>
            <a:ext cx="17528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min and max for both sides of the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7"/>
          <p:cNvSpPr/>
          <p:nvPr/>
        </p:nvSpPr>
        <p:spPr>
          <a:xfrm flipH="1">
            <a:off x="3962160" y="390060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8"/>
          <p:cNvSpPr/>
          <p:nvPr/>
        </p:nvSpPr>
        <p:spPr>
          <a:xfrm flipH="1">
            <a:off x="5257440" y="39006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2"/>
          <p:cNvSpPr/>
          <p:nvPr/>
        </p:nvSpPr>
        <p:spPr>
          <a:xfrm>
            <a:off x="3276720" y="1855800"/>
            <a:ext cx="1828800" cy="977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3"/>
          <p:cNvSpPr/>
          <p:nvPr/>
        </p:nvSpPr>
        <p:spPr>
          <a:xfrm flipH="1">
            <a:off x="5257800" y="22240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828800" y="2438280"/>
            <a:ext cx="5791320" cy="24386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Grade/Grade and 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messages i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errors by removing columns and adding new t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gn Err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838760" cy="3648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2438280" y="14479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SKU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4038480" y="205740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38080" y="2286000"/>
            <a:ext cx="19814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he Inventory table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819520" y="251460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33520" y="38098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the diagnostic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1676520" y="47242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486400" y="403848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errors are highligh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 flipH="1" flipV="1">
            <a:off x="5562360" y="2971440"/>
            <a:ext cx="5331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Err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4915080" cy="3876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838080" y="167652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setting SKU as a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2666880" y="20574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181480" y="3809880"/>
            <a:ext cx="3200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till causes problems because SaleDate does not depend on the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 flipV="1">
            <a:off x="4800600" y="2666880"/>
            <a:ext cx="3808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4343400" y="41911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lit Many-to-Many Relation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172200" y="22906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6172200" y="2666880"/>
            <a:ext cx="16002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838080" y="2290680"/>
            <a:ext cx="13716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838080" y="26668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"/>
          <p:cNvSpPr/>
          <p:nvPr/>
        </p:nvSpPr>
        <p:spPr>
          <a:xfrm>
            <a:off x="2224080" y="1995480"/>
            <a:ext cx="3948120" cy="4777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415680" y="163656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3352680" y="427212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3352680" y="46483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5"/>
          <p:cNvSpPr/>
          <p:nvPr/>
        </p:nvSpPr>
        <p:spPr>
          <a:xfrm>
            <a:off x="4952880" y="2895480"/>
            <a:ext cx="1219320" cy="1905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6"/>
          <p:cNvSpPr/>
          <p:nvPr/>
        </p:nvSpPr>
        <p:spPr>
          <a:xfrm>
            <a:off x="2209680" y="2895480"/>
            <a:ext cx="1143000" cy="228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219600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2802600" y="4800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4955040" y="441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556488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ki Shop 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41680" y="640080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: www.rossigno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Ski"/>
          <p:cNvPicPr/>
          <p:nvPr/>
        </p:nvPicPr>
        <p:blipFill>
          <a:blip r:embed="rId1"/>
          <a:stretch/>
        </p:blipFill>
        <p:spPr>
          <a:xfrm>
            <a:off x="2317680" y="2286000"/>
            <a:ext cx="561960" cy="2676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Ski"/>
          <p:cNvPicPr/>
          <p:nvPr/>
        </p:nvPicPr>
        <p:blipFill>
          <a:blip r:embed="rId2"/>
          <a:stretch/>
        </p:blipFill>
        <p:spPr>
          <a:xfrm>
            <a:off x="2470320" y="2590920"/>
            <a:ext cx="498240" cy="2371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Ski"/>
          <p:cNvPicPr/>
          <p:nvPr/>
        </p:nvPicPr>
        <p:blipFill>
          <a:blip r:embed="rId3"/>
          <a:stretch/>
        </p:blipFill>
        <p:spPr>
          <a:xfrm>
            <a:off x="2622600" y="2819520"/>
            <a:ext cx="449280" cy="2143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Ski"/>
          <p:cNvPicPr/>
          <p:nvPr/>
        </p:nvPicPr>
        <p:blipFill>
          <a:blip r:embed="rId4"/>
          <a:stretch/>
        </p:blipFill>
        <p:spPr>
          <a:xfrm>
            <a:off x="2754360" y="3048120"/>
            <a:ext cx="401760" cy="1914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0" descr="Ski"/>
          <p:cNvPicPr/>
          <p:nvPr/>
        </p:nvPicPr>
        <p:blipFill>
          <a:blip r:embed="rId5"/>
          <a:stretch/>
        </p:blipFill>
        <p:spPr>
          <a:xfrm>
            <a:off x="2149560" y="1981080"/>
            <a:ext cx="625320" cy="298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1" descr="Ski"/>
          <p:cNvPicPr/>
          <p:nvPr/>
        </p:nvPicPr>
        <p:blipFill>
          <a:blip r:embed="rId6"/>
          <a:stretch/>
        </p:blipFill>
        <p:spPr>
          <a:xfrm>
            <a:off x="1981080" y="1905120"/>
            <a:ext cx="641520" cy="30574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2"/>
          <p:cNvSpPr/>
          <p:nvPr/>
        </p:nvSpPr>
        <p:spPr>
          <a:xfrm>
            <a:off x="4251240" y="209376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shops carry multiple lengths of each ski or board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4251240" y="342900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information refers to the overall type of board or s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251240" y="4572000"/>
            <a:ext cx="344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information refers to an individual ski or board—defined by its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1603800" y="53341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ignol Ax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6"/>
          <p:cNvSpPr/>
          <p:nvPr/>
        </p:nvSpPr>
        <p:spPr>
          <a:xfrm>
            <a:off x="1905120" y="4800600"/>
            <a:ext cx="129528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53496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: 19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9"/>
          <p:cNvSpPr/>
          <p:nvPr/>
        </p:nvSpPr>
        <p:spPr>
          <a:xfrm>
            <a:off x="289692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: 18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1219320" y="182880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1"/>
          <p:cNvSpPr/>
          <p:nvPr/>
        </p:nvSpPr>
        <p:spPr>
          <a:xfrm flipH="1">
            <a:off x="2590560" y="18288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2133720" y="2514600"/>
            <a:ext cx="4800600" cy="23623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SaleIte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the proper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/Grade and 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s and I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4295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An Expert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time-post.com/db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easy to create datab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data in central location, so changes can be made from almost any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mmediate detailed feedback on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must ask for a fre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and students need a Java-enabled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kill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816560" y="167652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Style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816560" y="2173320"/>
            <a:ext cx="46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148400" y="2706840"/>
            <a:ext cx="66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customer can have one skill in many sty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style can apply to more than on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a table with both attributes as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1832400" y="371160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1143000" y="4230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you cannot include LastName, FirstName and so on, because then you would have to re-enter that data for each customer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tyle Skil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066680" y="17524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1066680" y="213372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733920" y="243828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3733920" y="2819520"/>
            <a:ext cx="1828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6400800" y="168120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6400800" y="205740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6400800" y="38149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6400800" y="419112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3"/>
          <p:cNvSpPr/>
          <p:nvPr/>
        </p:nvSpPr>
        <p:spPr>
          <a:xfrm>
            <a:off x="2666880" y="2286000"/>
            <a:ext cx="106704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4"/>
          <p:cNvSpPr/>
          <p:nvPr/>
        </p:nvSpPr>
        <p:spPr>
          <a:xfrm>
            <a:off x="5562720" y="2286000"/>
            <a:ext cx="838080" cy="990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5"/>
          <p:cNvSpPr/>
          <p:nvPr/>
        </p:nvSpPr>
        <p:spPr>
          <a:xfrm>
            <a:off x="5562720" y="3581280"/>
            <a:ext cx="83808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cess Data Types (Domain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295280"/>
          <a:ext cx="7925040" cy="4937400"/>
        </p:xfrm>
        <a:graphic>
          <a:graphicData uri="http://schemas.openxmlformats.org/drawingml/2006/table">
            <a:tbl>
              <a:tblPr/>
              <a:tblGrid>
                <a:gridCol w="1836720"/>
                <a:gridCol w="2229120"/>
                <a:gridCol w="2830320"/>
                <a:gridCol w="1028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  (charact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 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er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 (8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 (16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(32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64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 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/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Long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Si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/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-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2 b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1 E 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1 E 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1 E 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900.0000  tr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/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/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1/100 – 12/31/9999 (1 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E O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giga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(+/- 2 b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Business Objec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1752480" y="35100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175248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4343400" y="16002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4343400" y="1981080"/>
            <a:ext cx="16002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1143000" y="14526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1143000" y="18288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6477120" y="3124080"/>
            <a:ext cx="19047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6477120" y="3505320"/>
            <a:ext cx="1904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ociations or 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752480" y="35100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75248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43400" y="16002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343400" y="1981080"/>
            <a:ext cx="16002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143000" y="14526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143000" y="18288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477120" y="3124080"/>
            <a:ext cx="19047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6477120" y="3505320"/>
            <a:ext cx="1904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4"/>
          <p:cNvSpPr/>
          <p:nvPr/>
        </p:nvSpPr>
        <p:spPr>
          <a:xfrm>
            <a:off x="2743200" y="2133720"/>
            <a:ext cx="160020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729520" y="217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3659760" y="17524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209680" y="2590920"/>
            <a:ext cx="4800600" cy="16761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: http://time-post.com/db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udent who has two key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5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3748320" cy="4307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838080" y="19810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key numbers you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2666880" y="26668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838080" y="31240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username and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2666880" y="358128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838080" y="4495680"/>
            <a:ext cx="18288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correct name, e-mail address and 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 flipV="1">
            <a:off x="2666880" y="4495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7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3490920" cy="3862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ass Regis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38680" y="342900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your university an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38680" y="422604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admi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 flipH="1">
            <a:off x="3733560" y="373392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 flipH="1">
            <a:off x="3352680" y="4495680"/>
            <a:ext cx="2286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5638680" y="2362320"/>
            <a:ext cx="22100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country or state to narrow the school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15"/>
          <p:cNvCxnSpPr>
            <a:stCxn id="134" idx="1"/>
          </p:cNvCxnSpPr>
          <p:nvPr/>
        </p:nvCxnSpPr>
        <p:spPr>
          <a:xfrm flipH="1">
            <a:off x="3733200" y="2823120"/>
            <a:ext cx="190548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0" y="2286000"/>
            <a:ext cx="4572000" cy="2286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/Open, choose All Powd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/Ad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header/Renam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olumns from right ont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name/set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17T21:53:15Z</dcterms:modified>
  <cp:revision>17</cp:revision>
  <dc:subject/>
  <dc:title>All Powder Board and Ski</dc:title>
</cp:coreProperties>
</file>