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0742-C72E-44B1-A18E-E814F61A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49B1-FAA8-4433-A3D7-1B315041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D165-FF96-42EA-9305-AF087FB8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6752-A9E1-4924-983A-BB47F136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8E15-38CB-44AB-B75C-E2892A8A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1817-FAFF-42D4-8914-E0130611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987F-6970-4A44-8125-8D0F3C40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3D1B-3F33-42C8-B83C-1392F6AA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113B-BBA8-4F5B-9D4D-FDDA323E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42EE-CA2C-46C6-885C-D2D9768E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72D7-6263-44E2-86F7-A59CCB7F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04B6-6598-4142-9680-508EC924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3B52-4C10-4B4F-B752-9E2BAA79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DBDE-549C-4540-A56F-B356545B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2673-2ECF-4F70-9EEF-0F1EFD28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49CC-19E9-4506-BE7F-B511FFB4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BF96-5821-4C6C-981B-74A5238B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518E-46A5-4433-96EC-1CE9D9F0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7496-7E52-4721-90E4-7D87D200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707B-0355-42AE-A0F3-F4866513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DE92-46CB-4A56-90D7-C51F7F55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4557-7C8B-4402-8DCF-C0E722D9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8355-2AE0-47F4-BA18-40325439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FA23-66F2-43C9-8755-30F92D67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8CE2-DFD9-42EF-898C-C20A450910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190B-17BE-448C-B085-6989AF1219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D8F7-5A47-45F6-921B-9AABBFD193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8: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6925-5D8E-46F5-A747-5B33951CF3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752480" y="1905120"/>
            <a:ext cx="5791320" cy="327636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table with columns: RibbonName (text) and RibbonXML (mem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it as USysRibb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row of data: Name=Home, XML=Figure 8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and restart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de in Module1 to handle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VBA Editor use Tools/References to add Microsoft Office 12 Object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Office Button to assign the new ribb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and restart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77F6-D9D0-42B5-9744-0937C1F6A5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TML Hel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57200" y="3807360"/>
            <a:ext cx="1600200" cy="1620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2370240" y="2059200"/>
            <a:ext cx="1701720" cy="785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Powder.c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6095880" y="211680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6095880" y="320436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6095880" y="427104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7315200" y="211680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7315200" y="320436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7315200" y="427104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838080" y="4923000"/>
            <a:ext cx="2667240" cy="107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 File: AllPowder.c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 Context ID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4350240" y="3205080"/>
            <a:ext cx="1157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Topic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Topic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Topic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Topic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Topic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Topic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 flipV="1">
            <a:off x="5486400" y="25909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9"/>
          <p:cNvSpPr/>
          <p:nvPr/>
        </p:nvSpPr>
        <p:spPr>
          <a:xfrm flipV="1">
            <a:off x="5562720" y="342864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"/>
          <p:cNvSpPr/>
          <p:nvPr/>
        </p:nvSpPr>
        <p:spPr>
          <a:xfrm>
            <a:off x="5486400" y="39625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1"/>
          <p:cNvSpPr/>
          <p:nvPr/>
        </p:nvSpPr>
        <p:spPr>
          <a:xfrm>
            <a:off x="3875040" y="1225440"/>
            <a:ext cx="4749840" cy="4683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2"/>
          <p:cNvSpPr/>
          <p:nvPr/>
        </p:nvSpPr>
        <p:spPr>
          <a:xfrm flipV="1">
            <a:off x="2209680" y="2819160"/>
            <a:ext cx="121932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4194000" y="19051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4"/>
          <p:cNvSpPr/>
          <p:nvPr/>
        </p:nvSpPr>
        <p:spPr>
          <a:xfrm flipH="1">
            <a:off x="4114800" y="228600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1530-8C2A-4324-9A46-BD20FE813F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TML Help Fi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838080" y="1371600"/>
            <a:ext cx="71629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Object type="application/x-oleobject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id="clsid:1e2a7bd0-dab9-11d0-b93a-00c04fc99f9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AM name="Keyword" value="Content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AM name="Keyword" value="Introduction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AM name="Keyword" value="Start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AM name="Keyword" value="Management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OBJECT&gt;&lt;HTML&gt;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ITLE&gt;All Powder Board and Ski Shop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rel="stylesheet" type="text/css" href="Styles.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HEAD&gt;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1&gt;Introduction to the All Powder Board and Ski Shop&lt;/H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ABLE&gt;&lt;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D&gt;&lt;IMG SRC='BoardLogo1.gif' border='0'&gt;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D&gt;All Powder Board and Ski Shop sells and rents snowboards and skis for all levels of riders and skiers.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R&gt;&lt;/TAB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2&gt;The Board and Ski Shop&lt;/H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UL&gt;&lt;LI&gt;&lt;A HREF=’Customers.html'&gt;Customers&lt;/A&gt;&lt;/LI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&gt;&lt;A HREF=’Sales.html'&gt;Sales &lt;/A&gt;&lt;/LI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UL&gt;&lt;/BODY&gt;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A1E8-E780-42AA-B635-6AB3F54171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914400" y="1600200"/>
            <a:ext cx="7238880" cy="37339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t least three HTML help files for the All Powder forms using an HTML editor or Word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cessary, download and install the HTML Help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project in the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HTM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HTML files to add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mapping file with a text editor and add it to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project options to build the TOC and index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 and test the help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database forms and add the help file name and Cont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press the F1 key to test the help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A8BF-8BAC-4CA0-BC7C-44EA8E5B25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pics Map 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981080" y="2057400"/>
            <a:ext cx="45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define AllPow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define Custom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define Sa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1865-7D1C-470F-9F77-B8F47FFBDD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lp Compiler and 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1077840" y="1600200"/>
            <a:ext cx="6986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7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6705720" cy="4510080"/>
          </a:xfrm>
          <a:prstGeom prst="rect">
            <a:avLst/>
          </a:prstGeom>
          <a:ln w="0">
            <a:noFill/>
          </a:ln>
        </p:spPr>
      </p:pic>
      <p:sp>
        <p:nvSpPr>
          <p:cNvPr id="17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FA8B-6CDB-489A-82B9-90FF73F95F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lp File on Access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4114800" y="4343400"/>
            <a:ext cx="14479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9"/>
          <p:cNvSpPr/>
          <p:nvPr/>
        </p:nvSpPr>
        <p:spPr>
          <a:xfrm flipV="1">
            <a:off x="5562720" y="419076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3962520" y="4876920"/>
            <a:ext cx="16761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 flipV="1">
            <a:off x="5638680" y="434304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8ED0-37E6-4F05-8907-7B99456A0B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ploying Applica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j0285135"/>
          <p:cNvPicPr/>
          <p:nvPr/>
        </p:nvPicPr>
        <p:blipFill>
          <a:blip r:embed="rId1"/>
          <a:stretch/>
        </p:blipFill>
        <p:spPr>
          <a:xfrm>
            <a:off x="762120" y="1752480"/>
            <a:ext cx="1795320" cy="2727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CG1D"/>
          <p:cNvPicPr/>
          <p:nvPr/>
        </p:nvPicPr>
        <p:blipFill>
          <a:blip r:embed="rId2"/>
          <a:stretch/>
        </p:blipFill>
        <p:spPr>
          <a:xfrm>
            <a:off x="4952880" y="2209680"/>
            <a:ext cx="1503360" cy="12034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698760" y="460836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4727880" y="342900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9"/>
          <p:cNvSpPr/>
          <p:nvPr/>
        </p:nvSpPr>
        <p:spPr>
          <a:xfrm>
            <a:off x="2514600" y="3209760"/>
            <a:ext cx="2779560" cy="1032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2899080" y="4191120"/>
            <a:ext cx="274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s to transf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.mdb or Name.m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.c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files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 files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4AE5-011F-484D-8B81-13CF6F302F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1447920" y="1905120"/>
            <a:ext cx="5562360" cy="19810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your ap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e mdb and chm files to a second compu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desktop shortcut to the ap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application and tes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have the Access runtime, use its installation software to build an installation file and tes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19" descr=""/>
          <p:cNvPicPr/>
          <p:nvPr/>
        </p:nvPicPr>
        <p:blipFill>
          <a:blip r:embed="rId1"/>
          <a:stretch/>
        </p:blipFill>
        <p:spPr>
          <a:xfrm>
            <a:off x="3809880" y="1371600"/>
            <a:ext cx="2819520" cy="2306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8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3200400" cy="2616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7" descr=""/>
          <p:cNvPicPr/>
          <p:nvPr/>
        </p:nvPicPr>
        <p:blipFill>
          <a:blip r:embed="rId3"/>
          <a:stretch/>
        </p:blipFill>
        <p:spPr>
          <a:xfrm>
            <a:off x="3809880" y="3733920"/>
            <a:ext cx="2971800" cy="224460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pic>
        <p:nvPicPr>
          <p:cNvPr id="97" name="Picture 116" descr=""/>
          <p:cNvPicPr/>
          <p:nvPr/>
        </p:nvPicPr>
        <p:blipFill>
          <a:blip r:embed="rId4"/>
          <a:stretch/>
        </p:blipFill>
        <p:spPr>
          <a:xfrm>
            <a:off x="914400" y="3429000"/>
            <a:ext cx="2583000" cy="261936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9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AFCB-1DC7-46DD-9B26-CD811CB22E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pplication Elem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8"/>
          <p:cNvSpPr/>
          <p:nvPr/>
        </p:nvSpPr>
        <p:spPr>
          <a:xfrm>
            <a:off x="2743200" y="1523880"/>
            <a:ext cx="990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up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9"/>
          <p:cNvSpPr/>
          <p:nvPr/>
        </p:nvSpPr>
        <p:spPr>
          <a:xfrm>
            <a:off x="3048120" y="2743200"/>
            <a:ext cx="13716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forms and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0"/>
          <p:cNvSpPr/>
          <p:nvPr/>
        </p:nvSpPr>
        <p:spPr>
          <a:xfrm>
            <a:off x="4114800" y="1143000"/>
            <a:ext cx="7621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1"/>
          <p:cNvSpPr/>
          <p:nvPr/>
        </p:nvSpPr>
        <p:spPr>
          <a:xfrm flipH="1">
            <a:off x="2057040" y="28954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2"/>
          <p:cNvSpPr/>
          <p:nvPr/>
        </p:nvSpPr>
        <p:spPr>
          <a:xfrm>
            <a:off x="1600200" y="2819520"/>
            <a:ext cx="2209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4"/>
          <p:cNvSpPr/>
          <p:nvPr/>
        </p:nvSpPr>
        <p:spPr>
          <a:xfrm>
            <a:off x="1523880" y="1371600"/>
            <a:ext cx="990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5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651280" cy="3627360"/>
          </a:xfrm>
          <a:prstGeom prst="rect">
            <a:avLst/>
          </a:prstGeom>
          <a:ln w="0">
            <a:noFill/>
          </a:ln>
        </p:spPr>
      </p:pic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4435-C30F-49F8-B263-548EEDE034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mplat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1981080" y="3505320"/>
            <a:ext cx="762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2895480" y="3048120"/>
            <a:ext cx="685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5257800" y="3048120"/>
            <a:ext cx="838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se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3048120" y="4495680"/>
            <a:ext cx="1295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1"/>
          <p:cNvSpPr/>
          <p:nvPr/>
        </p:nvSpPr>
        <p:spPr>
          <a:xfrm flipV="1">
            <a:off x="2286000" y="304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"/>
          <p:cNvSpPr/>
          <p:nvPr/>
        </p:nvSpPr>
        <p:spPr>
          <a:xfrm flipH="1" flipV="1">
            <a:off x="3124080" y="266652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3"/>
          <p:cNvSpPr/>
          <p:nvPr/>
        </p:nvSpPr>
        <p:spPr>
          <a:xfrm flipV="1">
            <a:off x="5638680" y="2666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4"/>
          <p:cNvSpPr/>
          <p:nvPr/>
        </p:nvSpPr>
        <p:spPr>
          <a:xfrm flipH="1">
            <a:off x="3048120" y="48718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988A-8FA5-4104-984D-59A6B69F52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Form with Templa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80060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E454-2931-49CD-9720-853B8D67AF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05120" y="2057400"/>
            <a:ext cx="5181480" cy="26668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blank form in Design 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logo and sample tit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button to close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label that can be used to display messages to the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message label’s Visible property to 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the template form to the Customer form and save it as Custom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6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5100840" cy="376236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BE3B-4485-4D2A-895F-57CCE5EAED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ing a Switchboard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143000" y="2209680"/>
            <a:ext cx="1447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with blank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2590920" y="2590920"/>
            <a:ext cx="14475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6553080" y="2743200"/>
            <a:ext cx="14479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mmand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 flipH="1" flipV="1">
            <a:off x="5334120" y="2209320"/>
            <a:ext cx="12189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 flipH="1">
            <a:off x="4571640" y="3048120"/>
            <a:ext cx="1981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4038480" y="5369040"/>
            <a:ext cx="1447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forms or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 flipV="1">
            <a:off x="4419720" y="4419360"/>
            <a:ext cx="30456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3"/>
          <p:cNvSpPr/>
          <p:nvPr/>
        </p:nvSpPr>
        <p:spPr>
          <a:xfrm flipV="1">
            <a:off x="4419720" y="4419360"/>
            <a:ext cx="114300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B4D1-955A-4B33-814A-5EA7B2B827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600200" y="1981080"/>
            <a:ext cx="5715000" cy="266724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blank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properties to remove the scroll bars and navigation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mmand buttons to open other forms (Form Operations/Open Form) and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lors and graphics to make the form appe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test all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8A54-1E36-441A-9843-34CABF1C2E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ing Custom Ribbons: XM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838080" y="1371600"/>
            <a:ext cx="7162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customUI xmlns="http://schemas.microsoft.com/office/2006/01/customui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ribbon startFromScratch="tru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ab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d="tabMain"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="H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group id="grpSales" label="Sale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t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d="cmdHome"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="H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Action="</a:t>
            </a:r>
            <a:r>
              <a:rPr b="1" lang="en-US" sz="1600" spc="-1" strike="noStrike">
                <a:solidFill>
                  <a:srgbClr val="3d3dd7"/>
                </a:solidFill>
                <a:latin typeface="Arial"/>
              </a:rPr>
              <a:t>GoToStartu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 size="larg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Mso="OpenStartPage" supertip="Return to home page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t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d="cmdSales"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="Enter a Sal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Mso="AccessFormModalDialog" size="larg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Action="</a:t>
            </a:r>
            <a:r>
              <a:rPr b="1" lang="en-US" sz="1600" spc="-1" strike="noStrike">
                <a:solidFill>
                  <a:srgbClr val="3d3dd7"/>
                </a:solidFill>
                <a:latin typeface="Arial"/>
              </a:rPr>
              <a:t>OpenNewSalesFor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t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d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Renta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="Enter a Rental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Mso="AccessFormModalDialog" size="larg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Action="</a:t>
            </a:r>
            <a:r>
              <a:rPr b="1" lang="en-US" sz="1600" spc="-1" strike="noStrike">
                <a:solidFill>
                  <a:srgbClr val="3d3dd7"/>
                </a:solidFill>
                <a:latin typeface="Arial"/>
              </a:rPr>
              <a:t>OpenNewRentalsFor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grou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ab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ab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ribb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customUI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4" descr=""/>
          <p:cNvPicPr/>
          <p:nvPr/>
        </p:nvPicPr>
        <p:blipFill>
          <a:blip r:embed="rId1"/>
          <a:stretch/>
        </p:blipFill>
        <p:spPr>
          <a:xfrm>
            <a:off x="6705720" y="3581280"/>
            <a:ext cx="17906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0B12-B460-41C6-9CF5-51DFE88E7D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vation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685800" y="1828800"/>
            <a:ext cx="7467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 Use Tools/References to add the Microsoft Office 12 Object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u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ToStart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ontrol As IRibbon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md.OpenForm "AAMai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u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NewSales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ontrol As IRibbon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md.OpenForm "Sale", acNormal, , , acForm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u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NewRentals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ontrol As IRibbon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md.OpenForm "Rental", acNormal, , , acForm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11-22T00:07:44Z</dcterms:modified>
  <cp:revision>65</cp:revision>
  <dc:subject/>
  <dc:title>All Powder Board and Ski</dc:title>
</cp:coreProperties>
</file>