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F9E-4F35-4506-A740-6158A63A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982-9016-4E51-BA9D-F8972068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B23-2055-4DA3-8A34-6BAAF5A2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075-278C-44E1-A485-7956CD11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EC19-0651-4C9D-8463-A3205124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DE89-9B53-46A8-BA2D-1FD5B5B7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B650-A240-4B22-9822-1D5E1095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D99A-8CB6-448F-8DCF-D34679D7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FF7A-A33F-4FF2-980B-9ED1F9D4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07E2-F084-4069-B9EF-ED21127D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6FB7-8301-41F4-8624-F9089454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FFC-97F5-4FBE-AA1B-493DF7A1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6783-ED9C-4CE1-9A89-9F98C37C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73A8-C406-4253-A31C-804E8A33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1E6D-F03C-4EEF-A4AD-3CD44EA6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4845-E2A9-4DA8-8D3D-7607B946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A66C-75AF-469B-AB49-8D7D992F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91A-9160-4923-BFFB-385EE893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BE4-5F3A-4C1A-8367-6216F95D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788-2071-4ACD-A3E6-568B2A5E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D72-1F4D-467C-BB14-2A7E30D3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922-D5ED-4BF2-BCE9-D27F17B2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CFE-B9C0-4F9E-85D0-A49BC0D0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AFF-01D0-4B28-AC36-44F2FF2B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B5BE-DE1D-49C0-9E75-43FA5C58F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EF11-95F2-485E-BF8A-78C775311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FAB3-DD8D-4ADF-AA4C-79E3E1E00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: Form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8E69-413D-4CBD-8EF0-0C2811667A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Gri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1701720" y="1835280"/>
            <a:ext cx="574056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456B-D007-49A1-91C9-E55ACB9AA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86000" y="2209680"/>
            <a:ext cx="4648320" cy="21337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SkiBoard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Datasheet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2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4572000" cy="341964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883F-0708-4F14-82CC-A4ADEFD97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rid Form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019920" y="358128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heet style is simpler than Ta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019920" y="213372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style has more desig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4343040" y="251460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 flipH="1" flipV="1">
            <a:off x="4723920" y="3123720"/>
            <a:ext cx="1295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E99B-2BF6-4E68-9C94-686E5603C3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143000" y="1828800"/>
            <a:ext cx="6629400" cy="38098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form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box for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lookup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ProductCategor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Category and CategoryDescription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lumn wid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ategory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value into the Category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the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tab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769080" cy="462420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6C7B-542B-4E7F-99D4-270E32B70E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 a Combo Bo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523880" y="464832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 flipV="1">
            <a:off x="3886200" y="44197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343400" y="297180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 flipH="1">
            <a:off x="4114440" y="33526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4343400" y="1981080"/>
            <a:ext cx="304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8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4584600" cy="318312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8334-A10E-4566-810B-D531305FE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bo Box Ro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971800" y="5029200"/>
            <a:ext cx="2590920" cy="11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Board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048120" y="5410080"/>
            <a:ext cx="251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hi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6400800" y="2286000"/>
            <a:ext cx="21337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477120" y="266688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4038480" y="3276720"/>
            <a:ext cx="11430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3"/>
          <p:cNvSpPr/>
          <p:nvPr/>
        </p:nvSpPr>
        <p:spPr>
          <a:xfrm>
            <a:off x="5181480" y="4114800"/>
            <a:ext cx="328932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6555960" y="17524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234840" y="5141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4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208560" cy="383076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768D-4D12-4996-AC60-F79EF152F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bo Box Run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477120" y="296064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 flipH="1">
            <a:off x="5562720" y="311292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29400" y="480060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867280" y="39513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209680" y="502920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sen value is transferred t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V="1">
            <a:off x="4343400" y="3733560"/>
            <a:ext cx="380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F6B4-4D5A-4320-BC76-AB4F0DCB5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371600" y="1828800"/>
            <a:ext cx="6248520" cy="2438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table,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able use name, phone, and e-mai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table, use 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table, all columns except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odel table, use Category, ModelID, and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wizard and 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ECB0-C638-452D-8BB7-367C21E26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/Subform by Sa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0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20704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1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5181480" cy="428652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1E71-2C41-467A-BB03-63F8A88F0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80880" y="26668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 flipV="1">
            <a:off x="2438280" y="274284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2438280" y="2819160"/>
            <a:ext cx="12956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2438280" y="2895480"/>
            <a:ext cx="1981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80880" y="182880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layout and s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1905120" y="5257800"/>
            <a:ext cx="2819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price by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5410080" y="472428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4724280" y="45720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"/>
          <p:cNvSpPr/>
          <p:nvPr/>
        </p:nvSpPr>
        <p:spPr>
          <a:xfrm flipH="1">
            <a:off x="5791320" y="5105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4F8F-EBF5-4970-9D94-E18144C38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29000" y="1739880"/>
          <a:ext cx="3886200" cy="1463760"/>
        </p:xfrm>
        <a:graphic>
          <a:graphicData uri="http://schemas.openxmlformats.org/drawingml/2006/table">
            <a:tbl>
              <a:tblPr/>
              <a:tblGrid>
                <a:gridCol w="727200"/>
                <a:gridCol w="1992240"/>
                <a:gridCol w="1166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4"/>
          <p:cNvSpPr/>
          <p:nvPr/>
        </p:nvSpPr>
        <p:spPr>
          <a:xfrm>
            <a:off x="533520" y="1676520"/>
            <a:ext cx="22860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69200" y="1828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95440" y="2246400"/>
            <a:ext cx="12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905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905120" y="26478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905120" y="293364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1905120" y="3219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905120" y="3505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498200" y="1371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Board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3"/>
          <p:cNvSpPr/>
          <p:nvPr/>
        </p:nvSpPr>
        <p:spPr>
          <a:xfrm>
            <a:off x="3429000" y="3809880"/>
            <a:ext cx="49528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4"/>
          <p:cNvSpPr/>
          <p:nvPr/>
        </p:nvSpPr>
        <p:spPr>
          <a:xfrm>
            <a:off x="5761800" y="3846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3492000" y="4205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5565960" y="42051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05320" y="4572000"/>
          <a:ext cx="4701960" cy="1189080"/>
        </p:xfrm>
        <a:graphic>
          <a:graphicData uri="http://schemas.openxmlformats.org/drawingml/2006/table">
            <a:tbl>
              <a:tblPr/>
              <a:tblGrid>
                <a:gridCol w="857160"/>
                <a:gridCol w="1326960"/>
                <a:gridCol w="704880"/>
                <a:gridCol w="1035360"/>
                <a:gridCol w="77760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97"/>
          <p:cNvSpPr/>
          <p:nvPr/>
        </p:nvSpPr>
        <p:spPr>
          <a:xfrm>
            <a:off x="748440" y="4227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8"/>
          <p:cNvSpPr/>
          <p:nvPr/>
        </p:nvSpPr>
        <p:spPr>
          <a:xfrm>
            <a:off x="762192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9"/>
          <p:cNvSpPr/>
          <p:nvPr/>
        </p:nvSpPr>
        <p:spPr>
          <a:xfrm>
            <a:off x="2212560" y="4952880"/>
            <a:ext cx="111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B8D3-E7E4-4D6E-8E6C-107AF35490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057400" y="1905120"/>
            <a:ext cx="4800600" cy="23619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CustomerID, EmployeeID, and PaymentMethod with combo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Row Source property of the combo boxes to set a 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ab order and ru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9A55-3FCA-4B24-8577-14FD78DB8D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Sale Form Improv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9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858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5972040" cy="471636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C53E-296F-4C3A-9749-E0492A5B36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st of the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248520" y="449568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th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 flipH="1">
            <a:off x="5562360" y="46483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334120" y="14479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date pi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 flipH="1">
            <a:off x="3809880" y="18288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D26B-5004-42A6-A971-18869CD17E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143000" y="1828800"/>
            <a:ext cx="6781680" cy="3657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ub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combo box for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compute Value=QuantitySold*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the footer to compute the subtotal: =Sum(QuantitySold*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ab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sub form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main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ubtotal text box and use the expression builder to copy the subtotal value from the subfrom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7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4557600" cy="351144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F527-3B1D-458D-90DE-FC7540CEC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pression Builder to Copy Subtot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009800" y="300672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3219480" y="3159000"/>
            <a:ext cx="4381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066680" y="414972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 flipV="1">
            <a:off x="3276720" y="38448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990720" y="529272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e subtota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3200400" y="4648320"/>
            <a:ext cx="1981080" cy="10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5334120" y="144792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to copy the subtota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4876920" y="18288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1A1B-74D8-4249-86F1-65CB0EFEA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56272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3234-BE0D-4841-9E80-A75C3D76A1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981080" y="1828800"/>
            <a:ext cx="4953240" cy="28954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able, use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table, use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table, use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group br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Summary Option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otals for the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wizard and switch to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3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5333760" cy="36860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7815-DE83-4E65-973C-EFF3AC0E91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izing Form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2819520" y="157176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 flipH="1">
            <a:off x="2286000" y="19526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200400" y="1952640"/>
            <a:ext cx="259092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F537-BABF-4D87-A659-A6ABAAF963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905120" y="1981080"/>
            <a:ext cx="5333760" cy="23623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copy of the Customer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background color of the header to yel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7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4575240" cy="342252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902B-4294-4145-BB75-B4A4BDF31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the Customer Sales Repor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609480" y="1523880"/>
            <a:ext cx="6858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columns from the Customer, Sale, and SaleItem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6095880" y="25909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095880" y="32767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095880" y="39625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 flipH="1" flipV="1">
            <a:off x="5028840" y="27432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 flipH="1" flipV="1">
            <a:off x="5028840" y="30481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3"/>
          <p:cNvSpPr/>
          <p:nvPr/>
        </p:nvSpPr>
        <p:spPr>
          <a:xfrm flipH="1" flipV="1">
            <a:off x="4952520" y="33523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6" descr=""/>
          <p:cNvPicPr/>
          <p:nvPr/>
        </p:nvPicPr>
        <p:blipFill>
          <a:blip r:embed="rId1"/>
          <a:stretch/>
        </p:blipFill>
        <p:spPr>
          <a:xfrm>
            <a:off x="1143000" y="1386000"/>
            <a:ext cx="6705720" cy="470988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F3EA-4915-4223-AA0C-8E7EEC6D7B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Main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715000" y="419112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4952880" y="45720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257800" y="541008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3809880" y="556272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029200" y="2590920"/>
            <a:ext cx="1219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4419360" y="28195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295280" y="2895480"/>
            <a:ext cx="1067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V="1">
            <a:off x="236232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F40D-A8B1-4743-9087-D1A70B100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1981080" y="1828800"/>
            <a:ext cx="4953240" cy="28954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able, use all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table, use all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table, use all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group brea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Summary Options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otals for the Quant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wizard and switch to desig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0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496040" cy="336240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0510-01DD-4BA8-8336-27997564C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Summary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153120" y="4114800"/>
            <a:ext cx="2133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is button to calculate subtotals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 flipH="1" flipV="1">
            <a:off x="5086080" y="44956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F5C7-69AB-4574-9709-F514739226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749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8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5346720" cy="424800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4279-8BA7-4D4C-86EB-399EBBA51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324480" y="25192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6324480" y="32050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324480" y="38908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 flipH="1" flipV="1">
            <a:off x="5790960" y="25142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 flipH="1">
            <a:off x="4876560" y="274320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 flipH="1" flipV="1">
            <a:off x="5029200" y="266652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 flipH="1">
            <a:off x="5105520" y="3429000"/>
            <a:ext cx="121896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4"/>
          <p:cNvSpPr/>
          <p:nvPr/>
        </p:nvSpPr>
        <p:spPr>
          <a:xfrm flipH="1">
            <a:off x="49528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8" descr=""/>
          <p:cNvPicPr/>
          <p:nvPr/>
        </p:nvPicPr>
        <p:blipFill>
          <a:blip r:embed="rId1"/>
          <a:stretch/>
        </p:blipFill>
        <p:spPr>
          <a:xfrm>
            <a:off x="600120" y="1600200"/>
            <a:ext cx="77817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8B18-74C6-4F55-84A5-7F240325C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886200" y="22096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886200" y="31240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886200" y="42670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 flipH="1">
            <a:off x="3505320" y="23623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"/>
          <p:cNvSpPr/>
          <p:nvPr/>
        </p:nvSpPr>
        <p:spPr>
          <a:xfrm flipH="1">
            <a:off x="3276360" y="32767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 flipH="1" flipV="1">
            <a:off x="3657240" y="4114800"/>
            <a:ext cx="228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7467480" y="3876840"/>
            <a:ext cx="12193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textbox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 flipH="1" flipV="1">
            <a:off x="3809880" y="4038120"/>
            <a:ext cx="365760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V="1">
            <a:off x="7467480" y="2666520"/>
            <a:ext cx="228600" cy="159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B24B-ADF6-4CC9-9CB6-5D8BDD142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905120" y="1828800"/>
            <a:ext cx="5029200" cy="28195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items around to improve th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in the Detail section called Value to compute [QuantitySold]*[Sale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urrency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um calculations to be Sum([QuantitySold]*[Sale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Record Source to add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clean up the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4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154480" cy="4495680"/>
          </a:xfrm>
          <a:prstGeom prst="rect">
            <a:avLst/>
          </a:prstGeom>
          <a:ln w="0">
            <a:noFill/>
          </a:ln>
        </p:spPr>
      </p:pic>
      <p:sp>
        <p:nvSpPr>
          <p:cNvPr id="3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2EC7-CE77-4EE8-AA17-6A6840EA6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352680" y="533412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 flipV="1">
            <a:off x="2590920" y="52574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5638680" y="449568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51814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 flipH="1" flipV="1">
            <a:off x="5181480" y="47242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638680" y="480060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493A-EF05-4B7A-BC33-DF3489B59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Report (One Page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8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46609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7398-9882-48B2-A920-E54E241CE8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752480" y="1981080"/>
            <a:ext cx="5334120" cy="26672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to total sales by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based o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Customer group, set the Keep Together property to Whol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F86E-C09F-46C0-8089-0F2CCB204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Totals Without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685800" y="2057400"/>
            <a:ext cx="784872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Customer.LastName, Customer.FirstName, Customer.Phone, Customer.EMail, Sale.SaleID, Sale.SaleDate, Sale.ShipCity, Sale.ShipState, Sum([SalePrice]*[QuantitySold]) AS [Valu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(Customer INNER JOIN Sale ON Customer.CustomerID = Sale.CustomerID)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Customer.CustomerID, Customer.LastName, Customer.FirstName, Customer.Phone, Customer.EMail, Sale.SaleID, Sale.SaleDate, Sale.ShipCity, Sale.Ship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ustomer.LastName, Customer.First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2D5E-C96A-4F3D-863B-86D2BA0A9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09680" y="2057400"/>
            <a:ext cx="464832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/Forms/More Forms/Form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ll columns to the right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olumnar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name for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78DB-A926-4490-9A9D-6A95F69EF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Tot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1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486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FDDB-46D2-4659-891E-68A259BD0D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143000" y="1828800"/>
            <a:ext cx="6858000" cy="33526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imple tabular report based on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ale sub-report from the Sale and SaleItem tables, grouping it by Sale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Rental sub-report from the Rental and RentalItem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Customer report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d drop the two sub-reports onto the Detail section of the Customer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roperties of the sub-reports to set the Link Child and Link Master Fields to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4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810560" cy="4038480"/>
          </a:xfrm>
          <a:prstGeom prst="rect">
            <a:avLst/>
          </a:prstGeom>
          <a:ln w="0">
            <a:noFill/>
          </a:ln>
        </p:spPr>
      </p:pic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9284-B851-4208-8152-FEBFB96EFE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report: Sales and 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4191120" y="3429000"/>
            <a:ext cx="137160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main customer report (master) to subreport (chi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 flipV="1">
            <a:off x="4266720" y="31237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1"/>
          <p:cNvSpPr/>
          <p:nvPr/>
        </p:nvSpPr>
        <p:spPr>
          <a:xfrm flipV="1">
            <a:off x="4952880" y="27428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A159-AC28-4F6D-9C9E-D75E4A83F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report Displ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2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5388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4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4902480" cy="366696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75CD-78D1-4A6F-813C-045D13452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Form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57200" y="251460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029200" y="259092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/transf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4267080" y="29718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 flipH="1">
            <a:off x="5105160" y="29718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2057400" y="26668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2" descr=""/>
          <p:cNvPicPr/>
          <p:nvPr/>
        </p:nvPicPr>
        <p:blipFill>
          <a:blip r:embed="rId1"/>
          <a:stretch/>
        </p:blipFill>
        <p:spPr>
          <a:xfrm>
            <a:off x="1828800" y="2163600"/>
            <a:ext cx="5867280" cy="400860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D026-1E72-499B-822A-84B155394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Design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572000" y="14778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box to add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H="1">
            <a:off x="5486400" y="21636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343400" y="551664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to control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V="1">
            <a:off x="5029200" y="48304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 flipV="1">
            <a:off x="2286000" y="3306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57200" y="1782720"/>
            <a:ext cx="12952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esign, layout, or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1752480" y="22399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6705720" y="140184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Lis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9"/>
          <p:cNvSpPr/>
          <p:nvPr/>
        </p:nvSpPr>
        <p:spPr>
          <a:xfrm flipH="1">
            <a:off x="6705720" y="17827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990720" y="3535200"/>
            <a:ext cx="12952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 open for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2" descr=""/>
          <p:cNvPicPr/>
          <p:nvPr/>
        </p:nvPicPr>
        <p:blipFill>
          <a:blip r:embed="rId1"/>
          <a:stretch/>
        </p:blipFill>
        <p:spPr>
          <a:xfrm>
            <a:off x="4191120" y="2362320"/>
            <a:ext cx="2900160" cy="2819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2438640" cy="2797200"/>
          </a:xfrm>
          <a:prstGeom prst="rect">
            <a:avLst/>
          </a:prstGeom>
          <a:ln w="0">
            <a:noFill/>
          </a:ln>
        </p:spPr>
      </p:pic>
      <p:sp>
        <p:nvSpPr>
          <p:cNvPr id="15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770B-B371-408D-AC94-83C1ACEB6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Source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1308600" y="52578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data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4359240" y="52578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data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4495680" y="1523880"/>
            <a:ext cx="2362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ource = CustomerI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 flipH="1">
            <a:off x="3200400" y="213372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>
            <a:off x="6248520" y="2174760"/>
            <a:ext cx="380880" cy="125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447920" y="152388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Source =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4F6B-2BED-41E1-9B36-6FFEB26EB8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981080" y="1905120"/>
            <a:ext cx="5257800" cy="2438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Customer form to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mand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cord Operation/Delete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mand button to insert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Tab Order and verif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0EE5-1533-4F79-B778-3BA8483F0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ing Command Butt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2989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0T05:00:06Z</dcterms:modified>
  <cp:revision>86</cp:revision>
  <dc:subject/>
  <dc:title>All Powder Board and Ski</dc:title>
</cp:coreProperties>
</file>