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A2E5-9001-4F8E-98CD-0633C4CB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4202-39C2-4950-A4D3-A07F8386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CFD-642F-49BB-9A6D-8B65FBB2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07F-7033-4749-AE72-153A78DC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1872-138D-402D-8593-6117CC64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5FC2-FC57-40D7-9944-69C6C82D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57E4-C3FE-4FCE-8210-D1FAAA92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BFDE-BF78-41B4-8879-6875E10D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5DFC-4FC6-4BC6-82B4-F18256BE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1E33-3C4A-4989-A47F-2CD694B6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4599-B956-4531-B0CA-B8F48915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E40-8851-4E23-9EF4-0E11422E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15B1-B480-40FA-8671-18802AA8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9813-C083-4E44-8971-45FBEEC8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C55A-2CE4-4B4D-BAA4-E4D4C2B6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5EC7-8D95-4704-B7ED-33B2AF75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C5F2-2CFE-4063-8655-BA097CE2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B693-D5DF-413E-AAB1-BB214F05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5444-E453-4BF3-9CD8-3C7CA095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9658-9025-478D-84A3-24849B57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7561-7D96-4E7B-A8A3-09A16CD6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6412-CAC4-4D56-B8D8-3B0CE60D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5865-9E54-4B37-A736-6EDC7CF6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4C6-CFC4-4636-BA86-C292DCCB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AC26-8FA1-4A44-AC86-2558781D64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3495-0AE9-4B40-BFA1-8866A6145B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9BF6-F626-4B5A-92E6-8512C80A64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7: Integrity and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4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934320" cy="457056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3FB6-A573-4C0E-830A-B2493EC81E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dding QuantityOnHand to Subfor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143000" y="3276720"/>
            <a:ext cx="1295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 flipV="1">
            <a:off x="1523880" y="274320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4419720" y="152388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query to add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>
            <a:off x="5105520" y="2133720"/>
            <a:ext cx="25905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486400" y="4114800"/>
            <a:ext cx="2362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QOH from Field List box ont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 flipV="1">
            <a:off x="5486400" y="236196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9"/>
          <p:cNvSpPr/>
          <p:nvPr/>
        </p:nvSpPr>
        <p:spPr>
          <a:xfrm flipH="1">
            <a:off x="4419360" y="441972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D48E-CD74-49FC-8C9A-088CEEB22C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 Ev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708120" y="22924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57200" y="1881360"/>
            <a:ext cx="100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)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371960" y="1881360"/>
            <a:ext cx="9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)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546200" y="22924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2460600" y="2292480"/>
            <a:ext cx="8254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2286720" y="1881360"/>
            <a:ext cx="114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) Re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3429000" y="1881360"/>
            <a:ext cx="126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) Act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4572360" y="1881360"/>
            <a:ext cx="121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5)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4829040" y="2298600"/>
            <a:ext cx="812880" cy="58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4898880" y="23684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4898880" y="25210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4898880" y="267336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5280120" y="236844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5280120" y="259704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3610080" y="2298600"/>
            <a:ext cx="812520" cy="58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0"/>
          <p:cNvSpPr/>
          <p:nvPr/>
        </p:nvSpPr>
        <p:spPr>
          <a:xfrm>
            <a:off x="3679920" y="236844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3679920" y="252108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2"/>
          <p:cNvSpPr/>
          <p:nvPr/>
        </p:nvSpPr>
        <p:spPr>
          <a:xfrm>
            <a:off x="3679920" y="267336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4060800" y="2368440"/>
            <a:ext cx="2160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4"/>
          <p:cNvSpPr/>
          <p:nvPr/>
        </p:nvSpPr>
        <p:spPr>
          <a:xfrm>
            <a:off x="4060800" y="2597040"/>
            <a:ext cx="2160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5791320" y="1881360"/>
            <a:ext cx="99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6) 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6"/>
          <p:cNvSpPr/>
          <p:nvPr/>
        </p:nvSpPr>
        <p:spPr>
          <a:xfrm>
            <a:off x="6048360" y="2298600"/>
            <a:ext cx="812880" cy="58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7"/>
          <p:cNvSpPr/>
          <p:nvPr/>
        </p:nvSpPr>
        <p:spPr>
          <a:xfrm>
            <a:off x="6118200" y="23684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8"/>
          <p:cNvSpPr/>
          <p:nvPr/>
        </p:nvSpPr>
        <p:spPr>
          <a:xfrm>
            <a:off x="6118200" y="25210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9"/>
          <p:cNvSpPr/>
          <p:nvPr/>
        </p:nvSpPr>
        <p:spPr>
          <a:xfrm>
            <a:off x="6118200" y="267336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0"/>
          <p:cNvSpPr/>
          <p:nvPr/>
        </p:nvSpPr>
        <p:spPr>
          <a:xfrm>
            <a:off x="6499080" y="23684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1"/>
          <p:cNvSpPr/>
          <p:nvPr/>
        </p:nvSpPr>
        <p:spPr>
          <a:xfrm>
            <a:off x="6499080" y="25970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2"/>
          <p:cNvSpPr/>
          <p:nvPr/>
        </p:nvSpPr>
        <p:spPr>
          <a:xfrm>
            <a:off x="6857640" y="1881360"/>
            <a:ext cx="144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7) Got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3"/>
          <p:cNvSpPr/>
          <p:nvPr/>
        </p:nvSpPr>
        <p:spPr>
          <a:xfrm>
            <a:off x="7115040" y="2298600"/>
            <a:ext cx="812880" cy="58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4"/>
          <p:cNvSpPr/>
          <p:nvPr/>
        </p:nvSpPr>
        <p:spPr>
          <a:xfrm>
            <a:off x="7191360" y="2374920"/>
            <a:ext cx="203040" cy="127080"/>
          </a:xfrm>
          <a:prstGeom prst="rect">
            <a:avLst/>
          </a:prstGeom>
          <a:solidFill>
            <a:srgbClr val="ffffe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5"/>
          <p:cNvSpPr/>
          <p:nvPr/>
        </p:nvSpPr>
        <p:spPr>
          <a:xfrm>
            <a:off x="7184880" y="25210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6"/>
          <p:cNvSpPr/>
          <p:nvPr/>
        </p:nvSpPr>
        <p:spPr>
          <a:xfrm>
            <a:off x="7184880" y="267336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7566120" y="236844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8"/>
          <p:cNvSpPr/>
          <p:nvPr/>
        </p:nvSpPr>
        <p:spPr>
          <a:xfrm>
            <a:off x="7566120" y="259704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9"/>
          <p:cNvSpPr/>
          <p:nvPr/>
        </p:nvSpPr>
        <p:spPr>
          <a:xfrm>
            <a:off x="457560" y="5234040"/>
            <a:ext cx="10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5) 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0"/>
          <p:cNvSpPr/>
          <p:nvPr/>
        </p:nvSpPr>
        <p:spPr>
          <a:xfrm>
            <a:off x="1600560" y="5234040"/>
            <a:ext cx="152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) Deact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1"/>
          <p:cNvSpPr/>
          <p:nvPr/>
        </p:nvSpPr>
        <p:spPr>
          <a:xfrm>
            <a:off x="3125160" y="5234040"/>
            <a:ext cx="117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) U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2"/>
          <p:cNvSpPr/>
          <p:nvPr/>
        </p:nvSpPr>
        <p:spPr>
          <a:xfrm>
            <a:off x="3381480" y="5651640"/>
            <a:ext cx="812520" cy="58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3"/>
          <p:cNvSpPr/>
          <p:nvPr/>
        </p:nvSpPr>
        <p:spPr>
          <a:xfrm>
            <a:off x="3451320" y="572148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4"/>
          <p:cNvSpPr/>
          <p:nvPr/>
        </p:nvSpPr>
        <p:spPr>
          <a:xfrm>
            <a:off x="3451320" y="587376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5"/>
          <p:cNvSpPr/>
          <p:nvPr/>
        </p:nvSpPr>
        <p:spPr>
          <a:xfrm>
            <a:off x="3451320" y="602604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6"/>
          <p:cNvSpPr/>
          <p:nvPr/>
        </p:nvSpPr>
        <p:spPr>
          <a:xfrm>
            <a:off x="3832200" y="5721480"/>
            <a:ext cx="2160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7"/>
          <p:cNvSpPr/>
          <p:nvPr/>
        </p:nvSpPr>
        <p:spPr>
          <a:xfrm>
            <a:off x="3832200" y="5950080"/>
            <a:ext cx="2160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8"/>
          <p:cNvSpPr/>
          <p:nvPr/>
        </p:nvSpPr>
        <p:spPr>
          <a:xfrm>
            <a:off x="1774800" y="5645160"/>
            <a:ext cx="8254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9"/>
          <p:cNvSpPr/>
          <p:nvPr/>
        </p:nvSpPr>
        <p:spPr>
          <a:xfrm>
            <a:off x="5791320" y="5234040"/>
            <a:ext cx="150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) Lost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0"/>
          <p:cNvSpPr/>
          <p:nvPr/>
        </p:nvSpPr>
        <p:spPr>
          <a:xfrm>
            <a:off x="6048360" y="5651640"/>
            <a:ext cx="812880" cy="58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1"/>
          <p:cNvSpPr/>
          <p:nvPr/>
        </p:nvSpPr>
        <p:spPr>
          <a:xfrm>
            <a:off x="6118200" y="57214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2"/>
          <p:cNvSpPr/>
          <p:nvPr/>
        </p:nvSpPr>
        <p:spPr>
          <a:xfrm>
            <a:off x="6118200" y="587376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3"/>
          <p:cNvSpPr/>
          <p:nvPr/>
        </p:nvSpPr>
        <p:spPr>
          <a:xfrm>
            <a:off x="6118200" y="60260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4"/>
          <p:cNvSpPr/>
          <p:nvPr/>
        </p:nvSpPr>
        <p:spPr>
          <a:xfrm>
            <a:off x="6499080" y="57214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5"/>
          <p:cNvSpPr/>
          <p:nvPr/>
        </p:nvSpPr>
        <p:spPr>
          <a:xfrm>
            <a:off x="6499080" y="59500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6"/>
          <p:cNvSpPr/>
          <p:nvPr/>
        </p:nvSpPr>
        <p:spPr>
          <a:xfrm>
            <a:off x="7238520" y="5234040"/>
            <a:ext cx="83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)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7"/>
          <p:cNvSpPr/>
          <p:nvPr/>
        </p:nvSpPr>
        <p:spPr>
          <a:xfrm>
            <a:off x="7115040" y="5651640"/>
            <a:ext cx="812880" cy="58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8"/>
          <p:cNvSpPr/>
          <p:nvPr/>
        </p:nvSpPr>
        <p:spPr>
          <a:xfrm>
            <a:off x="7191360" y="5727600"/>
            <a:ext cx="203040" cy="127080"/>
          </a:xfrm>
          <a:prstGeom prst="rect">
            <a:avLst/>
          </a:prstGeom>
          <a:solidFill>
            <a:srgbClr val="ffffe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9"/>
          <p:cNvSpPr/>
          <p:nvPr/>
        </p:nvSpPr>
        <p:spPr>
          <a:xfrm>
            <a:off x="7184880" y="587376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0"/>
          <p:cNvSpPr/>
          <p:nvPr/>
        </p:nvSpPr>
        <p:spPr>
          <a:xfrm>
            <a:off x="7184880" y="60260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1"/>
          <p:cNvSpPr/>
          <p:nvPr/>
        </p:nvSpPr>
        <p:spPr>
          <a:xfrm>
            <a:off x="7566120" y="572148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2"/>
          <p:cNvSpPr/>
          <p:nvPr/>
        </p:nvSpPr>
        <p:spPr>
          <a:xfrm>
            <a:off x="7566120" y="595008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63"/>
          <p:cNvSpPr/>
          <p:nvPr/>
        </p:nvSpPr>
        <p:spPr>
          <a:xfrm>
            <a:off x="5730840" y="1295280"/>
            <a:ext cx="0" cy="487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4"/>
          <p:cNvSpPr/>
          <p:nvPr/>
        </p:nvSpPr>
        <p:spPr>
          <a:xfrm>
            <a:off x="6934320" y="3718080"/>
            <a:ext cx="131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5"/>
          <p:cNvSpPr/>
          <p:nvPr/>
        </p:nvSpPr>
        <p:spPr>
          <a:xfrm>
            <a:off x="761400" y="3718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6"/>
          <p:cNvSpPr/>
          <p:nvPr/>
        </p:nvSpPr>
        <p:spPr>
          <a:xfrm>
            <a:off x="1082520" y="1752480"/>
            <a:ext cx="5639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7"/>
          <p:cNvSpPr/>
          <p:nvPr/>
        </p:nvSpPr>
        <p:spPr>
          <a:xfrm flipH="1">
            <a:off x="1158480" y="5029200"/>
            <a:ext cx="579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8"/>
          <p:cNvSpPr/>
          <p:nvPr/>
        </p:nvSpPr>
        <p:spPr>
          <a:xfrm>
            <a:off x="6249600" y="4624560"/>
            <a:ext cx="152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ange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9"/>
          <p:cNvSpPr/>
          <p:nvPr/>
        </p:nvSpPr>
        <p:spPr>
          <a:xfrm>
            <a:off x="549360" y="44956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a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0"/>
          <p:cNvSpPr/>
          <p:nvPr/>
        </p:nvSpPr>
        <p:spPr>
          <a:xfrm>
            <a:off x="549360" y="12952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71"/>
          <p:cNvSpPr/>
          <p:nvPr/>
        </p:nvSpPr>
        <p:spPr>
          <a:xfrm>
            <a:off x="5246640" y="3024360"/>
            <a:ext cx="2465280" cy="1984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2"/>
          <p:cNvSpPr/>
          <p:nvPr/>
        </p:nvSpPr>
        <p:spPr>
          <a:xfrm>
            <a:off x="5791320" y="914400"/>
            <a:ext cx="0" cy="487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6D9E-401D-4B45-9AA5-B64F086428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in Control Ev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438280" y="2438280"/>
            <a:ext cx="457200" cy="304920"/>
          </a:xfrm>
          <a:prstGeom prst="rect">
            <a:avLst/>
          </a:prstGeom>
          <a:solidFill>
            <a:srgbClr val="ffffe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438280" y="2895480"/>
            <a:ext cx="457200" cy="304920"/>
          </a:xfrm>
          <a:prstGeom prst="rect">
            <a:avLst/>
          </a:prstGeom>
          <a:solidFill>
            <a:srgbClr val="ffffe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2438280" y="3352680"/>
            <a:ext cx="457200" cy="304920"/>
          </a:xfrm>
          <a:prstGeom prst="rect">
            <a:avLst/>
          </a:prstGeom>
          <a:solidFill>
            <a:srgbClr val="ffffe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2438280" y="3809880"/>
            <a:ext cx="457200" cy="30492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2438280" y="4724280"/>
            <a:ext cx="457200" cy="30492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2438280" y="5181480"/>
            <a:ext cx="457200" cy="30492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3034080" y="2398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033720" y="28954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t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3035160" y="327672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: keystro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3033720" y="3733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3035520" y="46483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3034800" y="51055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2041560" y="2514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1433880" y="3581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2212200" y="1981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3126240" y="19810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2438280" y="4267080"/>
            <a:ext cx="457200" cy="30492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3034440" y="419112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t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23"/>
          <p:cNvGrpSpPr/>
          <p:nvPr/>
        </p:nvGrpSpPr>
        <p:grpSpPr>
          <a:xfrm>
            <a:off x="2465280" y="2944800"/>
            <a:ext cx="75960" cy="228600"/>
            <a:chOff x="2465280" y="2944800"/>
            <a:chExt cx="75960" cy="228600"/>
          </a:xfrm>
        </p:grpSpPr>
        <p:sp>
          <p:nvSpPr>
            <p:cNvPr id="240" name="Line 24"/>
            <p:cNvSpPr/>
            <p:nvPr/>
          </p:nvSpPr>
          <p:spPr>
            <a:xfrm>
              <a:off x="2498400" y="2944800"/>
              <a:ext cx="0" cy="22860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>
              <a:off x="2465280" y="2944800"/>
              <a:ext cx="75960" cy="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6"/>
            <p:cNvSpPr/>
            <p:nvPr/>
          </p:nvSpPr>
          <p:spPr>
            <a:xfrm>
              <a:off x="2465280" y="3173400"/>
              <a:ext cx="75960" cy="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7"/>
          <p:cNvGrpSpPr/>
          <p:nvPr/>
        </p:nvGrpSpPr>
        <p:grpSpPr>
          <a:xfrm>
            <a:off x="2706840" y="3394080"/>
            <a:ext cx="75960" cy="228600"/>
            <a:chOff x="2706840" y="3394080"/>
            <a:chExt cx="75960" cy="228600"/>
          </a:xfrm>
        </p:grpSpPr>
        <p:sp>
          <p:nvSpPr>
            <p:cNvPr id="244" name="Line 28"/>
            <p:cNvSpPr/>
            <p:nvPr/>
          </p:nvSpPr>
          <p:spPr>
            <a:xfrm>
              <a:off x="2739960" y="3394080"/>
              <a:ext cx="0" cy="22860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9"/>
            <p:cNvSpPr/>
            <p:nvPr/>
          </p:nvSpPr>
          <p:spPr>
            <a:xfrm>
              <a:off x="2706840" y="3394080"/>
              <a:ext cx="75960" cy="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0"/>
            <p:cNvSpPr/>
            <p:nvPr/>
          </p:nvSpPr>
          <p:spPr>
            <a:xfrm>
              <a:off x="2706840" y="3622680"/>
              <a:ext cx="75960" cy="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ED52-A668-4E9F-AB05-912962C811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2133720" y="2057400"/>
            <a:ext cx="4800600" cy="22096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SaleItem sub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he QOH box and buil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AfterUpdat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de to refresh the row and subtract QuantitySold from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6574-461C-4A81-9A4E-726BA7DD74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rst Attempt: QOH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371600" y="15238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ub QuantitySold_AfterUpda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.Refre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 Save data for new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OnHand = QuantityOnHand - 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42530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2F56-D709-4B87-B11F-2ADCF7860A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the clerk entered the wrong value and should have entered 1 instead of 2 un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t, and the code subtracts 1 from the QOH, leaving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to add the original 2 units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521640" y="4394160"/>
            <a:ext cx="775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OnHand = QuantityOnHand – QuantitySold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22C9-9DFE-455D-8522-B9C7C90145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erk Changes SK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5994000" y="2592360"/>
            <a:ext cx="1384560" cy="78552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004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0050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672840" y="255096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SKU 950049, Quant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 flipV="1">
            <a:off x="7010280" y="2590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7469640" y="260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5240160" y="217008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 SKU  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73920" y="351936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SKU to 9500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1"/>
          <p:cNvSpPr/>
          <p:nvPr/>
        </p:nvSpPr>
        <p:spPr>
          <a:xfrm>
            <a:off x="3962520" y="2070000"/>
            <a:ext cx="4343400" cy="520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4529520" y="1676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"/>
          <p:cNvSpPr/>
          <p:nvPr/>
        </p:nvSpPr>
        <p:spPr>
          <a:xfrm>
            <a:off x="7467480" y="2590920"/>
            <a:ext cx="30492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4"/>
          <p:cNvSpPr/>
          <p:nvPr/>
        </p:nvSpPr>
        <p:spPr>
          <a:xfrm>
            <a:off x="3352680" y="3048120"/>
            <a:ext cx="5105520" cy="1307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5"/>
          <p:cNvSpPr/>
          <p:nvPr/>
        </p:nvSpPr>
        <p:spPr>
          <a:xfrm>
            <a:off x="7162920" y="3352680"/>
            <a:ext cx="1092240" cy="762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7453800" y="300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7758720" y="2627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4568760" y="3868560"/>
            <a:ext cx="220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 back to 9500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tract for 9500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997C-72FC-40A4-88DC-FDB153DDAD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erk Changes SKU: Ev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685800" y="1523880"/>
            <a:ext cx="74674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rk enters original SKU (950049)  and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subtracts QuantitySold from QuantityOnHand (10 - 2 =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rk changes SKU to new value (9500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row becomes set for new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subtract QuantitySold from QuantityOnHand for 9500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add QuantitySold back into QuantityOnHand for 9500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2133720" y="4191120"/>
            <a:ext cx="45720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ub SKU_Ent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sNull(SKU.Value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SKU = "-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SKU = SKU.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6FC2-DF00-42DE-841D-D4CA4BCDBC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914400" y="2057400"/>
            <a:ext cx="7315200" cy="18288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aleItem sub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Vie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nd modify the code as specified to handle changes in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990D-8440-4C62-A331-36EE0789A8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KU Changes: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990720" y="1327320"/>
            <a:ext cx="72388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Sub SKU_Ente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sNull(SKU.Value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dSKU = "-1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dSKU = SKU.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Sub SKU_AfterUpdat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OldSKU &lt;&gt; "-1" And Not IsNull(QuantitySold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yOnHand = QuantityOnHand - QuantityS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sql As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l = "UPDATE Inventory SET QuantityOnHand = QuantityOnHand + "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 QuantitySold &amp; " WHERE SKU='" &amp; OldSKU &amp; "'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cmd As ADODB.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cmd = CreateObject("ADODB.Command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ActiveConnection = CurrentProject.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CommandText = 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3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357880" cy="441972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A7B0-36FB-42D8-B3A6-CE7C3DD60A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 Sales Ta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267080" y="426708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288520" y="594360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Figure 6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5029200" y="46483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2977-07A5-4912-8555-342F3B50C5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lete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914400" y="1353240"/>
            <a:ext cx="70851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DelQuantity() As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DelSKU() As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nDel As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Sub Form_Delete(Cancel As Integ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sNull(SKU.Value) Or IsNull(QuantitySold) Then Exit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nDel = 0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im DelQuantity(Me.CurrentVie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im DelSKU(Me.CurrentVie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SKU(nDel) = SKU.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Quantity(nDel) = QuantityS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Del = nDel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Sub Form_AfterDelConfirm(Status As Integ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i As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 = 0 To nDel -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eOneRow DelSKU(i), DelQuantity(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Del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4C89-68D0-4882-BA71-64EA93A828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lete Code 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33520" y="2057400"/>
            <a:ext cx="78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ub DeleteOneRow(ByVal SKU As String, ByVal Qty As St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ql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= "UPDATE Inventory SET QuantityOnHand = QuantityOnHand + "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Qty &amp; " WHERE SKU='" &amp; SKU &amp; "'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cmd As ADODB.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md = CreateObject("ADODB.Command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.ActiveConnection = CurrentProject.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.CommandText =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.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md = N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4212-5415-44F9-ACE7-637BEBCB96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1447920" y="2057400"/>
            <a:ext cx="6248160" cy="27432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aleItem sub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oldSKU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KU event code as descri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a breakpoint in the code before the Execut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 by changing an SKU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the sql line before it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delete code a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multiple changes to validate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2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4915080" cy="466092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4D83-4944-4099-8D51-ECF7C0F9EF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actions for Discou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6019920" y="464832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"/>
          <p:cNvSpPr/>
          <p:nvPr/>
        </p:nvSpPr>
        <p:spPr>
          <a:xfrm flipH="1">
            <a:off x="5638320" y="48006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0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6324480" cy="4502160"/>
          </a:xfrm>
          <a:prstGeom prst="rect">
            <a:avLst/>
          </a:prstGeom>
          <a:ln w="0">
            <a:noFill/>
          </a:ln>
        </p:spPr>
      </p:pic>
      <p:sp>
        <p:nvSpPr>
          <p:cNvPr id="2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92D4-13C2-44DD-84E1-6BE4041413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6248520" y="4114800"/>
            <a:ext cx="1752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to open discount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 flipH="1">
            <a:off x="6172200" y="47656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1259-78C6-4FC7-AF9C-18AE5000E4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905120" y="2133720"/>
            <a:ext cx="5333760" cy="25146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Rental Discount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text boxes and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Rental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to open the Discount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 the open code as ind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th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9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4800600" cy="3492360"/>
          </a:xfrm>
          <a:prstGeom prst="rect">
            <a:avLst/>
          </a:prstGeom>
          <a:ln w="0">
            <a:noFill/>
          </a:ln>
        </p:spPr>
      </p:pic>
      <p:sp>
        <p:nvSpPr>
          <p:cNvPr id="3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4561-DE75-48F8-A6D1-6F01CDCF76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 Discoun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609480" y="2133720"/>
            <a:ext cx="175284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ID and Amount are filled in by code on  the Renta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609480" y="3962520"/>
            <a:ext cx="17528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default value is set to =Now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9"/>
          <p:cNvSpPr/>
          <p:nvPr/>
        </p:nvSpPr>
        <p:spPr>
          <a:xfrm flipV="1">
            <a:off x="2362320" y="2590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0"/>
          <p:cNvSpPr/>
          <p:nvPr/>
        </p:nvSpPr>
        <p:spPr>
          <a:xfrm>
            <a:off x="2362320" y="289548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1"/>
          <p:cNvSpPr/>
          <p:nvPr/>
        </p:nvSpPr>
        <p:spPr>
          <a:xfrm flipV="1">
            <a:off x="2362320" y="2819160"/>
            <a:ext cx="14475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3429000" y="4876920"/>
            <a:ext cx="3962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unbound form built from a blank form with no Record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6145-B01E-4F65-A8EA-372E0DE905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981080" y="2209680"/>
            <a:ext cx="5181840" cy="13716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Rental Discount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pecified code to the button click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D472-F2AD-4220-B973-C23AF80E1E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ntal Form Code: Discount Butt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762120" y="137160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ub cmdDiscount_Click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Error GoTo Err_cmdDiscount_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tDocName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tLinkCriteria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DocName = "GiveRentDiscoun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md.OpenForm stDocName, , , stLink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s!GiveRentDiscount!txtRentID = 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s!GiveRentDiscount!txtDiscountAmount = SubTotal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_cmdDiscount_Cli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_cmdDiscount_Cli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gBox Err.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 Exit_cmdDiscount_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18F9-C5B2-4C7E-B19E-19946AB04F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count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533520" y="1905120"/>
            <a:ext cx="83818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Sub cmdDiscount_Click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cmd As ADODB.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SQL1 As String, SQL2 As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cmd = CreateObject("ADODB.Command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ActiveConnection = CurrentProject.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L1 = "UPDATE RentItem SET RepairCharges=0 WHERE RentID=" &amp; txtRent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L2 = "INSERT INTO RentalDiscount (RentID, DiscountDate, DiscountAmount, Reason)" &amp;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 VALUES (" &amp; txtRentID &amp;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, #" &amp; txtDiscountDate &amp; "#" &amp;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, " &amp; txtDiscountAmount &amp;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, '" &amp; txtReason &amp; "')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DD2F-5954-465F-91F8-06A1224223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362320" y="2286000"/>
            <a:ext cx="4419360" cy="20574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/Other/Macro/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top add: Option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function Compute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ebug/Compile to find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EAB2-FED7-47EE-BE0D-D4E4F1F5D0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count Code Continu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685800" y="1600200"/>
            <a:ext cx="7772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Error GoTo Err_DiscountTr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ActiveConnection.BeginTr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CommandText = SQ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CommandText = SQ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ActiveConnection.CommitTr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blMessage.Caption = "Changes recorded.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t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t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_DiscountTra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ActiveConnection.RollbackTr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blMessage.Caption = Err.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me Exi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9198-E84B-4E14-89BF-6DCED96EA7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1447920" y="1981080"/>
            <a:ext cx="6172200" cy="19051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Sale and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lumn SaleWeek: Val(Format([SaleDate],”ww”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lumn Value: [QuantitySold]*[SalePrice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the Valu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089760" cy="4399200"/>
          </a:xfrm>
          <a:prstGeom prst="rect">
            <a:avLst/>
          </a:prstGeom>
          <a:ln w="0">
            <a:noFill/>
          </a:ln>
        </p:spPr>
      </p:pic>
      <p:sp>
        <p:nvSpPr>
          <p:cNvPr id="3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3362-9267-4EBC-BDEA-8421076868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for Cursor: Weekly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2979720" y="5410080"/>
            <a:ext cx="31496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(Format([SaleDate],”ww”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5"/>
          <p:cNvSpPr/>
          <p:nvPr/>
        </p:nvSpPr>
        <p:spPr>
          <a:xfrm flipH="1" flipV="1">
            <a:off x="4343400" y="441936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EC1F-0F19-435F-815D-677C83A768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1295280" y="2362320"/>
            <a:ext cx="6172200" cy="22860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blank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named txt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pecified code to th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a breakpoint and step through the code as it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DD8C-2AC9-496A-BAB2-D04D43643C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rm to Compute Average Increas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1"/>
          <a:stretch/>
        </p:blipFill>
        <p:spPr>
          <a:xfrm>
            <a:off x="1860480" y="1676520"/>
            <a:ext cx="54230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2CEB-96F7-4AF7-94F2-5AA3B338FB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de to Compute Average Increas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380880" y="1295280"/>
            <a:ext cx="8305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rst As ADODB.Record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st = CreateObject("ADODB.Record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QL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= "SELECT SaleWeek, [Value] FROM qryWeeklySale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Open SQL, CurrentProject.Connection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OpenForwardOnly, adLockRead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avg1 As Double, n As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prior As 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Until rst.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prior &gt; 0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g1 = avg1 + (rst("Value") - prior) / p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n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 = rst("Value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Move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.txtAverage = avg1 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5334120" y="3048120"/>
            <a:ext cx="3581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QL statement o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7"/>
          <p:cNvSpPr/>
          <p:nvPr/>
        </p:nvSpPr>
        <p:spPr>
          <a:xfrm flipH="1" flipV="1">
            <a:off x="4724280" y="274320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867280" y="3657600"/>
            <a:ext cx="3048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p the first week because there is no prio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9"/>
          <p:cNvSpPr/>
          <p:nvPr/>
        </p:nvSpPr>
        <p:spPr>
          <a:xfrm flipH="1">
            <a:off x="3047760" y="39625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638680" y="4495680"/>
            <a:ext cx="3276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he percent change and keep a running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1"/>
          <p:cNvSpPr/>
          <p:nvPr/>
        </p:nvSpPr>
        <p:spPr>
          <a:xfrm flipH="1" flipV="1">
            <a:off x="4419720" y="4419720"/>
            <a:ext cx="12189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6019920" y="5334120"/>
            <a:ext cx="2895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current value and move to the next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3"/>
          <p:cNvSpPr/>
          <p:nvPr/>
        </p:nvSpPr>
        <p:spPr>
          <a:xfrm flipH="1" flipV="1">
            <a:off x="3124080" y="5257800"/>
            <a:ext cx="2895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55A3-3C4C-4886-9AA2-C6DD6B26BC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eys: Create Sales and Items (barcode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978120" y="186516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ID card is sc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978120" y="22654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977040" y="26654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a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978120" y="3065400"/>
            <a:ext cx="41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sale item, update QOH and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979200" y="346536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until done (payment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1"/>
          <p:cNvSpPr/>
          <p:nvPr/>
        </p:nvSpPr>
        <p:spPr>
          <a:xfrm>
            <a:off x="444600" y="2895480"/>
            <a:ext cx="622080" cy="762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5340600" y="2286000"/>
            <a:ext cx="1297800" cy="36828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340960" y="3048120"/>
            <a:ext cx="3024360" cy="36828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SaleID, SKU,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5DC2-BE00-409A-92CC-8F58784B78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600200" y="1828800"/>
            <a:ext cx="5791320" cy="25146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blank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boxes for CustomerID, EmployeeID, SKU, and txtSaleID as the generated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command button and add the indic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a breakpoint at the top of the code and step through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8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4724280" cy="291312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36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37CD-29A3-47BD-896D-BDC7F35FF8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nerate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2971800" y="1943280"/>
            <a:ext cx="3429000" cy="580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s and SKU would be scanned, but to test code, set default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7"/>
          <p:cNvSpPr/>
          <p:nvPr/>
        </p:nvSpPr>
        <p:spPr>
          <a:xfrm flipH="1">
            <a:off x="3504960" y="2552760"/>
            <a:ext cx="1066680" cy="11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8"/>
          <p:cNvSpPr/>
          <p:nvPr/>
        </p:nvSpPr>
        <p:spPr>
          <a:xfrm>
            <a:off x="4572000" y="2552760"/>
            <a:ext cx="914400" cy="10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9"/>
          <p:cNvSpPr/>
          <p:nvPr/>
        </p:nvSpPr>
        <p:spPr>
          <a:xfrm flipH="1">
            <a:off x="3885840" y="2552760"/>
            <a:ext cx="685800" cy="163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2F89-E77B-4420-B26D-CED1F6C9D6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nerate Sale Code-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228600" y="152388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qlSale As String, sqlItem As String, sqlSaleItem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rstSale As ADODB.Recordset, rstModel As ADODB.Record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rstSaleItem As ADODB.Record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stSale = CreateObject("ADODB.Record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stModel = CreateObject("ADODB.Record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stSaleItem = CreateObject("ADODB.Record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Sale = "SELECT SaleID, CustomerID, EmployeeID, SaleDate FROM Sal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Item = 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Inventory.ModelID, ListPrice FROM Inventory INNER JO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 &amp;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Model ON Inventory.ModelID = ItemModel.ModelID “ &amp;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='" &amp; SKU &amp; "'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SaleItem = "SELECT SaleID, SKU, SalePrice, QuantitySold FROM SaleIte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cnn As ADODB.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nn = CurrentProject.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SalesTax Fun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EE59-61A9-4855-B714-FEDC1DCC8F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685800" y="2136600"/>
            <a:ext cx="739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ComputeSalesTax(ByVal Amount As Currency) As 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taxRate As 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Rate = 0.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SalesTax = Round(taxRate * Amount,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67A6-CCE1-47A9-8FAE-F2F87F6053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nerate Sale Code-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04920" y="1600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 Get the List Price for the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Model.Open sqlItem, cnn, adOpenStatic, adLockRead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ListPrice As 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Price = rstModel("ListPrice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Model.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 Open the Sale table and create a new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.Open sqlSale, cnn, adOpenDynamic, adLockOptim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aleID As 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.Add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("SaleDate") =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("CustomerID") =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("EmployeeID") = 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eID = rstSale("SaleID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.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.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2CF9-9B13-4975-A89E-81270161FF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nerate Sale Code-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228600" y="19051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 Add the SKU to the SaleItem table using the new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.Open sqlSaleItem, cnn, adOpenDynamic, adLockOptim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stSaleItem("SaleID") =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("SKU") =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("SalePrice") =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("QuantitySold"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.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.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tSaleID =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274F-04F5-47CA-A1D3-31B5F2E593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1752480" y="1905120"/>
            <a:ext cx="5562720" cy="190476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blank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ombo box to select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to enter a new ZIP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button and add the indicated code for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5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4660920" cy="304776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38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ED14-225E-440A-A376-22DBA2FAEA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k Tes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2057400" y="4191120"/>
            <a:ext cx="2133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o box to select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2"/>
          <p:cNvSpPr/>
          <p:nvPr/>
        </p:nvSpPr>
        <p:spPr>
          <a:xfrm flipV="1">
            <a:off x="4038480" y="34286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E046-58C5-43BB-ADEB-6A829218F7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371600" y="2057400"/>
            <a:ext cx="6248520" cy="22096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CustomerLocks form as a datasheet into the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a ZIP Code but do not leave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the new form and run it for the same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 and press the Tab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2D47-4451-4604-8E5C-F57809F16E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Lock Tes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194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0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038480" cy="4668840"/>
          </a:xfrm>
          <a:prstGeom prst="rect">
            <a:avLst/>
          </a:prstGeom>
          <a:ln w="0">
            <a:noFill/>
          </a:ln>
        </p:spPr>
      </p:pic>
      <p:sp>
        <p:nvSpPr>
          <p:cNvPr id="3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7FEE-FA76-4EFE-8FE9-94051C8C16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ptimistic Lock on th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533520" y="2895480"/>
            <a:ext cx="2692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ZIP but do not leave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"/>
          <p:cNvSpPr/>
          <p:nvPr/>
        </p:nvSpPr>
        <p:spPr>
          <a:xfrm>
            <a:off x="3200400" y="3200400"/>
            <a:ext cx="21337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5715000" y="1981080"/>
            <a:ext cx="26924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first customer, enter a ZIP code and chang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1"/>
          <p:cNvSpPr/>
          <p:nvPr/>
        </p:nvSpPr>
        <p:spPr>
          <a:xfrm flipH="1" flipV="1">
            <a:off x="4952520" y="22096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2"/>
          <p:cNvSpPr/>
          <p:nvPr/>
        </p:nvSpPr>
        <p:spPr>
          <a:xfrm flipH="1">
            <a:off x="4876920" y="236232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3"/>
          <p:cNvSpPr/>
          <p:nvPr/>
        </p:nvSpPr>
        <p:spPr>
          <a:xfrm flipH="1">
            <a:off x="4952520" y="2362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4"/>
          <p:cNvSpPr/>
          <p:nvPr/>
        </p:nvSpPr>
        <p:spPr>
          <a:xfrm>
            <a:off x="6858000" y="3733920"/>
            <a:ext cx="16765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back here and Tab out of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5"/>
          <p:cNvSpPr/>
          <p:nvPr/>
        </p:nvSpPr>
        <p:spPr>
          <a:xfrm flipH="1" flipV="1">
            <a:off x="5790960" y="4221000"/>
            <a:ext cx="106668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6"/>
          <p:cNvSpPr/>
          <p:nvPr/>
        </p:nvSpPr>
        <p:spPr>
          <a:xfrm>
            <a:off x="380880" y="502920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 that value was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7"/>
          <p:cNvSpPr/>
          <p:nvPr/>
        </p:nvSpPr>
        <p:spPr>
          <a:xfrm flipV="1">
            <a:off x="2590920" y="5029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305E-B192-4F0A-BC95-8CA294292A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1828800" y="1981080"/>
            <a:ext cx="5486400" cy="27432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design view on the change form and add the specified error-handl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CustomerLocks form in Design view and set the Record Locks property to Edited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both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a ZIP Code in Customer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a new ZIP Code in the change form for the same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8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137200" cy="4647960"/>
          </a:xfrm>
          <a:prstGeom prst="rect">
            <a:avLst/>
          </a:prstGeom>
          <a:ln w="0">
            <a:noFill/>
          </a:ln>
        </p:spPr>
      </p:pic>
      <p:sp>
        <p:nvSpPr>
          <p:cNvPr id="4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8AE9-EE0C-4022-B21A-719BC97C58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ssimistic Lock on For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2057400" y="4572000"/>
            <a:ext cx="2692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ZIP but do not leave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4800600" y="1447920"/>
            <a:ext cx="26924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first customer, enter a ZIP code and chang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9"/>
          <p:cNvSpPr/>
          <p:nvPr/>
        </p:nvSpPr>
        <p:spPr>
          <a:xfrm flipV="1">
            <a:off x="3352680" y="426672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"/>
          <p:cNvSpPr/>
          <p:nvPr/>
        </p:nvSpPr>
        <p:spPr>
          <a:xfrm flipH="1">
            <a:off x="3962520" y="190512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2"/>
          <p:cNvSpPr/>
          <p:nvPr/>
        </p:nvSpPr>
        <p:spPr>
          <a:xfrm flipH="1">
            <a:off x="3886200" y="19051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3"/>
          <p:cNvSpPr/>
          <p:nvPr/>
        </p:nvSpPr>
        <p:spPr>
          <a:xfrm flipH="1">
            <a:off x="3886200" y="19051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5181480" y="4191120"/>
            <a:ext cx="190512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nge is not made and the error is trapped because the row is 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5"/>
          <p:cNvSpPr/>
          <p:nvPr/>
        </p:nvSpPr>
        <p:spPr>
          <a:xfrm flipH="1" flipV="1">
            <a:off x="5333760" y="31240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F574-3194-4CEC-B532-EA99EEF44E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andle Optimistic Locks in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838080" y="1600200"/>
            <a:ext cx="7315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yUpd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Open SQL, cnn, adOpenDynamic, adLockOptim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("ZIP") = NewZI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_cmdNewZipCode_Cli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_cmdNewZipCode_Cli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MsgBox(Err.Description, vbRetryCancel) = vbCancel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 Exit_cmdNewZipCode_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 Retry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7" descr=""/>
          <p:cNvPicPr/>
          <p:nvPr/>
        </p:nvPicPr>
        <p:blipFill>
          <a:blip r:embed="rId1"/>
          <a:stretch/>
        </p:blipFill>
        <p:spPr>
          <a:xfrm>
            <a:off x="828720" y="1447920"/>
            <a:ext cx="7248600" cy="465300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F21B-E40B-4490-99D2-E00A151F9B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Access Code Modu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838080" y="4648320"/>
            <a:ext cx="1524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1523880" y="2895120"/>
            <a:ext cx="4608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800600" y="152388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Basic 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4419720" y="3962520"/>
            <a:ext cx="1981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 flipH="1" flipV="1">
            <a:off x="42670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B1B5-0A81-4759-B21C-A8A610C4AC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295280" y="1981080"/>
            <a:ext cx="6553440" cy="24386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Sale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he SalesTax box and select the Build Event/Code Builder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Enter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line: SalesTax = ComputeSalesTax(Subto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SalesTax box to test the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7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858000" cy="4713120"/>
          </a:xfrm>
          <a:prstGeom prst="rect">
            <a:avLst/>
          </a:prstGeom>
          <a:ln w="0">
            <a:noFill/>
          </a:ln>
        </p:spPr>
      </p:pic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448A-9635-4705-AA63-DF9B06DD27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dd Event Code to the Sales For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048120" y="495288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and Build Event/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5105520" y="51814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6095880" y="2743200"/>
            <a:ext cx="15242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Enter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 flipV="1">
            <a:off x="5105160" y="2819160"/>
            <a:ext cx="990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2"/>
          <p:cNvSpPr/>
          <p:nvPr/>
        </p:nvSpPr>
        <p:spPr>
          <a:xfrm flipH="1">
            <a:off x="4495320" y="297180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5334120" y="3809880"/>
            <a:ext cx="1523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the new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 flipH="1" flipV="1">
            <a:off x="4114440" y="350496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6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480708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6FD7-8239-4267-B4A8-5B8FBF3EE7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bugg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523880" y="4495680"/>
            <a:ext cx="15242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a break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V="1">
            <a:off x="2286000" y="37339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4800600" y="144792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8 to step through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 flipH="1">
            <a:off x="4038120" y="15238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4267080" y="4495680"/>
            <a:ext cx="26672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 the cursor over a variable to see its curr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 flipV="1">
            <a:off x="3657240" y="3809880"/>
            <a:ext cx="609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A182-E52B-4BC8-AD09-BE2CDA08CB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133720" y="2133720"/>
            <a:ext cx="5029200" cy="25146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aleItem sub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form properties and modify the Record Source query to add the QuantityOnHan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the Field Lis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QuantityOnHand onto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improve the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11-21T02:51:48Z</dcterms:modified>
  <cp:revision>83</cp:revision>
  <dc:subject/>
  <dc:title>All Powder Board and Ski</dc:title>
</cp:coreProperties>
</file>