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1D2-7F40-4445-AEC2-B2018838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05C-F818-4958-8F56-3E87E163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D63-BA00-48F6-8A4F-CF92E73D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83DE-B773-47CB-90B4-BB861D83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5391-96B8-49C8-BA63-7AA91B26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227B-10B9-418C-9CF2-371FE8E2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86E9-2F34-44FE-8BFA-30087487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7487-A5B1-472B-A8A8-7E4FB644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2105-9C80-4758-96DF-DBBE2AE3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4E62-226B-4B1C-87AD-9D071145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B150-09D3-47D4-B935-CA3BAE32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451-FE33-4370-B916-6DA234AB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E4BE-1D12-44AE-922B-504EDE01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5C3F-A7BC-4C64-A0F5-45AB4D6C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2357-EF96-47E2-B706-5A3E1587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3DCE-420D-49B7-88DE-BE12A8B9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686B-D706-42BB-B915-96FB1A43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FF3-B97E-4CE4-9E54-AA93A774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853-FB8B-4408-AC8A-4715C7FA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229-F3D9-48D2-9712-C2FE5D46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A85-2C53-4E4F-A1A5-D89C02AC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ADB-6220-4329-9FB7-18AFF973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6531-C4E5-423D-A30A-14BD1C23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22C-97B7-426C-A2C1-4CEE1D32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AAD8-959E-4B1A-B784-DF247E6582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9AF7-C417-4997-AC3D-21F2D2107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: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E379-A7B3-4408-8C54-98FD11468E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Complex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523880"/>
          <a:ext cx="8458200" cy="4486320"/>
        </p:xfrm>
        <a:graphic>
          <a:graphicData uri="http://schemas.openxmlformats.org/drawingml/2006/table">
            <a:tbl>
              <a:tblPr/>
              <a:tblGrid>
                <a:gridCol w="1897200"/>
                <a:gridCol w="6561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Jumping skis, made from composite materia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T PageSize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Category Format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Color Format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istPrice Format $9999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ItemMaterial Format A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Style Format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Category, Color, ItemMaterial, Style, 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item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WHERE Category='Ski' AND ItemMaterial='Composite' AND Style='Jum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   COLOR      ITEMMATERIAL    STYLE      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 --------------- ---------- 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Red        Composite       Jump         $223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Orange     Composite       Jump         $386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Blue       Composite       Jump         $229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Black      Composite       Jump         $41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Turquoise  Composite       Jump          $99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White      Composite       Jump         $14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20 rows tot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5984-FCE1-4430-88D2-C9C21F4A8C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600200"/>
            <a:ext cx="7239240" cy="4419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any existing SQL and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keywords SELECT, FROM, 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ategory, Color, ItemMaterial, Style, List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ItemModel as the table on the FROM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onditions: Category=’Ski’ And Style=’Jump’ And ItemMaterial=’Composite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 to ensure it 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nditions for Color=’Yellow’ and ListPrice&lt;3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61E-9961-4E9A-B139-3C0D1EF90B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 (continue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1600200"/>
            <a:ext cx="7391520" cy="17524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nditions for Color=’Red’ and ListPrice&lt;4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rrect parenthe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 and te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04B-B2DA-4DEE-91BA-C7A1D53A20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lor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05120"/>
          <a:ext cx="8305920" cy="3579840"/>
        </p:xfrm>
        <a:graphic>
          <a:graphicData uri="http://schemas.openxmlformats.org/drawingml/2006/table">
            <a:tbl>
              <a:tblPr/>
              <a:tblGrid>
                <a:gridCol w="1033200"/>
                <a:gridCol w="72727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Jumping skis, made from composite materia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d Yellow and ListPrice &lt; 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Category, Color, ItemMaterial, Style, List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item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Category='Ski' AND ItemMaterial='Composite' AND Style='Jump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AND Color='Yellow' AND ListPrice&lt;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   COLOR      ITEMMATERIAL    STYLE      LIST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 --------------- ---------- 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Yellow     Composite       Jump          $7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02C-7C0F-4497-B37C-37C827A933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ltiple Condi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336920"/>
        </p:xfrm>
        <a:graphic>
          <a:graphicData uri="http://schemas.openxmlformats.org/drawingml/2006/table">
            <a:tbl>
              <a:tblPr/>
              <a:tblGrid>
                <a:gridCol w="1073160"/>
                <a:gridCol w="71564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Jumping skis, made from composite materia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(Yellow And ListPrice &lt; 3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R (Red and ListPrice &lt; 4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Category, Color, ItemMaterial, Style, List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Item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Category='Ski' AND ItemMaterial='Composite' AND Style='Jump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AND (  (Color='Yellow' AND ListPrice&lt;3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OR    (Color='Red' AND ListPrice&lt;400)   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   COLOR      ITEMMATERIAL    STYLE      LIST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 --------------- ---------- 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Red        Composite       Jump         $22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Red        Composite       Jump         $29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Red        Composite       Jump         $137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Yellow     Composite       Jump          $7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501-07B4-4E61-9E8A-E40AFD835C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 Query: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8229600" cy="4579920"/>
        </p:xfrm>
        <a:graphic>
          <a:graphicData uri="http://schemas.openxmlformats.org/drawingml/2006/table">
            <a:tbl>
              <a:tblPr/>
              <a:tblGrid>
                <a:gridCol w="1260360"/>
                <a:gridCol w="6969240"/>
              </a:tblGrid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ist customers (ID) with sales in May who paid with Cas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PaymentMethod Format A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ELE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SaleID, SaleDate,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Customer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Payment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S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WHE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SaleDate Between '01-May-2006' AND '31-May-2006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D PaymentMethod='Cash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ALEID SALEDATE  CUSTOMERID PAYMENT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 ---------- ---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495 13-MAY-06        645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04 07-MAY-06       1309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56 02-MAY-06        314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76 10-MAY-06         69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AE4-B756-4BFF-9F02-570FD4A0CF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00200"/>
            <a:ext cx="7772400" cy="3962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a blank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SELECT, FROM, 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SaleID, SaleDate, CustomerID, and Payment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SaleDate between 01-May-2006 AND 31-May-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PaymentMethod to Ca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 to te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BE0-C61D-48F8-9CDC-556DF34E9B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 Tables: Sale + Custom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80880" y="1523880"/>
          <a:ext cx="8458200" cy="4835520"/>
        </p:xfrm>
        <a:graphic>
          <a:graphicData uri="http://schemas.openxmlformats.org/drawingml/2006/table">
            <a:tbl>
              <a:tblPr/>
              <a:tblGrid>
                <a:gridCol w="1038600"/>
                <a:gridCol w="74196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ist customers (ID) with sales in May who paid with Cas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PaymentMethod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astName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FirstName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aleID, SaleDate,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ale.CustomerI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LastName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FirstName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mtMeth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FROM S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INNER JOIN Customer ON Sale.CustomerID = Customer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SaleDate Between '01-May-2006' AND '31-May-2006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D PaymentMethod='Cash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ALEID SALEDATE  CUSTOMERID LASTNAME   FIRSTNAME    PMTMETH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 ---------- ---------- ------------ 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495 13-MAY-06        645 Alexander  Marvin       C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04 07-MAY-06       1309 Pratt      Adrian       C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56 02-MAY-06        314 Rich       Manuel       C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76 10-MAY-06         69 Forbes     Horace       C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BD7-D27C-4D7B-AA14-C3BE1E80E7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1752480"/>
            <a:ext cx="7848720" cy="3276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 the INNER JOIN line after FROM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 the Customer tab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 the join condition: ON Sale.CustomerID = Customer.CustomerI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nge to Sale.CustomerID on the SELECT stat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 Customer LastName and FirstName to the SELECT stat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un the query to test 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831-6DB9-4F46-A3DC-41A532EAD3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uilding a more complex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523880"/>
            <a:ext cx="6553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ustomers bought Atomic skis in January or Februa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14400" y="2128680"/>
          <a:ext cx="6933960" cy="1699920"/>
        </p:xfrm>
        <a:graphic>
          <a:graphicData uri="http://schemas.openxmlformats.org/drawingml/2006/table">
            <a:tbl>
              <a:tblPr/>
              <a:tblGrid>
                <a:gridCol w="3112920"/>
                <a:gridCol w="382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want to se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names, Sale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know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facturer name, SaleDate range, Category is 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tables are involv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are they join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… Sale … ItemModel, 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914400" y="41860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, FirstName,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, …, Sale, …, ItemModel,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Manufacturer.Name=‘Atomic”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ale.SaleDate BETWEEN ‘01-Jan-2004’ AND ‘29-Feb-2004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emModel.Category = ‘Sk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49760" y="2286000"/>
            <a:ext cx="2934000" cy="2073240"/>
          </a:xfrm>
          <a:custGeom>
            <a:avLst/>
            <a:gdLst/>
            <a:ahLst/>
            <a:rect l="l" t="t" r="r" b="b"/>
            <a:pathLst>
              <a:path w="1848" h="1306">
                <a:moveTo>
                  <a:pt x="968" y="0"/>
                </a:moveTo>
                <a:cubicBezTo>
                  <a:pt x="1088" y="79"/>
                  <a:pt x="1588" y="308"/>
                  <a:pt x="1688" y="476"/>
                </a:cubicBezTo>
                <a:cubicBezTo>
                  <a:pt x="1788" y="644"/>
                  <a:pt x="1848" y="873"/>
                  <a:pt x="1567" y="1011"/>
                </a:cubicBezTo>
                <a:cubicBezTo>
                  <a:pt x="1286" y="1149"/>
                  <a:pt x="326" y="1245"/>
                  <a:pt x="0" y="13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819520"/>
            <a:ext cx="2298960" cy="2361960"/>
          </a:xfrm>
          <a:custGeom>
            <a:avLst/>
            <a:gdLst/>
            <a:ahLst/>
            <a:rect l="l" t="t" r="r" b="b"/>
            <a:pathLst>
              <a:path w="1448" h="1488">
                <a:moveTo>
                  <a:pt x="672" y="0"/>
                </a:moveTo>
                <a:cubicBezTo>
                  <a:pt x="908" y="136"/>
                  <a:pt x="1153" y="266"/>
                  <a:pt x="1248" y="432"/>
                </a:cubicBezTo>
                <a:cubicBezTo>
                  <a:pt x="1343" y="598"/>
                  <a:pt x="1448" y="821"/>
                  <a:pt x="1240" y="997"/>
                </a:cubicBezTo>
                <a:cubicBezTo>
                  <a:pt x="1032" y="1173"/>
                  <a:pt x="258" y="1386"/>
                  <a:pt x="0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46B-8CD6-4692-A70C-2D2E5C64AF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mar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010280" cy="47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46F-0402-4C2F-80AF-D561611952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: Man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523880"/>
          <a:ext cx="8229600" cy="5069160"/>
        </p:xfrm>
        <a:graphic>
          <a:graphicData uri="http://schemas.openxmlformats.org/drawingml/2006/table">
            <a:tbl>
              <a:tblPr/>
              <a:tblGrid>
                <a:gridCol w="1073160"/>
                <a:gridCol w="715644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ich customers bought Atomic skis in January or February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astName Format A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LastName, FirstName, ItemModel.Category, Name, Sale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FROM Manufacturer INNER JOIN ItemMode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ON Manufacturer.ManufacturerID = ItemModel.Manufactur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Invent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N ItemModel.ModelID = Inventory.Model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N Inventory.SKU = SaleItem.S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N SaleItem.SaleID = Sale.Sale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Custo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N Sale.CustomerID = Customer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ItemModel.Category = 'Ski' AND Name='Atomic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D SaleDate BETWEEN '01-Jan-2006' AND '28-Feb-2006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NAME   FIRSTNAME  CATEGORY   NAME       SALE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 ---------- ---------- 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tterson  Gene       Ski        Atomic     15-FEB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honey    Francis    Ski        Atomic     23-JAN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39B4-17FA-4ACB-B71B-FCBEFC8975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lder JOIN Meth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1447920"/>
          <a:ext cx="8382240" cy="4525920"/>
        </p:xfrm>
        <a:graphic>
          <a:graphicData uri="http://schemas.openxmlformats.org/drawingml/2006/table">
            <a:tbl>
              <a:tblPr/>
              <a:tblGrid>
                <a:gridCol w="1002600"/>
                <a:gridCol w="737964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ist customers (ID) with sales in May paid with Cash. (Older syntax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PaymentMethod Format A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atName Format A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FirstName Format A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aleID, SaleDate, Sale.CustomerID, LastName, FirstName, PaymentMeth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FROM Sale, Custo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WHERE Sale.CustomerID = Customer.Custome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D SaleDate BETWEEN '01-May-2006' AND '31-May-2006'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D PaymentMethod='Cash'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ALEID SALEDATE  CUSTOMERID LASTNAME   FIRSTNAME    PAYMENTMETH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 ---------- ---------- ------------ -----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495 13-MAY-06        645 Alexander  Marvin       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04 07-MAY-06       1309 Pratt      Adrian       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56 02-MAY-06        314 Rich       Manuel       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76 10-MAY-06         69 Forbes     Horace       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05C-3C00-43A6-A18E-D115B66058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lcul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504800"/>
          <a:ext cx="8229600" cy="4514760"/>
        </p:xfrm>
        <a:graphic>
          <a:graphicData uri="http://schemas.openxmlformats.org/drawingml/2006/table">
            <a:tbl>
              <a:tblPr/>
              <a:tblGrid>
                <a:gridCol w="1073160"/>
                <a:gridCol w="715644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mpute the profit (Price - Cost) for items with price greater than $57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Category Format A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ItemMaterial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istPrice Format $9999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Profit Format $9999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ELE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Category, ItemMaterial, ListPrice,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ListPrice-Cost As 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Item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(ListPrice &gt; 57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RDER BY Category, ListPrice DESC;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     ITEMMATERIAL    LISTPRICE 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 --------------- ---------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Wood              $649.00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$227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Wood              $647.00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$226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Wood              $646.00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$226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Wood              $644.00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$225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Fiberglass        $642.00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$224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9C3-A68E-4BBA-BED6-7956766684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523880"/>
            <a:ext cx="7696440" cy="4267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 using only the ItemModel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ELECT row, add a new pseudo column to compute ListPrice-Cost As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ORDER BY line to sort by Category and List Price desce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HERE clause to limit the number of rows returned in SQL 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19BB-F4BC-4E73-9AF4-6C0E5AED10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mon Func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447920"/>
            <a:ext cx="7315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ow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/number of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ub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leading and trailing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pp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_MONT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days, months, years to a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S_BETW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two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_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detailed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_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at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ine, all common tri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 drop decima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1CD-BDD4-4617-93FB-0A82A40344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at Dates: TO_CH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1571760"/>
          <a:ext cx="8534520" cy="4525920"/>
        </p:xfrm>
        <a:graphic>
          <a:graphicData uri="http://schemas.openxmlformats.org/drawingml/2006/table">
            <a:tbl>
              <a:tblPr/>
              <a:tblGrid>
                <a:gridCol w="1113120"/>
                <a:gridCol w="742140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nvert sale date into the year and mont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aleID, SaleDate,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TO_CHAR(SaleDate, 'yyyy-mm') AS Sale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S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rownum &lt;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3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ALEID SALEDATE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SALE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1 19-NOV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006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2 26-NOV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006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3 13-JUL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006-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4 20-APR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006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5 07-NOV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006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6 18-AUG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006-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7 16-JUN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006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2F1-5B85-4230-B67D-325033C386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 Days and ADD_MONTH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09480" y="1495440"/>
          <a:ext cx="7855200" cy="4753080"/>
        </p:xfrm>
        <a:graphic>
          <a:graphicData uri="http://schemas.openxmlformats.org/drawingml/2006/table">
            <a:tbl>
              <a:tblPr/>
              <a:tblGrid>
                <a:gridCol w="1030320"/>
                <a:gridCol w="68248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mpare date calculations by day and month arithmeti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aleID, SaleDate,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aleDate+30 As LateDa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ADD_MONTHS(SaleDate,1) As Late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S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rownum &lt;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7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ALEID SALEDATE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LATEDATE  LATE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--------- 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1 19-NOV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19-DEC-06 19-DEC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2 26-NOV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6-DEC-06 26-DEC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3 13-JUL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12-AUG-06 13-AUG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4 20-APR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0-MAY-06 20-MAY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5 07-NOV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07-DEC-06 07-DEC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6 18-AUG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17-SEP-06 18-SEP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7 16-JUN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16-JUL-06 16-JUL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8 08-JUN-06 </a:t>
                      </a:r>
                      <a:r>
                        <a:rPr b="0" lang="es-ES_tradnl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08-JUL-06 08-JUL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935-085D-42E4-8CD7-60869EAB6F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1981080"/>
            <a:ext cx="5410080" cy="3657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aleID and Sale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30 days to the SaleDate to get Late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D_MONTHS to add one month to the SaleDate to get Sale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BF4-9776-4015-A84A-824498D0F6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: S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62120" y="1676520"/>
          <a:ext cx="7009920" cy="3961440"/>
        </p:xfrm>
        <a:graphic>
          <a:graphicData uri="http://schemas.openxmlformats.org/drawingml/2006/table">
            <a:tbl>
              <a:tblPr/>
              <a:tblGrid>
                <a:gridCol w="1336680"/>
                <a:gridCol w="5673240"/>
              </a:tblGrid>
              <a:tr h="89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mpute the sales tax total for Californi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um(SalesTax) AS SumOfSales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S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ShipState='CA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MOFSALES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33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528-1E51-4235-A338-47E611A5B5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1523880"/>
            <a:ext cx="6019560" cy="4648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hipState and Sales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ShipState = ‘CA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he correct states are displa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ShipState from SEL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um(SalesTax) AS SumOfSales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A24-8482-42D3-BE9E-35E9A8AC79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981080"/>
            <a:ext cx="5486400" cy="3657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files from BuildAllPow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or rename conflicting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directory name to point to the CSV files in BuldAllPowderOracle.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SQL Plus (not the workshe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@BuildAllPowderOracle.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a few minutes for the data to l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813-DD99-4C3F-9407-703E7915FA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UP BY: Sum For Each Stat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90720" y="1600200"/>
          <a:ext cx="7162560" cy="4183200"/>
        </p:xfrm>
        <a:graphic>
          <a:graphicData uri="http://schemas.openxmlformats.org/drawingml/2006/table">
            <a:tbl>
              <a:tblPr/>
              <a:tblGrid>
                <a:gridCol w="1193760"/>
                <a:gridCol w="5968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mpute the sales tax total for each sta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ShipState Format A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hipState, Sum(SalesTax) AS SumOfSales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S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GROUP BY Ship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IPSTATE  SUMOFSALES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K               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                784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R                313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Z                51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               533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                347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T                254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other states not shown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AC1-977C-4810-A6FF-E72CEA98E6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1981080"/>
            <a:ext cx="5029200" cy="3353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lumns: ShipState and Sum(SalesTax) AS SumOfSales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row at the bottom: GROUP BY Ship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27F-DD40-4B5A-85E1-BCDFBA4622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tal Sales Value in Color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1600200"/>
          <a:ext cx="7924680" cy="4525200"/>
        </p:xfrm>
        <a:graphic>
          <a:graphicData uri="http://schemas.openxmlformats.org/drawingml/2006/table">
            <a:tbl>
              <a:tblPr/>
              <a:tblGrid>
                <a:gridCol w="1251360"/>
                <a:gridCol w="667332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mpute the total value of all sales to Colora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um(QuantitySold*SalePrice) As Sale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S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Item ON Sale.SaleID = SaleItem.Sal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Sale.ShipState='CO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ALE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9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E5E-657B-4734-A4FC-7E9C3F8141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VIEW—Save a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590920"/>
            <a:ext cx="784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ColoradoSale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um(QuantitySold*SalePrice) AS Sale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 INNER JOIN SaleItem ON Sale.SaleID = 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hipState=’C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7FC-4447-4BB5-A342-D41ACDD9B5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le/Get External Data/Im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447920"/>
            <a:ext cx="4114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QL&gt; @D:\Books\BuildAllPowderCh04.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rting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ble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ding Employee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ding Manufacturer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ding ItemModel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ding SaleItem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ding Rental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alyzing Data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is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9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row s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219320"/>
            <a:ext cx="44956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QL&gt; SELECT table_name FROM user_t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  WHERE table_name Not Like 'BIN%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  ORDER BY table_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BLE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OMERSK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VEN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EM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EM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UFACTU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YMENT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DUCT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NT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ALE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KIBOARD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KILL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6 rows s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4A6-43E8-41E7-BF82-0C845A6358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rting a Query: SQL Workshee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1514520"/>
            <a:ext cx="6586560" cy="4429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33920" y="303840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QL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74640" y="540072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098880" y="49431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26700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cu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809800"/>
            <a:ext cx="15242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 commands/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523880" y="364824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209680" y="2962080"/>
            <a:ext cx="1524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250524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5F4-CE14-4741-8479-424884B052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676520"/>
            <a:ext cx="777240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QL Plus, enter the column commands to format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ategory, ListPrice, WeightMax, Color,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Category=’Boar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ListPrice&lt;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eightMax&gt;15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590E-B8E4-4ED6-ACD3-FB7254028E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mple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436760"/>
          <a:ext cx="8229600" cy="4711680"/>
        </p:xfrm>
        <a:graphic>
          <a:graphicData uri="http://schemas.openxmlformats.org/drawingml/2006/table">
            <a:tbl>
              <a:tblPr/>
              <a:tblGrid>
                <a:gridCol w="1244520"/>
                <a:gridCol w="6985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isplay snowboards with a list price under $300 and max weight over 150 pound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Category Format A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Color Format A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Graphics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ELE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Category, ListPrice, WeightMax, Color, Graph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FROM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Item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WHE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Category=‘Board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D ListPrice &lt; 300 AND WeightMax &gt; 15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Res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    LISTPRICE  WEIGHTMAX COLOR      GRAPH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 ---------- ---------- 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     292        188 Orange     F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     263        181 Magenta    Geometr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     262        179 Purple    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     290        194 Blue       Abstr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     294        158 Red        Sunr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     270        191 Yellow     Landsca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65F-B4CF-4D9A-A586-D742265EA8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2057400"/>
            <a:ext cx="647712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format statements above the SELECT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 Category Format A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 ListPrice Format $9999.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9C8-E07A-4418-81DB-34D2629E55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atting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443560" cy="470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029200" y="281952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 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05520" y="2209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24080" y="2895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428640" y="289548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59E-D825-4447-89F2-0996CFC2D2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0T20:24:28Z</dcterms:modified>
  <cp:revision>45</cp:revision>
  <dc:subject/>
  <dc:title>All Powder Board and Ski</dc:title>
</cp:coreProperties>
</file>