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402-B937-47CC-B645-2F2E956C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2F4-E186-42BC-99AD-E8F577C5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307-A56A-444F-A3D9-2F95ADA5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31-D2E4-4275-AD6B-0E12EC4B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61F9-2522-4EF2-98AE-DDFEC99B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100-3F54-44B4-922D-5AE19D2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4A98-31A8-4103-AE19-9EC5137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F89D-0B5F-4C81-AE33-50A08F0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41E5-EB8B-4CF2-8719-FAD11BC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059B-B87C-4062-9B75-B8DBB2F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18F-9FF2-40CD-AC25-E41BD38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213-1C6B-4C7B-B65F-DB17FA6C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665D-ED8F-45DA-A7A4-DC3AB17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71F-0F99-485B-B7F7-C03C1AE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9DBC-E12D-4085-8B9F-DEA0BB34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96C-8737-46AB-AA99-3F47A1B4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C8A-F27F-45F5-A024-2DC82895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252-A9DC-4961-A3E5-B24B7F5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B91-6BFF-44A4-9EF1-316692EF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A9B-4D49-4347-BAC3-81811BB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574-A35B-4FB7-B0DD-57505D73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EE8-FE22-4FC7-8464-D44EF8E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A25-3598-4834-9F8C-DE2D5CE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317-0A84-4FAF-BFF4-4913E35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E17-859C-4BD9-893D-3F98EF713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354-A5D0-4939-96CD-EA44A3279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2E69-F410-4B05-9D78-A347174DCF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2400" cy="426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7EF-3DF8-4C08-8C32-5C059B80B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057400"/>
            <a:ext cx="66294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1B1-5385-4627-8AEE-5D96957EF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2152800"/>
            <a:ext cx="3000600" cy="3257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172-392D-4AA2-A0C8-CACC373A5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362320"/>
            <a:ext cx="67057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BE6-E484-46E8-BB93-515CE36BF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800600" cy="4403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2670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05740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2004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1911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809880" y="3809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1814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 message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EA9-7547-46A9-B150-21D77DBBD1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67F-80AD-4D00-BF26-D18B18BEE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052-A511-4947-ACBC-010D5A2D58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057400"/>
            <a:ext cx="426708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F05-7388-489F-9431-1D7EEE359B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15200" cy="35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602-2280-49B3-8E54-14436DB88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CF6-3203-44AA-8470-2851D9E678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54A-E5D6-49D1-8805-CD509014A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E93-6C4D-4A17-90BF-77F735AAFE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723440" cy="4795920"/>
        </p:xfrm>
        <a:graphic>
          <a:graphicData uri="http://schemas.openxmlformats.org/drawingml/2006/table">
            <a:tbl>
              <a:tblPr/>
              <a:tblGrid>
                <a:gridCol w="1712880"/>
                <a:gridCol w="2438640"/>
                <a:gridCol w="2685960"/>
                <a:gridCol w="8859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/Uni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 or N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CHA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p,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p,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: 1...38,  s: -84...1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, TIMESTA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 YEAR/MON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-4712 to 12/31/9999 (se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1/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RAW or BLO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, 4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28600" y="632376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N.Oracle.com, SQL Reference book, search for Oracle Built-in Data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93F-5BA9-45BC-A3DD-DC1CF5FCC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8DC-0F67-45EB-BAD7-8ABC5FB19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461-9449-4D90-9F56-F670072BE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514600"/>
            <a:ext cx="5334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5A1-7653-473F-B0B3-2D5C646D5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382752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9C8-95E5-4546-872D-B1A023BBB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71340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33526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403848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 provided by your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190760" y="358128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66536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country or state to reduce the search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8195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05320" y="2971800"/>
            <a:ext cx="2133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505320" y="2209680"/>
            <a:ext cx="2133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14600" y="426672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BB4-4F21-4506-8BEA-8F9E0A889F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286000"/>
            <a:ext cx="487656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63F-ED6A-452F-8CEA-F9649CF929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2:08:49Z</dcterms:modified>
  <cp:revision>19</cp:revision>
  <dc:subject/>
  <dc:title>All Powder Board and Ski</dc:title>
</cp:coreProperties>
</file>