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322-483A-4933-90C4-CB145075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663-542C-4152-A25C-22673172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1A0-2518-4DDF-B7C5-041C40D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875-18E1-4799-B3AC-DE859920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2C7-F29C-46AA-80E9-9D6A921F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ADE-2013-488F-98B2-45F99DA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4B31-267E-48D7-B6A9-1CDE565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3787-98C1-4419-B6D7-70F9D106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CA54-31A6-4BD4-8F8D-FC70790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E068-2909-45F0-845B-3B974573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C268-35E1-410B-B4FA-5535544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E01-7B37-41B1-A499-9FF18A3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2CE8-8DC0-4BFA-9F14-37B6289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4338-5C3E-4163-B2BA-A8A8E44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B58F-51BF-4793-8CC2-3A05C20B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E44A-3922-473A-9B40-D917FD85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8D57-1FBF-4E05-A84D-9AF32077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349-4E04-4240-8A77-9630DEE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52A-60BF-4262-A462-24A604C1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1E1-8909-47EC-8D19-E626244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172-81EA-493A-B918-E6DB3F52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372-4113-49EF-85F2-F0B7FC9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8C7-2948-4195-AB5A-D1ECE8B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782-33E6-49E4-901F-371A288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7930-37E2-466D-8A6F-5D7E274C7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BB92-672C-4C0D-9612-480E64BD9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lust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1752480"/>
          <a:ext cx="6095880" cy="1904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CLUSTER Item_SaleItem (SaleID INTE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SPACE ts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Clust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66680" y="1413000"/>
          <a:ext cx="6782040" cy="475920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7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Sal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Da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lum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Sale PRIMARY KEY (SaleID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USTER Sale_SaleItem (SaleID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SaleIte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lum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SaleItem PRIMARY KEY (SaleID, SKU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USTER Sale_SaleItem (SaleID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luster Ind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676520"/>
          <a:ext cx="4952880" cy="152316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152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INDEX Sale_SaleItem_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 CLUSTER Sale_Sale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SPACE t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752480"/>
            <a:ext cx="57150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cluster based on the Sal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ew SaleC table that uses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ew SaleItemC table that uses the sam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index for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some rows into the two new tables and see if there is a dif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Table to Hash Clust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90720" y="1600200"/>
          <a:ext cx="7086240" cy="3580920"/>
        </p:xfrm>
        <a:graphic>
          <a:graphicData uri="http://schemas.openxmlformats.org/drawingml/2006/table">
            <a:tbl>
              <a:tblPr/>
              <a:tblGrid>
                <a:gridCol w="7086240"/>
              </a:tblGrid>
              <a:tr h="358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CLUSTER Inventory_hash (SKU NVARCHAR2(50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32 SINGLE TABLE HASHKEYS 5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Inventory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20,2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OnH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Inventory PRIMARY KEY (SKU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fk constr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USTER Inventory_hash (SKU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057400"/>
            <a:ext cx="563868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hashed cluster for the single Inventory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new Inventory table and assign it to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into the ne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ome queries using exact key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ome queries with inequa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spaces and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981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981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lb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o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Bloc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300400"/>
            <a:ext cx="5715000" cy="26524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280" y="153828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ed size, typically 4K or 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1320" y="51195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3004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3004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300400"/>
            <a:ext cx="190476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8335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8335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833560"/>
            <a:ext cx="190476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36708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36708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367080"/>
            <a:ext cx="190476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9006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39006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900600"/>
            <a:ext cx="190476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4337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4337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433760"/>
            <a:ext cx="190476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733560" y="214776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43376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4320" y="51814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TFREE: reserved fo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300400"/>
            <a:ext cx="914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00400"/>
            <a:ext cx="15228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300400"/>
            <a:ext cx="15264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240" y="1766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300400"/>
            <a:ext cx="57150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94440" y="226044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 of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2300400"/>
            <a:ext cx="5715000" cy="1600200"/>
          </a:xfrm>
          <a:prstGeom prst="rect">
            <a:avLst/>
          </a:prstGeom>
          <a:gradFill rotWithShape="0">
            <a:gsLst>
              <a:gs pos="0">
                <a:srgbClr val="99ccff">
                  <a:alpha val="17254"/>
                </a:srgbClr>
              </a:gs>
              <a:gs pos="100000">
                <a:srgbClr val="465e75">
                  <a:alpha val="1607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553080" y="25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94440" y="382428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: Collection of related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477120" y="39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9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433760"/>
            <a:ext cx="15264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419720"/>
            <a:ext cx="2286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911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TFREE Set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3673080"/>
                <a:gridCol w="42512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DATE statements that tend to increase row si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 size is const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st activity is insert or read on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nge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43000" y="1523880"/>
          <a:ext cx="6629400" cy="449100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… more columns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… constraints 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BY RANGE (Model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OldModels VALUES LESS THAN (’01-JAN-/2001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Model01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RecentModels VALUES LESS THAN (’01-JAN-2006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Model02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NewModels VALUES LESS THAN (’01-JAN-2100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Model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pa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2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SMALLFILE TABLESPACE "MODEL0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ILE 'D:\ORACLE\PRODUCT\10.2.0\ORADATA\POSTDB\Model01' SIZE 10M AUTOEXTEND ON NEXT 5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SIZE UNLIM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GING EXTE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EGMENT SPACE MANAGEMENT A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752480"/>
            <a:ext cx="51051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three Model0# tablesp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new ItemModel2 table with range part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the existing data into the new table and check the tablespace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USER_PART_TABLES view to test your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st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7920" y="1420920"/>
          <a:ext cx="6324480" cy="4735440"/>
        </p:xfrm>
        <a:graphic>
          <a:graphicData uri="http://schemas.openxmlformats.org/drawingml/2006/table">
            <a:tbl>
              <a:tblPr/>
              <a:tblGrid>
                <a:gridCol w="6324480"/>
              </a:tblGrid>
              <a:tr h="47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lum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Customer PRIMARY KEY (CustomerID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BY LIST (St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WestSales VALUES (‘CA’, ‘HI’, ‘OR’, ‘AZ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West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EastSales VALUES (‘RI’, ’CT’, ’NY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East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SouthSales VALUES (‘FL’, ’GA’, ‘LA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South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MidSales VALUES (‘WI’, ‘MI’, ‘MN’,’OH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ash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600200"/>
          <a:ext cx="6933960" cy="350496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350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yee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Na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Na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Employee PRIMARY KEY (EmployeeI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BY HASH (Employee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S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TORE IN (tsEmp1, tsEmp2, tsEmp3, tsEmp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5:54:17Z</dcterms:modified>
  <cp:revision>11</cp:revision>
  <dc:subject/>
  <dc:title>All Powder Board and Ski</dc:title>
</cp:coreProperties>
</file>