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ECE-F8A2-4CBE-B1F5-C05D1539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597-791B-49F0-B5CC-B2C0A69D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B14-C063-48ED-965B-0EFEA0E9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3E1-3929-4498-A6FC-5491D05C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F777-C4AE-404D-86C7-2AE338D5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E68C-A144-42EF-9F17-3D367CC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5FC-C4B2-48C5-9B1E-82659B12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B09D-4A84-4421-91C6-9E866685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7CE5-BCD1-47BD-9CC3-9B2F90B3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FACF-3D37-4804-9782-57C2013E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D74F-99F6-4C3D-A102-680117C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128-3CBB-436E-A2B9-CAF0FDBF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D377-6794-4078-9F74-62112CA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B176-B00A-4F2F-AEBA-DE2FBB5B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7744-F4E2-47F8-9315-111322F4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94AD-D106-43E3-91F1-A4891B24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1DAC-B1D4-4E79-BC68-BF943CB9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506-133F-433E-8038-CE420E0F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8BE-F9A5-45C6-BB21-2537C50E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0F3-92DF-44F5-855D-BFDB98A2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F0B-1C69-4A08-A1BC-93969D69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77A-1C94-4313-B864-D768546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47A-F943-4586-B0E0-21236F45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21B-DC32-4D70-AFF6-20DA28B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9E0A-3B2F-4686-B0F9-49DAFFB7B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599D-9878-41EA-9DD4-0D05FEDF1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ai.oracle.com/" TargetMode="External"/><Relationship Id="rId2" Type="http://schemas.openxmlformats.org/officeDocument/2006/relationships/hyperlink" Target="http://oai.oracle.com/" TargetMode="External"/><Relationship Id="rId3" Type="http://schemas.openxmlformats.org/officeDocument/2006/relationships/hyperlink" Target="http://otn.oracle.com/" TargetMode="External"/><Relationship Id="rId4" Type="http://schemas.openxmlformats.org/officeDocument/2006/relationships/hyperlink" Target="http://otn.oracle.com/" TargetMode="External"/><Relationship Id="rId5" Type="http://schemas.openxmlformats.org/officeDocument/2006/relationships/hyperlink" Target="http://otn.oracle.com/documentation/content.html" TargetMode="External"/><Relationship Id="rId6" Type="http://schemas.openxmlformats.org/officeDocument/2006/relationships/hyperlink" Target="http://otn.oracle.com/documentation/content.html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00200"/>
          <a:ext cx="7925040" cy="401940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iscoun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life/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MS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346040"/>
          <a:ext cx="7925040" cy="535932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grades/an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ntor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wer cle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d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1080" y="2133720"/>
            <a:ext cx="4953240" cy="1218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feasibility plan for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M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academic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oai.orac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technolog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otn.orac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documentation—requires OT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otn.oracle.com/documentation/cont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g 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212400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250344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2762280" cy="3048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9720" y="14479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*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4640" y="5791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*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9440" y="579132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ervername:5560/isql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3480" y="502920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ervername:1157/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7200" y="1447920"/>
            <a:ext cx="36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anager (Admin righ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terprise Manag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4419360" cy="419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867280" y="1905120"/>
            <a:ext cx="2362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to create users and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dministrator per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able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9436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752480"/>
            <a:ext cx="5410080" cy="3733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enterprise manager cons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atabase and log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open your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on tables, select Creat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lumn names and data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onstraint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PK_CUSTOMER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ustome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ustomerID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reate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cribe a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32860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Constraints and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362320"/>
            <a:ext cx="4343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"POWDER"."CUSTOMER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USTOMERID" NUMBER(10) NOT NUL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LASTNAME" VARCHAR2(25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FIRSTNAME" VARCHAR2(25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PHONE" VARCHAR2(20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ADDRESS" VARCHAR2(50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ITY" VARCHAR2(35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STATE" VARCHAR2(20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ZIPCODE" VARCHAR2(2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 "PK_CUSTOMER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KEY("CUSTOMERI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7925040" cy="4491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wbo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sk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tr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wnhill/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2057400"/>
            <a:ext cx="3352680" cy="1752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the tabl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View/Edit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sampl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Apply butto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Data into a Table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78168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2057400"/>
            <a:ext cx="434340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forms bui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ools/Data block wiz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ustome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ll of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efault layout ch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ll columns for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 Design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19051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lock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 on the server and Program/Compil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18148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1789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: On the ser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ust either run full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nu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C4J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572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oots and Bi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36232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ot-Binding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fg.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ard/S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/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3200400"/>
          <a:ext cx="1752480" cy="15843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7925040" cy="4329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/Us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925040" cy="4437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nta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Ret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Da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ed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752480"/>
            <a:ext cx="7391520" cy="3429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information about skis and snowboards on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install and upgrade the DB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00200"/>
          <a:ext cx="7924320" cy="4419000"/>
        </p:xfrm>
        <a:graphic>
          <a:graphicData uri="http://schemas.openxmlformats.org/drawingml/2006/table">
            <a:tbl>
              <a:tblPr/>
              <a:tblGrid>
                <a:gridCol w="7924320"/>
              </a:tblGrid>
              <a:tr h="44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Title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s System for Boards and Sk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ll Powder Board and Ski Sho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Contact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Ka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oal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Description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Form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Report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ead Develop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Time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Cos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e Prepared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5040" cy="4489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the project and obtain approv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alyze the user needs and identify all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Desig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termine the tables and relationship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he tables and load basic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queries needed for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uild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ransaction elemen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security and access control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dditional 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data warehouse to analyze data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andle distributed database elements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Implemen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and load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rain user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oad testin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revi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09680"/>
            <a:ext cx="4876560" cy="1143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project milestone dates based on your school cale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1T17:04:50Z</dcterms:modified>
  <cp:revision>11</cp:revision>
  <dc:subject/>
  <dc:title>All Powder Board and Ski</dc:title>
</cp:coreProperties>
</file>