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201A-CB20-4D5A-A762-E016EA74F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BEEF-0B68-47E6-8A9D-5A7DAC766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EB9A-25B3-4745-A05D-8ED5D854E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1FDC-E5EF-406D-9174-A138BF8FB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A0453-36A2-4D94-B4D6-7C5438545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31CA6-1831-4ED3-97A4-C701BC7B4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A0811-E182-4C52-A902-839E43050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079F6-3E4E-412A-A8BA-196EE0966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73762-ED90-4934-B5E7-612D0AF21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2ACCB-CA91-411C-882F-535D4574F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F609A-EF11-4A07-B95A-3D3F2D46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7E03-2B69-4DE4-ACAD-53C8441A6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AEA84-33E8-44B3-9611-AFFA2643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1BE7F-C7AB-48CF-B5BD-0E45F7A9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D2D72-DC24-404B-8649-056705E13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4F1AB-DC77-4435-8CD8-AD32209C7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B370B-FA78-4765-BD94-58A05F1B7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E81C-4E86-483B-977C-B543EE2E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C787-5796-4D37-B1EF-88C8594E3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164F-FDC0-45D7-B00A-34B978625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A523-9461-4B2E-9881-188C6690A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B2F8-FF7B-4F52-B748-F341DF76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E38B-1444-40AE-9CD7-29B1D907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1EC7-635B-417E-A7DF-FE286742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51A81-FE4A-4EC7-8AC3-1252B4E6A6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A792F-3CD1-44EC-A55D-CBA0A537F9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otn.oracle.com/software/tech/java/help/htdocs/utilsoft.htm" TargetMode="External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ll Powder Board and Ski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acle 10g Work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8: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rry P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©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60BF6-0A36-4864-81B6-B9A87CDBC40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Open Oracle Reports from Form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2286000"/>
            <a:ext cx="1676160" cy="1739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really need Oracle AS to link the reports server to the forms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144792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In PRE-FORM trigg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GLOBAL.ReportServerURL := 'http://postlt:8889/reports/rwservlet'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GLOBAL.ReportFormat := 'desformat=PDF'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GLOBAL.DatabaseServer := 'postdb'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In the report button trigg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L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CHAR2(20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L := :GLOBAL.ReportServerU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| '?destype=cache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| '&amp;' || :GLOBAL.Report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| '&amp;report=' || :GLOBAL.ApplicationPath || 'CustomerSales.jsp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| '&amp;userid=@' || :GLOBAL.DatabaseServ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.Show_Document(sURL, '_blank')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B4FD-D28F-4229-B77B-7BC7ACC866A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90720" y="1600200"/>
            <a:ext cx="7162560" cy="27432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object navigator create a new entry in the Menus section and rename it (CustomerMenu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newly created Menus subsection, create a new entry and rename it Custom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object navigator, in the same Menus sublist, add a new item and rename it CustomerSu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ble-click the icon to open the Menu Edi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entries for AAMain, Customers, Close, and Hel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B8ED-85FB-4212-96D6-E056FCD4D79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828800" y="1600200"/>
            <a:ext cx="5991120" cy="44197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ing Menu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1752480"/>
            <a:ext cx="12952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menu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00200" y="205740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" y="2895480"/>
            <a:ext cx="13716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me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00200" y="3124080"/>
            <a:ext cx="8380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600200" y="3047760"/>
            <a:ext cx="8380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3581280"/>
            <a:ext cx="13716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menu i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600200" y="350532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1600200" y="2590920"/>
            <a:ext cx="22860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" y="4495680"/>
            <a:ext cx="13716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item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1600200" y="4724280"/>
            <a:ext cx="17524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00200" y="48769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4800600"/>
            <a:ext cx="13716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action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5028840" y="4876560"/>
            <a:ext cx="7621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5486040" y="4495680"/>
            <a:ext cx="3049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791320" y="2819520"/>
            <a:ext cx="13716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4952520" y="2666520"/>
            <a:ext cx="8384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4571640" y="3048120"/>
            <a:ext cx="121932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110C-BB0B-48B9-A554-CB9DE21CE00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90720" y="1600200"/>
            <a:ext cx="7162560" cy="27432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item, set the Command Type (PL/SQL or Menu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Command Text code, such as Open_Form(‘Name’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he Customers item, set the Submenu to CustomerSu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 CustomerSub to open the Customer and Sale forms and print the two repo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and compile the menus (Program/Compile Modu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file name to the Customer form Menu Module proper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ile and test the form and men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CE32-D66D-497B-A2A5-84872D5C84B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ustom Menu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629400" cy="47019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5943600" y="2898720"/>
            <a:ext cx="152388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ve and compile the menu fi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57800" y="4194000"/>
            <a:ext cx="220968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the Replace_Menu comand to activate the men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1208-EEA6-4349-98C2-A8B11EBE470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TML Hel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3807360"/>
            <a:ext cx="1600200" cy="1620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1752480"/>
            <a:ext cx="3381480" cy="1676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p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lpset: AllPowderHelp.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.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.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C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c.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.id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95880" y="2116800"/>
            <a:ext cx="914400" cy="642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ML Top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95880" y="3204360"/>
            <a:ext cx="914400" cy="642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ML Top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95880" y="4271040"/>
            <a:ext cx="914400" cy="642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ML Top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315200" y="2116800"/>
            <a:ext cx="914400" cy="642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ML Top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315200" y="3204360"/>
            <a:ext cx="914400" cy="642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ML Top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315200" y="4271040"/>
            <a:ext cx="914400" cy="642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ML To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4572000"/>
            <a:ext cx="3124080" cy="156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p menu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.Show_Doc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‘http://company.com:8888/ohw/help/?topic=Customer.html’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50240" y="3205080"/>
            <a:ext cx="115776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Topic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Topic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Topic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Topic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Topic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Topic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5486400" y="2590920"/>
            <a:ext cx="6094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5562720" y="342864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486400" y="396252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75040" y="1225440"/>
            <a:ext cx="4749840" cy="4683240"/>
          </a:xfrm>
          <a:custGeom>
            <a:avLst/>
            <a:gdLst/>
            <a:ahLst/>
            <a:rect l="l" t="t" r="r" b="b"/>
            <a:pathLst>
              <a:path w="2992" h="2950">
                <a:moveTo>
                  <a:pt x="1554" y="340"/>
                </a:moveTo>
                <a:cubicBezTo>
                  <a:pt x="1154" y="445"/>
                  <a:pt x="621" y="717"/>
                  <a:pt x="375" y="996"/>
                </a:cubicBezTo>
                <a:cubicBezTo>
                  <a:pt x="129" y="1275"/>
                  <a:pt x="0" y="1707"/>
                  <a:pt x="79" y="2012"/>
                </a:cubicBezTo>
                <a:cubicBezTo>
                  <a:pt x="158" y="2317"/>
                  <a:pt x="415" y="2740"/>
                  <a:pt x="847" y="2828"/>
                </a:cubicBezTo>
                <a:cubicBezTo>
                  <a:pt x="1279" y="2916"/>
                  <a:pt x="2350" y="2950"/>
                  <a:pt x="2671" y="2540"/>
                </a:cubicBezTo>
                <a:cubicBezTo>
                  <a:pt x="2992" y="2130"/>
                  <a:pt x="2959" y="734"/>
                  <a:pt x="2773" y="367"/>
                </a:cubicBezTo>
                <a:cubicBezTo>
                  <a:pt x="2587" y="0"/>
                  <a:pt x="1933" y="237"/>
                  <a:pt x="1554" y="34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048120" y="2819160"/>
            <a:ext cx="38088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4114800" y="2286000"/>
            <a:ext cx="9907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1"/>
          </p:cNvPr>
          <p:cNvSpPr/>
          <p:nvPr/>
        </p:nvSpPr>
        <p:spPr>
          <a:xfrm>
            <a:off x="993960" y="6248520"/>
            <a:ext cx="65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otn.oracle.com/software/tech/java/help/htdocs/utilsoft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7719-687D-409F-80FF-A1334800CB1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1600200"/>
            <a:ext cx="7162560" cy="36576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t least three HTML Help files for the All Powder forms using an HTML editor or Wordp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ecessary, download and install the Oracle Web Help and Java Help syst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he Map, Index, TOC, and Link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the search.idx fi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he new HelpSystem .h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 the ohwconfig.xml file to add your helpsystem proj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your files to the server and test the proj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Web.Show_Document command to a custom menu to open a context-sensitive Help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A5E7-F2CE-4F46-9846-4A215CF996C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TML Help Fi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38080" y="1371600"/>
            <a:ext cx="71629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ITLE&gt;All Powder Board and Ski Shop&lt;/TIT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INK rel="stylesheet" type="text/css" href="Styles.css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HEAD&gt;&lt;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H1&gt;Introduction to the All Powder Board and Ski Shop&lt;/H1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ABLE&gt;&lt;T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D&gt;&lt;IMG SRC="BoardLogo1.gif" border="0"&gt;&lt;/T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D&gt;All Powder Board and Ski Shop sells and rents snowboards and skis for all levels of riders and skiers.&lt;/T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TR&gt;&lt;/TAB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H2&gt;The Board and Ski Shop&lt;/H2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UL&gt;&lt;LI&gt;&lt;A HREF="Customers.html"&gt;Customers&lt;/A&gt;&lt;/LI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I&gt;&lt;A HREF="Sales.html"&gt;Sales &lt;/A&gt;&lt;/LI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UL&gt;&lt;/BODY&gt;&lt;/HTM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0600" y="4836960"/>
            <a:ext cx="78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ning: You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se double quotes not single quotes or the links will fa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CA5D-2481-4D27-B275-69E02F30150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opics Map Fi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62120" y="2057400"/>
            <a:ext cx="685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?xml version='1.0' ?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map version="1.0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mapID target="AllPowder_html" url="AllPowder.html" 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mapID target="Customers_html" url="Customers.html" 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mapID target="Sales_html" url="Sales.html" 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ma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337F-376C-488A-8CF2-081EE3EEDA4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able of Contents (TOC) fi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38080" y="1523880"/>
            <a:ext cx="7696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?xml version='1.0' ?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toc version="1.0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tocitem text="Introduction to All Powder Board and Ski Sh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tocitem target="AllPowder_html" text="The Board and Ski Shop" 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tocitem text="Sales Options" target="Sales_html" 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tocitem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tocitem text="Customer Options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tocitem target="Customers_html" text="Adding New Customers" 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tocitem target="Sales_html" text="Sales Options" 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tocitem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toc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2187-4AD1-4CCC-A30E-0AA0EEE6729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200400" y="1523880"/>
            <a:ext cx="3181320" cy="30337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pplications: Integ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724280" y="2514600"/>
            <a:ext cx="3500640" cy="3354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143000" y="3276720"/>
            <a:ext cx="2428920" cy="28242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609480" y="1523880"/>
            <a:ext cx="2357640" cy="2295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914400" y="3200400"/>
            <a:ext cx="9907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05120" y="2743200"/>
            <a:ext cx="28191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2133720"/>
            <a:ext cx="16002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2895480"/>
            <a:ext cx="9907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up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1600200"/>
            <a:ext cx="83844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p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943600" y="2590920"/>
            <a:ext cx="9907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486400" y="289548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3962520"/>
            <a:ext cx="137160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d forms and 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9BE1-26C2-46DB-87E4-9538EA25188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dex Fi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1676520"/>
            <a:ext cx="7696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?xml version='1.0' ?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dex version="1.0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dexitem target="AllPowder" text="All Powder" 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dexitem target="AllPowder" text="Management" 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dexitem target="AllPowder" text="Start" 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dexitem target="Customers" text="Client" 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dexitem target="Customers" text="Customers" 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dexitem target="Sales" text="Sales" 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dexitem text="Introduction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dexentry target="AllPowder" text="The Company" 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dexentry target="Customers" text="Customers" 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dexentry target="Sales" text="Sales" 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indexitem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6197-431C-478F-A2DB-FBE5EBCA517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earch Fi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" y="1905120"/>
            <a:ext cx="77724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 proprietary binary file that must be gener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ercial systems can create the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, install Oracle Java Help and use the help-4-inde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a command line statement to create the binary index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CLASSPATH=%CLASSPATH%;c:\program files\ohelp\help4-indexer.j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 -mx64m oracle.help.tools.index.Indexer -l=en_US =e=8859_1 D:\Oracle\ohw\oc4j\j2ee\home\applications\ohw-eapp\ohw\helpsets\AllPowder search.id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lasspath depends on where you installed the Java Help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ath on the java line is the folder holding your HTML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4488-B4ED-4272-B726-B0E85B4BBB3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elpSystem File (1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371600" y="2362320"/>
            <a:ext cx="6019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?xml version='1.0' ?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elpset version="1.1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title&gt;All Powder Board and Ski Shop&lt;/tit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map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mapref location="map.xml" 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map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link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linkref location="link.x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link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AC63-C1C8-4EA1-9000-921E122A7EA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elpSystem File (2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1371600"/>
            <a:ext cx="8153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view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label&gt;Contents&lt;/labe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type&gt;oracle.help.navigator.tocNavigator.TOCNavigator&lt;/ty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a engine="oracle.help.engine.XMLTOCEngine"&gt;toc.xml&lt;/dat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view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view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label&gt;Index&lt;/labe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type&gt;oracle.help.navigator.keywordNavigator.KeywordNavigator&lt;/ty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title&gt;All Powder Board and Ski Shop&lt;/tit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a engine="oracle.help.engine.XMLIndexEngine"&gt;index.xml&lt;/dat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view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view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label&gt;Search&lt;/labe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title&gt;All Powder Board and Ski Shop&lt;/tit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type&gt;oracle.help.navigator.searchNavigator.SearchNavigator&lt;/ty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a engine="oracle.help.engine.SearchEngine"&gt;search.idx&lt;/dat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view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elpse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896C-EA7A-42D4-A260-F487478F021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ohwconfig.xm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447920" y="2558880"/>
            <a:ext cx="63244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books combineBooks="true" useLabelInfo="true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helpSet location=“AllPowder/AllPowderHelp.hs" 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help 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book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3771-3E2A-41E1-BA25-7B597F21169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itial Help Fi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523960" y="1600200"/>
            <a:ext cx="40960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E081-232D-4A2D-97CB-00D4F5720BD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ntext-Sensitive Help (sort of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97960" y="1407960"/>
            <a:ext cx="3617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 property: Help Book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property: Help Book To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99400" y="2855880"/>
            <a:ext cx="66560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ead, create a custom menu with an entry for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PL/SQL Code to open a specific top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.Show_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‘http://yourserver.com:8888/ohw/help/?topic=Customers_html’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ED98-9E83-4B05-9166-6CEA5B95276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ploying an Applic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1795320" cy="27273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6248520" y="4038480"/>
            <a:ext cx="1503360" cy="12034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698760" y="4608360"/>
            <a:ext cx="16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r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23520" y="525780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4495680" y="1828800"/>
            <a:ext cx="898560" cy="1359000"/>
            <a:chOff x="4495680" y="1828800"/>
            <a:chExt cx="898560" cy="1359000"/>
          </a:xfrm>
        </p:grpSpPr>
        <p:sp>
          <p:nvSpPr>
            <p:cNvPr id="219" name=""/>
            <p:cNvSpPr/>
            <p:nvPr/>
          </p:nvSpPr>
          <p:spPr>
            <a:xfrm>
              <a:off x="4994280" y="1835280"/>
              <a:ext cx="399960" cy="1339920"/>
            </a:xfrm>
            <a:custGeom>
              <a:avLst/>
              <a:gdLst/>
              <a:ahLst/>
              <a:rect l="l" t="t" r="r" b="b"/>
              <a:pathLst>
                <a:path w="252" h="844">
                  <a:moveTo>
                    <a:pt x="222" y="82"/>
                  </a:moveTo>
                  <a:cubicBezTo>
                    <a:pt x="234" y="198"/>
                    <a:pt x="248" y="620"/>
                    <a:pt x="252" y="746"/>
                  </a:cubicBezTo>
                  <a:cubicBezTo>
                    <a:pt x="138" y="786"/>
                    <a:pt x="90" y="808"/>
                    <a:pt x="6" y="844"/>
                  </a:cubicBezTo>
                  <a:cubicBezTo>
                    <a:pt x="8" y="710"/>
                    <a:pt x="0" y="142"/>
                    <a:pt x="4" y="0"/>
                  </a:cubicBezTo>
                  <a:cubicBezTo>
                    <a:pt x="62" y="22"/>
                    <a:pt x="75" y="33"/>
                    <a:pt x="98" y="40"/>
                  </a:cubicBezTo>
                  <a:cubicBezTo>
                    <a:pt x="121" y="47"/>
                    <a:pt x="133" y="40"/>
                    <a:pt x="144" y="44"/>
                  </a:cubicBezTo>
                  <a:cubicBezTo>
                    <a:pt x="155" y="48"/>
                    <a:pt x="149" y="58"/>
                    <a:pt x="162" y="64"/>
                  </a:cubicBezTo>
                  <a:cubicBezTo>
                    <a:pt x="175" y="70"/>
                    <a:pt x="178" y="64"/>
                    <a:pt x="222" y="8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50000">
                  <a:srgbClr val="9595d4"/>
                </a:gs>
                <a:gs pos="100000">
                  <a:srgbClr val="000099"/>
                </a:gs>
              </a:gsLst>
              <a:lin ang="108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175360" y="1901880"/>
              <a:ext cx="95040" cy="1181160"/>
            </a:xfrm>
            <a:custGeom>
              <a:avLst/>
              <a:gdLst/>
              <a:ahLst/>
              <a:rect l="l" t="t" r="r" b="b"/>
              <a:pathLst>
                <a:path w="60" h="744">
                  <a:moveTo>
                    <a:pt x="50" y="17"/>
                  </a:moveTo>
                  <a:cubicBezTo>
                    <a:pt x="53" y="40"/>
                    <a:pt x="53" y="82"/>
                    <a:pt x="52" y="140"/>
                  </a:cubicBezTo>
                  <a:cubicBezTo>
                    <a:pt x="51" y="198"/>
                    <a:pt x="46" y="267"/>
                    <a:pt x="46" y="366"/>
                  </a:cubicBezTo>
                  <a:cubicBezTo>
                    <a:pt x="46" y="465"/>
                    <a:pt x="56" y="673"/>
                    <a:pt x="55" y="736"/>
                  </a:cubicBezTo>
                  <a:cubicBezTo>
                    <a:pt x="42" y="739"/>
                    <a:pt x="60" y="737"/>
                    <a:pt x="41" y="744"/>
                  </a:cubicBezTo>
                  <a:cubicBezTo>
                    <a:pt x="33" y="661"/>
                    <a:pt x="14" y="363"/>
                    <a:pt x="8" y="239"/>
                  </a:cubicBezTo>
                  <a:cubicBezTo>
                    <a:pt x="2" y="115"/>
                    <a:pt x="0" y="41"/>
                    <a:pt x="4" y="2"/>
                  </a:cubicBezTo>
                  <a:cubicBezTo>
                    <a:pt x="25" y="8"/>
                    <a:pt x="27" y="0"/>
                    <a:pt x="35" y="2"/>
                  </a:cubicBezTo>
                  <a:cubicBezTo>
                    <a:pt x="43" y="4"/>
                    <a:pt x="37" y="0"/>
                    <a:pt x="50" y="17"/>
                  </a:cubicBez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d7d7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1828800"/>
              <a:ext cx="511200" cy="1359000"/>
            </a:xfrm>
            <a:custGeom>
              <a:avLst/>
              <a:gdLst/>
              <a:ahLst/>
              <a:rect l="l" t="t" r="r" b="b"/>
              <a:pathLst>
                <a:path w="322" h="856">
                  <a:moveTo>
                    <a:pt x="322" y="850"/>
                  </a:moveTo>
                  <a:cubicBezTo>
                    <a:pt x="284" y="856"/>
                    <a:pt x="245" y="851"/>
                    <a:pt x="220" y="842"/>
                  </a:cubicBezTo>
                  <a:cubicBezTo>
                    <a:pt x="195" y="833"/>
                    <a:pt x="183" y="805"/>
                    <a:pt x="170" y="796"/>
                  </a:cubicBezTo>
                  <a:cubicBezTo>
                    <a:pt x="157" y="787"/>
                    <a:pt x="162" y="793"/>
                    <a:pt x="142" y="788"/>
                  </a:cubicBezTo>
                  <a:cubicBezTo>
                    <a:pt x="122" y="783"/>
                    <a:pt x="72" y="779"/>
                    <a:pt x="48" y="768"/>
                  </a:cubicBezTo>
                  <a:cubicBezTo>
                    <a:pt x="24" y="757"/>
                    <a:pt x="32" y="756"/>
                    <a:pt x="0" y="722"/>
                  </a:cubicBezTo>
                  <a:cubicBezTo>
                    <a:pt x="8" y="610"/>
                    <a:pt x="22" y="194"/>
                    <a:pt x="36" y="84"/>
                  </a:cubicBezTo>
                  <a:cubicBezTo>
                    <a:pt x="80" y="56"/>
                    <a:pt x="72" y="67"/>
                    <a:pt x="94" y="60"/>
                  </a:cubicBezTo>
                  <a:cubicBezTo>
                    <a:pt x="116" y="53"/>
                    <a:pt x="150" y="47"/>
                    <a:pt x="168" y="42"/>
                  </a:cubicBezTo>
                  <a:cubicBezTo>
                    <a:pt x="186" y="37"/>
                    <a:pt x="188" y="37"/>
                    <a:pt x="202" y="32"/>
                  </a:cubicBezTo>
                  <a:cubicBezTo>
                    <a:pt x="216" y="27"/>
                    <a:pt x="232" y="15"/>
                    <a:pt x="252" y="10"/>
                  </a:cubicBezTo>
                  <a:cubicBezTo>
                    <a:pt x="272" y="5"/>
                    <a:pt x="276" y="0"/>
                    <a:pt x="320" y="4"/>
                  </a:cubicBezTo>
                  <a:cubicBezTo>
                    <a:pt x="320" y="156"/>
                    <a:pt x="322" y="706"/>
                    <a:pt x="322" y="85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50000">
                  <a:srgbClr val="000096"/>
                </a:gs>
                <a:gs pos="100000">
                  <a:srgbClr val="000099"/>
                </a:gs>
              </a:gsLst>
              <a:lin ang="108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727520" y="1838520"/>
              <a:ext cx="81000" cy="1332000"/>
            </a:xfrm>
            <a:custGeom>
              <a:avLst/>
              <a:gdLst/>
              <a:ahLst/>
              <a:rect l="l" t="t" r="r" b="b"/>
              <a:pathLst>
                <a:path w="51" h="839">
                  <a:moveTo>
                    <a:pt x="34" y="32"/>
                  </a:moveTo>
                  <a:cubicBezTo>
                    <a:pt x="29" y="43"/>
                    <a:pt x="24" y="0"/>
                    <a:pt x="19" y="116"/>
                  </a:cubicBezTo>
                  <a:cubicBezTo>
                    <a:pt x="14" y="232"/>
                    <a:pt x="7" y="617"/>
                    <a:pt x="4" y="728"/>
                  </a:cubicBezTo>
                  <a:cubicBezTo>
                    <a:pt x="1" y="839"/>
                    <a:pt x="1" y="750"/>
                    <a:pt x="1" y="785"/>
                  </a:cubicBezTo>
                  <a:cubicBezTo>
                    <a:pt x="24" y="789"/>
                    <a:pt x="0" y="782"/>
                    <a:pt x="3" y="783"/>
                  </a:cubicBezTo>
                  <a:cubicBezTo>
                    <a:pt x="6" y="784"/>
                    <a:pt x="13" y="788"/>
                    <a:pt x="18" y="791"/>
                  </a:cubicBezTo>
                  <a:cubicBezTo>
                    <a:pt x="23" y="794"/>
                    <a:pt x="15" y="794"/>
                    <a:pt x="34" y="801"/>
                  </a:cubicBezTo>
                  <a:cubicBezTo>
                    <a:pt x="38" y="733"/>
                    <a:pt x="44" y="501"/>
                    <a:pt x="46" y="372"/>
                  </a:cubicBezTo>
                  <a:cubicBezTo>
                    <a:pt x="48" y="243"/>
                    <a:pt x="51" y="84"/>
                    <a:pt x="49" y="27"/>
                  </a:cubicBezTo>
                  <a:cubicBezTo>
                    <a:pt x="24" y="32"/>
                    <a:pt x="37" y="31"/>
                    <a:pt x="34" y="32"/>
                  </a:cubicBez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50000">
                  <a:srgbClr val="c7c7fe"/>
                </a:gs>
                <a:gs pos="100000">
                  <a:srgbClr val="99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165640" y="2151360"/>
              <a:ext cx="85680" cy="23760"/>
            </a:xfrm>
            <a:custGeom>
              <a:avLst/>
              <a:gdLst/>
              <a:ahLst/>
              <a:rect l="l" t="t" r="r" b="b"/>
              <a:pathLst>
                <a:path w="54" h="15">
                  <a:moveTo>
                    <a:pt x="0" y="7"/>
                  </a:moveTo>
                  <a:cubicBezTo>
                    <a:pt x="6" y="6"/>
                    <a:pt x="27" y="0"/>
                    <a:pt x="36" y="1"/>
                  </a:cubicBezTo>
                  <a:cubicBezTo>
                    <a:pt x="45" y="2"/>
                    <a:pt x="50" y="12"/>
                    <a:pt x="54" y="1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165640" y="2208240"/>
              <a:ext cx="85680" cy="23760"/>
            </a:xfrm>
            <a:custGeom>
              <a:avLst/>
              <a:gdLst/>
              <a:ahLst/>
              <a:rect l="l" t="t" r="r" b="b"/>
              <a:pathLst>
                <a:path w="54" h="15">
                  <a:moveTo>
                    <a:pt x="0" y="7"/>
                  </a:moveTo>
                  <a:cubicBezTo>
                    <a:pt x="6" y="6"/>
                    <a:pt x="27" y="0"/>
                    <a:pt x="36" y="1"/>
                  </a:cubicBezTo>
                  <a:cubicBezTo>
                    <a:pt x="45" y="2"/>
                    <a:pt x="50" y="12"/>
                    <a:pt x="54" y="1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165640" y="2281320"/>
              <a:ext cx="85680" cy="23760"/>
            </a:xfrm>
            <a:custGeom>
              <a:avLst/>
              <a:gdLst/>
              <a:ahLst/>
              <a:rect l="l" t="t" r="r" b="b"/>
              <a:pathLst>
                <a:path w="54" h="15">
                  <a:moveTo>
                    <a:pt x="0" y="7"/>
                  </a:moveTo>
                  <a:cubicBezTo>
                    <a:pt x="6" y="6"/>
                    <a:pt x="27" y="0"/>
                    <a:pt x="36" y="1"/>
                  </a:cubicBezTo>
                  <a:cubicBezTo>
                    <a:pt x="45" y="2"/>
                    <a:pt x="50" y="12"/>
                    <a:pt x="54" y="1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165640" y="2341800"/>
              <a:ext cx="85680" cy="23760"/>
            </a:xfrm>
            <a:custGeom>
              <a:avLst/>
              <a:gdLst/>
              <a:ahLst/>
              <a:rect l="l" t="t" r="r" b="b"/>
              <a:pathLst>
                <a:path w="54" h="15">
                  <a:moveTo>
                    <a:pt x="0" y="7"/>
                  </a:moveTo>
                  <a:cubicBezTo>
                    <a:pt x="6" y="6"/>
                    <a:pt x="27" y="0"/>
                    <a:pt x="36" y="1"/>
                  </a:cubicBezTo>
                  <a:cubicBezTo>
                    <a:pt x="45" y="2"/>
                    <a:pt x="50" y="12"/>
                    <a:pt x="54" y="1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165640" y="2417760"/>
              <a:ext cx="85680" cy="23760"/>
            </a:xfrm>
            <a:custGeom>
              <a:avLst/>
              <a:gdLst/>
              <a:ahLst/>
              <a:rect l="l" t="t" r="r" b="b"/>
              <a:pathLst>
                <a:path w="54" h="15">
                  <a:moveTo>
                    <a:pt x="0" y="7"/>
                  </a:moveTo>
                  <a:cubicBezTo>
                    <a:pt x="6" y="6"/>
                    <a:pt x="27" y="0"/>
                    <a:pt x="36" y="1"/>
                  </a:cubicBezTo>
                  <a:cubicBezTo>
                    <a:pt x="45" y="2"/>
                    <a:pt x="50" y="12"/>
                    <a:pt x="54" y="1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680000" y="2109960"/>
              <a:ext cx="326880" cy="49320"/>
            </a:xfrm>
            <a:custGeom>
              <a:avLst/>
              <a:gdLst/>
              <a:ahLst/>
              <a:rect l="l" t="t" r="r" b="b"/>
              <a:pathLst>
                <a:path w="206" h="31">
                  <a:moveTo>
                    <a:pt x="0" y="31"/>
                  </a:moveTo>
                  <a:cubicBezTo>
                    <a:pt x="9" y="30"/>
                    <a:pt x="39" y="29"/>
                    <a:pt x="54" y="27"/>
                  </a:cubicBezTo>
                  <a:cubicBezTo>
                    <a:pt x="69" y="25"/>
                    <a:pt x="79" y="23"/>
                    <a:pt x="92" y="19"/>
                  </a:cubicBezTo>
                  <a:cubicBezTo>
                    <a:pt x="105" y="15"/>
                    <a:pt x="115" y="2"/>
                    <a:pt x="134" y="1"/>
                  </a:cubicBezTo>
                  <a:cubicBezTo>
                    <a:pt x="153" y="0"/>
                    <a:pt x="194" y="9"/>
                    <a:pt x="206" y="11"/>
                  </a:cubicBezTo>
                </a:path>
              </a:pathLst>
            </a:custGeom>
            <a:noFill/>
            <a:ln w="28440">
              <a:solidFill>
                <a:srgbClr val="0000ff">
                  <a:alpha val="7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680000" y="2170080"/>
              <a:ext cx="326880" cy="49320"/>
            </a:xfrm>
            <a:custGeom>
              <a:avLst/>
              <a:gdLst/>
              <a:ahLst/>
              <a:rect l="l" t="t" r="r" b="b"/>
              <a:pathLst>
                <a:path w="206" h="31">
                  <a:moveTo>
                    <a:pt x="0" y="31"/>
                  </a:moveTo>
                  <a:cubicBezTo>
                    <a:pt x="9" y="30"/>
                    <a:pt x="39" y="29"/>
                    <a:pt x="54" y="27"/>
                  </a:cubicBezTo>
                  <a:cubicBezTo>
                    <a:pt x="69" y="25"/>
                    <a:pt x="79" y="23"/>
                    <a:pt x="92" y="19"/>
                  </a:cubicBezTo>
                  <a:cubicBezTo>
                    <a:pt x="105" y="15"/>
                    <a:pt x="115" y="2"/>
                    <a:pt x="134" y="1"/>
                  </a:cubicBezTo>
                  <a:cubicBezTo>
                    <a:pt x="153" y="0"/>
                    <a:pt x="194" y="9"/>
                    <a:pt x="206" y="11"/>
                  </a:cubicBezTo>
                </a:path>
              </a:pathLst>
            </a:custGeom>
            <a:noFill/>
            <a:ln w="28440">
              <a:solidFill>
                <a:srgbClr val="0000ff">
                  <a:alpha val="7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680000" y="2246400"/>
              <a:ext cx="326880" cy="49320"/>
            </a:xfrm>
            <a:custGeom>
              <a:avLst/>
              <a:gdLst/>
              <a:ahLst/>
              <a:rect l="l" t="t" r="r" b="b"/>
              <a:pathLst>
                <a:path w="206" h="31">
                  <a:moveTo>
                    <a:pt x="0" y="31"/>
                  </a:moveTo>
                  <a:cubicBezTo>
                    <a:pt x="9" y="30"/>
                    <a:pt x="39" y="29"/>
                    <a:pt x="54" y="27"/>
                  </a:cubicBezTo>
                  <a:cubicBezTo>
                    <a:pt x="69" y="25"/>
                    <a:pt x="79" y="23"/>
                    <a:pt x="92" y="19"/>
                  </a:cubicBezTo>
                  <a:cubicBezTo>
                    <a:pt x="105" y="15"/>
                    <a:pt x="115" y="2"/>
                    <a:pt x="134" y="1"/>
                  </a:cubicBezTo>
                  <a:cubicBezTo>
                    <a:pt x="153" y="0"/>
                    <a:pt x="194" y="9"/>
                    <a:pt x="206" y="11"/>
                  </a:cubicBezTo>
                </a:path>
              </a:pathLst>
            </a:custGeom>
            <a:noFill/>
            <a:ln w="28440">
              <a:solidFill>
                <a:srgbClr val="0000ff">
                  <a:alpha val="7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680000" y="2319480"/>
              <a:ext cx="326880" cy="49320"/>
            </a:xfrm>
            <a:custGeom>
              <a:avLst/>
              <a:gdLst/>
              <a:ahLst/>
              <a:rect l="l" t="t" r="r" b="b"/>
              <a:pathLst>
                <a:path w="206" h="31">
                  <a:moveTo>
                    <a:pt x="0" y="31"/>
                  </a:moveTo>
                  <a:cubicBezTo>
                    <a:pt x="9" y="30"/>
                    <a:pt x="39" y="29"/>
                    <a:pt x="54" y="27"/>
                  </a:cubicBezTo>
                  <a:cubicBezTo>
                    <a:pt x="69" y="25"/>
                    <a:pt x="79" y="23"/>
                    <a:pt x="92" y="19"/>
                  </a:cubicBezTo>
                  <a:cubicBezTo>
                    <a:pt x="105" y="15"/>
                    <a:pt x="115" y="2"/>
                    <a:pt x="134" y="1"/>
                  </a:cubicBezTo>
                  <a:cubicBezTo>
                    <a:pt x="153" y="0"/>
                    <a:pt x="194" y="9"/>
                    <a:pt x="206" y="11"/>
                  </a:cubicBezTo>
                </a:path>
              </a:pathLst>
            </a:custGeom>
            <a:noFill/>
            <a:ln w="28440">
              <a:solidFill>
                <a:srgbClr val="0000ff">
                  <a:alpha val="7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680000" y="2392560"/>
              <a:ext cx="326880" cy="48960"/>
            </a:xfrm>
            <a:custGeom>
              <a:avLst/>
              <a:gdLst/>
              <a:ahLst/>
              <a:rect l="l" t="t" r="r" b="b"/>
              <a:pathLst>
                <a:path w="206" h="31">
                  <a:moveTo>
                    <a:pt x="0" y="31"/>
                  </a:moveTo>
                  <a:cubicBezTo>
                    <a:pt x="9" y="30"/>
                    <a:pt x="39" y="29"/>
                    <a:pt x="54" y="27"/>
                  </a:cubicBezTo>
                  <a:cubicBezTo>
                    <a:pt x="69" y="25"/>
                    <a:pt x="79" y="23"/>
                    <a:pt x="92" y="19"/>
                  </a:cubicBezTo>
                  <a:cubicBezTo>
                    <a:pt x="105" y="15"/>
                    <a:pt x="115" y="2"/>
                    <a:pt x="134" y="1"/>
                  </a:cubicBezTo>
                  <a:cubicBezTo>
                    <a:pt x="153" y="0"/>
                    <a:pt x="194" y="9"/>
                    <a:pt x="206" y="11"/>
                  </a:cubicBezTo>
                </a:path>
              </a:pathLst>
            </a:custGeom>
            <a:noFill/>
            <a:ln w="28440">
              <a:solidFill>
                <a:srgbClr val="0000ff">
                  <a:alpha val="7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011560" y="2125800"/>
              <a:ext cx="152640" cy="33480"/>
            </a:xfrm>
            <a:custGeom>
              <a:avLst/>
              <a:gdLst/>
              <a:ahLst/>
              <a:rect l="l" t="t" r="r" b="b"/>
              <a:pathLst>
                <a:path w="96" h="21">
                  <a:moveTo>
                    <a:pt x="96" y="21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99ccff">
                  <a:alpha val="71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011560" y="2190960"/>
              <a:ext cx="150840" cy="28440"/>
            </a:xfrm>
            <a:custGeom>
              <a:avLst/>
              <a:gdLst/>
              <a:ahLst/>
              <a:rect l="l" t="t" r="r" b="b"/>
              <a:pathLst>
                <a:path w="95" h="18">
                  <a:moveTo>
                    <a:pt x="95" y="18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99ccff">
                  <a:alpha val="71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003640" y="2266920"/>
              <a:ext cx="158760" cy="22320"/>
            </a:xfrm>
            <a:custGeom>
              <a:avLst/>
              <a:gdLst/>
              <a:ahLst/>
              <a:rect l="l" t="t" r="r" b="b"/>
              <a:pathLst>
                <a:path w="100" h="14">
                  <a:moveTo>
                    <a:pt x="100" y="14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99ccff">
                  <a:alpha val="71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000760" y="2336760"/>
              <a:ext cx="161640" cy="16200"/>
            </a:xfrm>
            <a:custGeom>
              <a:avLst/>
              <a:gdLst/>
              <a:ahLst/>
              <a:rect l="l" t="t" r="r" b="b"/>
              <a:pathLst>
                <a:path w="102" h="10">
                  <a:moveTo>
                    <a:pt x="102" y="10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99ccff">
                  <a:alpha val="71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000760" y="2413080"/>
              <a:ext cx="172800" cy="12600"/>
            </a:xfrm>
            <a:custGeom>
              <a:avLst/>
              <a:gdLst/>
              <a:ahLst/>
              <a:rect l="l" t="t" r="r" b="b"/>
              <a:pathLst>
                <a:path w="109" h="8">
                  <a:moveTo>
                    <a:pt x="109" y="8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99ccff">
                  <a:alpha val="71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249880" y="2171880"/>
              <a:ext cx="112680" cy="19080"/>
            </a:xfrm>
            <a:custGeom>
              <a:avLst/>
              <a:gdLst/>
              <a:ahLst/>
              <a:rect l="l" t="t" r="r" b="b"/>
              <a:pathLst>
                <a:path w="71" h="12">
                  <a:moveTo>
                    <a:pt x="0" y="0"/>
                  </a:moveTo>
                  <a:lnTo>
                    <a:pt x="71" y="1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53120" y="2233800"/>
              <a:ext cx="114120" cy="14400"/>
            </a:xfrm>
            <a:custGeom>
              <a:avLst/>
              <a:gdLst/>
              <a:ahLst/>
              <a:rect l="l" t="t" r="r" b="b"/>
              <a:pathLst>
                <a:path w="72" h="9">
                  <a:moveTo>
                    <a:pt x="0" y="0"/>
                  </a:moveTo>
                  <a:lnTo>
                    <a:pt x="72" y="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253120" y="2301840"/>
              <a:ext cx="119160" cy="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48440" y="2362320"/>
              <a:ext cx="123840" cy="1116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0" y="0"/>
                  </a:moveTo>
                  <a:lnTo>
                    <a:pt x="78" y="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253120" y="2433600"/>
              <a:ext cx="123840" cy="1116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0" y="0"/>
                  </a:moveTo>
                  <a:lnTo>
                    <a:pt x="78" y="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3975480" y="3160800"/>
            <a:ext cx="19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90920" y="2743200"/>
            <a:ext cx="1828800" cy="1219320"/>
          </a:xfrm>
          <a:custGeom>
            <a:avLst/>
            <a:gdLst/>
            <a:ahLst/>
            <a:rect l="l" t="t" r="r" b="b"/>
            <a:pathLst>
              <a:path w="1152" h="768">
                <a:moveTo>
                  <a:pt x="0" y="768"/>
                </a:moveTo>
                <a:cubicBezTo>
                  <a:pt x="184" y="752"/>
                  <a:pt x="368" y="736"/>
                  <a:pt x="480" y="624"/>
                </a:cubicBezTo>
                <a:cubicBezTo>
                  <a:pt x="592" y="512"/>
                  <a:pt x="560" y="192"/>
                  <a:pt x="672" y="96"/>
                </a:cubicBezTo>
                <a:cubicBezTo>
                  <a:pt x="784" y="0"/>
                  <a:pt x="968" y="24"/>
                  <a:pt x="115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975400" y="3962520"/>
            <a:ext cx="1916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 scri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lo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iled 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iled 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p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410080" y="2895480"/>
            <a:ext cx="1320840" cy="2133720"/>
          </a:xfrm>
          <a:custGeom>
            <a:avLst/>
            <a:gdLst/>
            <a:ahLst/>
            <a:rect l="l" t="t" r="r" b="b"/>
            <a:pathLst>
              <a:path w="832" h="1344">
                <a:moveTo>
                  <a:pt x="0" y="0"/>
                </a:moveTo>
                <a:cubicBezTo>
                  <a:pt x="352" y="48"/>
                  <a:pt x="704" y="96"/>
                  <a:pt x="768" y="288"/>
                </a:cubicBezTo>
                <a:cubicBezTo>
                  <a:pt x="832" y="480"/>
                  <a:pt x="392" y="976"/>
                  <a:pt x="384" y="1152"/>
                </a:cubicBezTo>
                <a:cubicBezTo>
                  <a:pt x="376" y="1328"/>
                  <a:pt x="548" y="1336"/>
                  <a:pt x="720" y="13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631560" y="312408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niti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F391-250B-4E90-A43D-436A6FA1FEE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1600200"/>
            <a:ext cx="7162560" cy="27432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SQL scripts to rebuild your database on a new ser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y to get to an Oracle Application Ser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a DBA configure a new database and the AS for a new appl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your global variables to point to the new lo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the new datab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ile and transfer the application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everyth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2A15-C1B9-474A-A19B-A483D3ECF5B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emplate: From a Blank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486480" cy="39654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657600" y="3124080"/>
            <a:ext cx="7621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105520" y="2819520"/>
            <a:ext cx="6858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2971800"/>
            <a:ext cx="8380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267080" y="4343400"/>
            <a:ext cx="129564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733920" y="29714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3962520"/>
            <a:ext cx="9907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Can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2362320" y="3580920"/>
            <a:ext cx="3045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1447920" y="2437920"/>
            <a:ext cx="83808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038120" y="45720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4723920" y="274284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858000" y="28191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2655-FA94-493E-A1D6-7AA3BE63AE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600200"/>
            <a:ext cx="7543800" cy="36576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Forms Buil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Canvases and click the Create butt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ame Module1, Canvas1, and Window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Window properties to change the title and set the Primary Canv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new canvas and set background and font proper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Edit/Import/Image to import a lo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Text tool to add the title and format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Display Item button to add the Message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its Database Item property to No and Bevel to N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Button tool to add and format the Close butt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EXIT_FORM; code to its When_Button_Pressed smart trig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98E4-4B39-4897-AB5F-4CE2346ED8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1600200"/>
            <a:ext cx="8153280" cy="45720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Visual Attributes and click Cre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ame the attribute as FormTitle_Attribu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Font Size property to 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Font Weight property to Bo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Property Classes and click Cre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ame the class as Currency_Cla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ble-click its icon to open the property palet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e Add Property butt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nd add the Justification proper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its value to R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Data Type property and set its value to Mone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Format Mask property and set its value to FML9G999G999G999D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Text_Class property with font size of 8 and font weight of medi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gn the FormTitle_Attribute to the Visual Attribute Group property of the Title_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887B-9F33-443D-83EB-2E73762E3A4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New Form From Templat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4805640" cy="4692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9E4A-C97F-4A43-9154-419BF3A1383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: Apply Templat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1600200"/>
            <a:ext cx="8153280" cy="35812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Forms Builder and choose File/New Form using Templ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ame the main module as Custo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the old Customer form and its main canv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Customer data block in the navigator and drag it to the new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d the new data block and it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the properties for Customer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hift-click to select all of the new data it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the Canvas property for all items to Template_Canv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the Subclass property to the Text_Class proper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record groups from the old form and drag them to the new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g any items from the old LOVs entry to LOVs in the new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7D27-9F19-4BE4-8D22-BEA3A427C7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82760" y="1600200"/>
            <a:ext cx="6377040" cy="44197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ing a Switchboard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15000" y="1676520"/>
            <a:ext cx="144792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images with Edit/Im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4800600" y="243828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191120" y="4952880"/>
            <a:ext cx="213336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command but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3657600" y="434304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4800240" y="457200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4267080"/>
            <a:ext cx="14479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forms or 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5105520" y="4495680"/>
            <a:ext cx="76176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6095520" y="3733560"/>
            <a:ext cx="8384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3657600"/>
            <a:ext cx="129528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report links in navig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457200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E4FD-9F33-4B0E-9AEA-9060EEEE4EB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90720" y="1600200"/>
            <a:ext cx="7162560" cy="24382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blank form without the wiz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command buttons to open other forms: Open_Form(‘name’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links to the reports in the naviga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buttons to open the repo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code to open the repo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colors and graphics to make the form appeal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form and test all butt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C4AB-3F7F-4BA4-84FA-852D120F4C3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22:44:22Z</dcterms:created>
  <dc:creator>Jerry Post</dc:creator>
  <dc:description/>
  <dc:language>en-US</dc:language>
  <cp:lastModifiedBy>Jerry Post</cp:lastModifiedBy>
  <dcterms:modified xsi:type="dcterms:W3CDTF">2006-06-23T21:39:02Z</dcterms:modified>
  <cp:revision>80</cp:revision>
  <dc:subject/>
  <dc:title>All Powder Board and Ski</dc:title>
</cp:coreProperties>
</file>