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5B7-1329-44D8-96BF-230931DE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070-EA10-4031-A865-FE9C4197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FDF-B481-446C-95F4-DEF17160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5077-EBE7-4A67-82B4-C471AF5E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48E0-B074-49A8-A510-6458C454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AC9C-68B5-48AE-9FA1-E4A05160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D35E-EB89-4A2C-B759-2E9D03B4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00C3-09D0-429B-9012-E45896F4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7226-A54B-48B6-8C9F-C771A3F5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7E15-32C7-49B4-89F1-79FDA285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50E0-C4B4-43E4-8C36-4C947CE7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3D5D-5844-4843-BAA2-173BA916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B7A9-1FAC-4257-839C-6B7FC433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305A-254E-4BD5-A75B-B8F000FE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C6EF-39FE-4BF6-94F5-FD803635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9CB0-4280-4D3C-9CF6-0AF596A2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5921-EB51-4408-96E8-41B7DE59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B54-FCEB-464A-8422-9ECF0E4C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A979-77F9-4E14-ABEF-74A0030B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E0C6-2E0C-47A2-90C5-2A6F46F6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46FB-EEC4-47DD-BA0C-0DF3BE18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23C-3E94-4F9E-8775-43F2D734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74D-6F0B-44E0-BAB5-066E435E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1870-5507-423B-B2A6-DD47535D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8CF0-0FD1-48D3-829E-EEB6E15EF5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F71A-9AD8-4022-B2EC-731CF0CF32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ime-post.com/dbdesign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10g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: Databas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ble in SQL: ItemMod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905120"/>
            <a:ext cx="6477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TABLE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2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2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(50,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 ck_ItemModel_Cost CHECK (Cost&gt;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2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2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Lev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2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 pk_ItemModel PRIMARY KEY (ModelI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190512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uniqu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62720" y="2438280"/>
            <a:ext cx="2590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ify constrain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266720" y="22860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25744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96252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e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6019560" y="35809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lationships: Department and Employe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1676520"/>
            <a:ext cx="18288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057400"/>
            <a:ext cx="18288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pay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67652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205272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2209680"/>
            <a:ext cx="1295280" cy="2590920"/>
          </a:xfrm>
          <a:custGeom>
            <a:avLst/>
            <a:gdLst/>
            <a:ahLst/>
            <a:rect l="l" t="t" r="r" b="b"/>
            <a:pathLst>
              <a:path w="816" h="1632">
                <a:moveTo>
                  <a:pt x="0" y="0"/>
                </a:moveTo>
                <a:lnTo>
                  <a:pt x="384" y="0"/>
                </a:lnTo>
                <a:lnTo>
                  <a:pt x="384" y="1632"/>
                </a:lnTo>
                <a:lnTo>
                  <a:pt x="816" y="16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88120" y="1789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2560" y="441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4572000"/>
            <a:ext cx="16761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ig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5333760" y="472428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429000"/>
            <a:ext cx="1981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523880" y="2819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1600200"/>
            <a:ext cx="6477120" cy="3581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ATE TABLE statement for Depar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sure the Department column is ke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ATE TABLE statement for Employ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EmployeeID as a primary key constra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foreign key constra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it fk_EmployeeDe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the Department table as a re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ascade On Delete o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two CREATE statements and fix any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a Department row, then an Employee 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lationships in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1432080"/>
            <a:ext cx="76964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TABLE Depart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VARCHAR2(5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VARCHAR2(15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 pk_Department PRIMARY KEY (Depart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TABLE Employ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loyee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xpayer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VARCHAR2(5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VARCHAR2(25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VARCHAR2(25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VARCHAR2(5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VARCHAR2(25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VARCHAR2(5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VARCHAR2(15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VARCHAR2(15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VARCHAR2(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 ‘Sales’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 pk_Employee PRIMARY KEY (EmployeeID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 fk_DepartmentEmployee FOREIGN KEY (Depart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S Department(Depart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DELETE CASC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eate Tables with Database Desig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3614760" cy="4572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038480" y="266688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op existing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base Desig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85920" y="1285920"/>
            <a:ext cx="6572160" cy="4286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371600" y="571500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ify a prefix delim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571500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quotation marks for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5715000"/>
            <a:ext cx="1523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 the D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666880" y="5334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5257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172200" y="5257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620120" cy="25909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the Generate/Set DBMS option on the main me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Oracle and click S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Generate/Generate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SQL commands and paste them into WordP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he file as AllPowder.sq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SQL Plus and run the file with @&lt;location&gt;\AllPowder.sq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eate Tables: Enterprise Manag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867640" cy="4692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495680" y="213372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b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038120" y="25146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49568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89548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25909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828800"/>
            <a:ext cx="7620120" cy="37339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the Enterprise Mana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Administration tab, then the Tables link under the Schema s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columns for the Employee table, but name it Employee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primary key constra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foreign key constra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the SQL and create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bles with Enterprise Manag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348520" cy="4476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62320" y="4648320"/>
            <a:ext cx="1981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oos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505320" y="373392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200040" y="365760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2743200"/>
            <a:ext cx="2438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referenc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31240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4724280"/>
            <a:ext cx="2133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oose referenc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943600" y="380988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An Expert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time-post.com/db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it easy to create databas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data in central location, so changes can be made from almost any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mmediate detailed feedback on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must ask for a fre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and students need a Java-enabled Web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imating Database Siz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16765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(1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(1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(1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(1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OfBi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bytes per custo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s per week (wint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eks (wint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tes added per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,41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133720"/>
            <a:ext cx="472428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spread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able names as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columns for: Bytes, Rows, To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bytes per table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number of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table and overall to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Assum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752480"/>
            <a:ext cx="50292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customers per week for 25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skills per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rentals per customer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items per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percent of customers buy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items pe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manufactu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odels per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items (sizes) pe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base Table Siz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62120" y="1447920"/>
          <a:ext cx="754380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75438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ying Key Colum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5000" y="1447920"/>
            <a:ext cx="52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uncertain about which columns to k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m down and evaluate the business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133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66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66688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given order, can there ever be more than one custom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then key Customer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st businesses, only one customer per order, so 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given customer, can there ever be more than one ord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then key OrderID, otherwise, do not ke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businesses hope to get more than one order from a custom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OrderID must be key. Underline it. Since OrderID is the only k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columns belong in the Order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6386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66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Order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d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stomerID, …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quences: Introdu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it is best to let the DBMS generate a guaranteed unique key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ble must contain a single column primary key that is assigned a numeric data type, such as NUMBER(3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you will create a SEQUENCE to generate th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you will create a trigger to automatically obtain and use the generated key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kill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16560" y="251928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Style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16560" y="3016080"/>
            <a:ext cx="46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8400" y="3549600"/>
            <a:ext cx="66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customer can have one skill in many sty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style can apply to more than on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a table with both attributes as k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2400" y="4554360"/>
            <a:ext cx="46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5073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t you cannot include LastName, FirstName and so on, because then you would have to re-enter that data for each customer sk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523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ider what happens if you (incorrectly) try to place Style and SkillLevel in the Customer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tyle Skil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75248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13372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2438280"/>
            <a:ext cx="18288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2819520"/>
            <a:ext cx="18288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168120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205740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81492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19112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2286000"/>
            <a:ext cx="1067040" cy="685800"/>
          </a:xfrm>
          <a:custGeom>
            <a:avLst/>
            <a:gdLst/>
            <a:ahLst/>
            <a:rect l="l" t="t" r="r" b="b"/>
            <a:pathLst>
              <a:path w="672" h="432">
                <a:moveTo>
                  <a:pt x="0" y="0"/>
                </a:moveTo>
                <a:lnTo>
                  <a:pt x="192" y="0"/>
                </a:lnTo>
                <a:lnTo>
                  <a:pt x="192" y="432"/>
                </a:lnTo>
                <a:lnTo>
                  <a:pt x="672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2286000"/>
            <a:ext cx="838080" cy="99072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lnTo>
                  <a:pt x="240" y="624"/>
                </a:lnTo>
                <a:lnTo>
                  <a:pt x="240" y="0"/>
                </a:lnTo>
                <a:lnTo>
                  <a:pt x="52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3581280"/>
            <a:ext cx="838080" cy="762120"/>
          </a:xfrm>
          <a:custGeom>
            <a:avLst/>
            <a:gdLst/>
            <a:ahLst/>
            <a:rect l="l" t="t" r="r" b="b"/>
            <a:pathLst>
              <a:path w="528" h="480">
                <a:moveTo>
                  <a:pt x="0" y="0"/>
                </a:moveTo>
                <a:lnTo>
                  <a:pt x="240" y="0"/>
                </a:lnTo>
                <a:lnTo>
                  <a:pt x="24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2209680"/>
            <a:ext cx="5791320" cy="2133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SQL Plus and type in the CREATE TABLE Customer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column names and data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the primary k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he command runs with no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ables with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137160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12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OfBi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Customer PRIMARY KEY (CustomerID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ck_CustGe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(Upper(Gender) IN ('FEMALE', 'MALE', 'UNIDENTIFIED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1219320"/>
            <a:ext cx="1524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1828800"/>
            <a:ext cx="1524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274320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4343400"/>
            <a:ext cx="1524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733560" y="1447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34304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4952880" y="274284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47242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1981080"/>
            <a:ext cx="5410440" cy="2133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ATE TABLE commands to build the ItemModel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sure to include the CHECK constra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constraint with sample data, using a INSERT INTO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19T22:27:24Z</dcterms:modified>
  <cp:revision>26</cp:revision>
  <dc:subject/>
  <dc:title>All Powder Board and Ski</dc:title>
</cp:coreProperties>
</file>