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FE8-349A-4D18-919B-D6B72FFB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171-A530-4CE8-B6CF-08A704D5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C11-FCB7-4640-8048-F44C0213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9CA-73C6-4F39-B7F0-1FC1F1D7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DBEB-C695-494D-9B49-0E8D7C61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35E-B918-4DA3-B39A-38C4F754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AED-1F72-4583-9EE4-621450D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C287-920C-449D-832A-0E3F7509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0C46-3651-4A43-872D-18E00391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81B2-9FDD-43DA-9B78-0CE8FB3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4F40-FB01-4886-A4D8-FF4BBC3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CD2-701D-4322-B6C5-A5A733E1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FD61-EE1C-4948-ACC6-D67BE75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929A-B578-4BCB-AD65-0BCAEE6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10F2-8435-4662-9214-69E968E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167C-803A-43D0-96B7-083A4677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4F52-0EAB-4054-84FE-C5BE4CA2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584-49E4-40A5-98A9-0C9738A9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ADA-37F2-4FDD-9BB2-74B3456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793-50C9-4D45-BA36-FA377345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C5A-74CB-41AB-9B9B-520601D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1C4-A1E3-4722-84A8-C2E709AD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A30-010B-44AB-AB14-5787A0FE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6A0-9771-4F6B-8140-421A64F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4586-9A66-4C1B-8FCC-DC11C1F49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8523-0FAD-4169-A4BD-DD8A00125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3337-3B5E-4648-BFF8-365AA2A240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and Rentals on Same D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600200"/>
          <a:ext cx="7696080" cy="4191120"/>
        </p:xfrm>
        <a:graphic>
          <a:graphicData uri="http://schemas.openxmlformats.org/drawingml/2006/table">
            <a:tbl>
              <a:tblPr/>
              <a:tblGrid>
                <a:gridCol w="1077840"/>
                <a:gridCol w="6618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rental customers who also purchased items on the same da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RentDate, Rental.CustomerID, Sale.CustomerID,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R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(Rental.CustomerID = 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Rental.RentDate = Sale.Sale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NTDATE  CUSTOMERID CUSTOMERID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7-JAN-06       1291       1291 07-JA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9-NOV-06        930        930 09-NOV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-NOV-06       1629       1629 10-NOV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9F0-AB48-4FF8-AE0A-76B3C0B202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752480"/>
            <a:ext cx="7848720" cy="3810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Customer INNER JOI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ustomer.CustomerID=Sale.Custome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JOIN Rental ON Sale.CustomerID = Rental.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160-888A-4DAE-9868-0BAA2053B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Without a Purch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477800"/>
          <a:ext cx="8153640" cy="4618080"/>
        </p:xfrm>
        <a:graphic>
          <a:graphicData uri="http://schemas.openxmlformats.org/drawingml/2006/table">
            <a:tbl>
              <a:tblPr/>
              <a:tblGrid>
                <a:gridCol w="1141560"/>
                <a:gridCol w="7012080"/>
              </a:tblGrid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 customers who rented and did or did not make a purch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LastName, FirstName, Sale.CustomerID, Rental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(Customer INNER JOIN Sale ON Customer.CustomerID=Sale.CustomerI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LEFT JOIN Rental ON Sale.CustomerID=Rental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LastName, FirstName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     FIRSTNAME       CUSTOMERID 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--- ---------- 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el            Marshall              1406       1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el            Marshall              1406       1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el            Melinda               1467       1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Abrams          Marc                   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kins          April                  413       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kins          Manuel                1499       1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drich         Jewell                 142        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drich         Jewell                 142        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587-9FDB-4F90-A23A-243E01F0BD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8001000" cy="3048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ustomerID Not In (SELECT CustomerID FROM Ren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08C-E63E-48B2-A48B-C9AD0FA25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urchase but Never Ren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523880"/>
          <a:ext cx="7620120" cy="4427640"/>
        </p:xfrm>
        <a:graphic>
          <a:graphicData uri="http://schemas.openxmlformats.org/drawingml/2006/table">
            <a:tbl>
              <a:tblPr/>
              <a:tblGrid>
                <a:gridCol w="1109880"/>
                <a:gridCol w="651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who bought items but never ren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LastName, FirstName, Customer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 = 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Customer.CustomerID NOT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(SELECT CustomerID FROM Rent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LastName, FirstName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     FIRSTNAME       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dez          Marsha                19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nce           Dominic                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incent         Ishel                   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alker          Beth                  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ard            Seth                  1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8 rows selec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7A0-0A65-48FB-B2E5-0217E6F450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523880"/>
          <a:ext cx="7315200" cy="4616280"/>
        </p:xfrm>
        <a:graphic>
          <a:graphicData uri="http://schemas.openxmlformats.org/drawingml/2006/table">
            <a:tbl>
              <a:tblPr/>
              <a:tblGrid>
                <a:gridCol w="1301040"/>
                <a:gridCol w="601416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antity on hand by 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ModelID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ModelID, Sum(QuantityOnHand) As SumOfQuantityOnH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Sum(QuantityOnHand) DESC 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ELID    SUM(QUANTITYONHA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DV-720                    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CG-584                    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XY-385                    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DK-181                    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KU-321                    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HQ-568                    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TE-526                    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CC7-6DAC-4730-B2DF-6EC42BFCAB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371600"/>
            <a:ext cx="769608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 and Sum(QuantityOnHa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y the Sum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it as ModelsOn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table: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ID, CategoryName, LowLimit, HighLim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data from Figure 5.10 (nex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D62-6BF7-4C38-A335-02A4780D97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289520"/>
                <a:gridCol w="693972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a for the new SalesCategory t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1, 'Hot', 0, 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2, 'Good', 6, 1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3, 'OK', 10, 2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4, 'Weak', 20, 4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5, 'Slow', 40, 100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* FROM SalesCategor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ID CATEGORYNAME      LOWLIMIT  HIGH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Hot                      0         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 Good                     6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 OK                      10        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 Weak                    20        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Slow                    40      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9ED-8EBC-4BA6-AD92-97905B8015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1520" y="2284560"/>
            <a:ext cx="678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ID    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Name  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Limit      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mit     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SalesCategory PRIMARY KEY(Category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977-9890-4172-82C6-BCFE175919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828800"/>
            <a:ext cx="617220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ModelsOnHand and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inequality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06A-B174-4F11-9924-C9CAA0BE8A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10280" cy="47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015-0E18-4704-83E1-1305EDE33E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523880"/>
          <a:ext cx="8686800" cy="4321080"/>
        </p:xfrm>
        <a:graphic>
          <a:graphicData uri="http://schemas.openxmlformats.org/drawingml/2006/table">
            <a:tbl>
              <a:tblPr/>
              <a:tblGrid>
                <a:gridCol w="1111320"/>
                <a:gridCol w="757548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Models categorized based on quantity on ha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ModelID, SumOfQuantityOnHand, SalesCategory.CategoryID, Category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ModelsOnHand INNER JOIN SalesCateg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ON (ModelsOnHand.SumOfQuantityOnHand &gt;= SalesCategory.LowLim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(ModelsOnHand.SumOfQuantityOnHand &lt; SalesCategory.HighLim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ELID    SUMOFQUANTITYONHAND CATEGORYID CATEGORY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---- 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W-975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UW-452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R-904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KT-115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SB-825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ZX-852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many rows not show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5AE-4953-488D-9F22-CCCC20980B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1600200"/>
          <a:ext cx="8534160" cy="4267080"/>
        </p:xfrm>
        <a:graphic>
          <a:graphicData uri="http://schemas.openxmlformats.org/drawingml/2006/table">
            <a:tbl>
              <a:tblPr/>
              <a:tblGrid>
                <a:gridCol w="1109160"/>
                <a:gridCol w="742500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unt the number of models in each sales categor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sCategory.CategoryID, CategoryName,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Count(ModelI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ModelsOnHand INNER JOIN SalesCateg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(ModelsOnHand.SumOfQuantityOnHand &gt;= SalesCategory.LowLim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(ModelsOnHand.SumOfQuantityOnHand &lt; SalesCategory.HighLim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SalesCategory.CategoryID, CategoryName 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ID CATEGORYNAME    COUNT(MODELI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Hot                        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 Good                      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 OK                         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 Weak                        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Slow                        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172-816D-4BD4-B722-7B1C3F6A45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391160" cy="4495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January sale date in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entir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word U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and name to M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CAE-53D2-4BAF-B69C-FA6CB9B2E3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577880"/>
          <a:ext cx="7772400" cy="4441680"/>
        </p:xfrm>
        <a:graphic>
          <a:graphicData uri="http://schemas.openxmlformats.org/drawingml/2006/table">
            <a:tbl>
              <a:tblPr/>
              <a:tblGrid>
                <a:gridCol w="1052640"/>
                <a:gridCol w="6719760"/>
              </a:tblGrid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who bought items in January or Mar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ustomer.CustomerID, LastName, FirstName,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'Jan' As Sale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 = Sale.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Jan-2006' AND '31-Jan-2006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UN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ustomer.CustomerID, LastName, FirstName,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'Mar' As Sale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 = Sale.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Mar-2006' AND '31-Mar-2006'  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USTOMERID LASTNAME        FIRSTNAME       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----- 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 Bell            Leslie          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3 Richmond        Hershel         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9 Forbes          Horace          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2 Shelton         Kelly           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many rows not show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446-4E97-41B3-A199-F077591C6F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905120"/>
            <a:ext cx="525780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03B-9DC1-40C8-BD44-159F44048F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 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 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A30-C186-4B9C-A1CE-F65085A6B0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905120"/>
            <a:ext cx="56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MyTemp PRIMARY KEY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72D-C61A-4FA2-9C6B-31EF1F43C4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828800"/>
            <a:ext cx="723924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INSERT command: INSERT INTO Customer (CustomerID, LastName, FirstName, City, Gender) VALUES (4000, 'Jones', 'Jack', 'Nowhere', 'Male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2DE-EEF9-4170-9E69-5A1CCB9AE5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9810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stomerID, 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4000, 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3920" y="4303800"/>
            <a:ext cx="52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 7 shows how to create sequences so CustomerID is gen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DA1-18F7-4248-B733-5DC86CC641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415-71BF-4C3A-9603-5DFA6A52DC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371600"/>
          <a:ext cx="7601040" cy="5100480"/>
        </p:xfrm>
        <a:graphic>
          <a:graphicData uri="http://schemas.openxmlformats.org/drawingml/2006/table">
            <a:tbl>
              <a:tblPr/>
              <a:tblGrid>
                <a:gridCol w="1030320"/>
                <a:gridCol w="657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otal purchases by custom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alesValue Format $999,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ustomer.CustomerID, LastName, FirstNam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um(QuantitySold*SalePrice) As 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=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 ON Sale.SaleID=SaleItem.Sal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Customer.CustomerID&lt;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Customer.CustomerID, LastName, 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USTOMERID LASTNAME        FIRSTNAME         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 Rice            Charlotte             $9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 Embry           Jahala               $25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 Bell            Leslie             $1,11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 Jantzen         William              $47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DF6-7311-414D-8A89-EE818CAA14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523880"/>
            <a:ext cx="7238880" cy="457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ModelYear, and Rounc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tem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 Category=’Board’ And ModelYear=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first two lin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st = Round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061-7E21-48DC-9947-D28F1E018A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52280"/>
                <a:gridCol w="7176960"/>
              </a:tblGrid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crease the cost of snow boards by four percent for 200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ModelYear, Round(Cost*1.0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Board' AND ModelYear=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-- run the top query first, then edit it to make the actual chan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UPDATE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T Cost = Round(Cost*1.0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Board' AND ModelYear=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8 rows upda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650-6FB7-4937-88D6-3A4873FFE8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676520"/>
            <a:ext cx="6629400" cy="4114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: SELECT * FROM MyTemp WHERE ID &gt;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ELECT row to DE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 commit;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B01-F879-496F-A7BA-5005765FDC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0520"/>
                <a:gridCol w="6588360"/>
              </a:tblGrid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lete sample row from the MyTemp t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-- SELECT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My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ID &gt; 1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mi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D LNAME                     F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84 Cherry                    Lo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row dele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QL&gt; Commi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mmit comple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903-224D-4A26-A85A-C473C12022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6C3-8782-4F8E-867C-A3BA8F4140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1828800"/>
            <a:ext cx="632448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Sum(RentFe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, RentItem, Inventory, and Item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A17-7A89-45BA-9F3B-B00B11E995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599000"/>
        </p:xfrm>
        <a:graphic>
          <a:graphicData uri="http://schemas.openxmlformats.org/drawingml/2006/table">
            <a:tbl>
              <a:tblPr/>
              <a:tblGrid>
                <a:gridCol w="1106640"/>
                <a:gridCol w="712296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how rental totals by category for a specified time peri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Sum(RentFee) AS SumOfRent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R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RentItem ON Rental.RentID=RentItem.Rent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Inventory ON RentItem.SKU=Inventory.S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ItemModel ON Inventory.ModelID=ItemModel.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RentDate Between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’01-Jan-2006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nd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’31-Mar-2006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ROUP BY Categor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 SUMOFRENT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  18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ts               14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ectronic           1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les                 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ck                  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         37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8CD-B321-45F6-9E44-350D7A1B1A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676520"/>
            <a:ext cx="7543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r paste the code to create the package and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ackage creation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five commands to execute the parameter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dates to Oct-D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627-E422-494D-B772-3AB7CCB7FE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: Pack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600200"/>
            <a:ext cx="7924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ACKAGE pckCategoryFe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ypeCategoryFees IS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Categ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OfRent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(8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ypeCursorFees IS REF CURSOR RETURN typeCategoryFe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GetCategory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T typeCursor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AB2-5192-4040-9409-E973A022B0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ckage Bod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365120"/>
            <a:ext cx="716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ACKAGE BODY pckCategoryFe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GetCategory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T typeCursor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vFee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Sum(RentFee) AS SumOf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RentItem INNER JOIN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al.RentID=RentItem.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Date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ateg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131-3E2B-4ED4-9CF1-C5E806A1A3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600200"/>
            <a:ext cx="624852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, Sale, Sale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Sum(QuantitySold*SalePrice) AS Sales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the other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a view Customer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vg(SalesValue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8C0-F53F-4194-A253-296F4F721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4548240"/>
        </p:xfrm>
        <a:graphic>
          <a:graphicData uri="http://schemas.openxmlformats.org/drawingml/2006/table">
            <a:tbl>
              <a:tblPr/>
              <a:tblGrid>
                <a:gridCol w="1062000"/>
                <a:gridCol w="71676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Use the parameterized procedure to display rental totals for specified d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umOfRentFee Format $999,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T AUTOPRINT 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VARIABLE cv REFCUR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ECUTE pckCategoryFees.GetCategoryFees('01-Jan-2006'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'31-Mar-2006', :cv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5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    SUMOFRENT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$18,66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ts             $14,3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ectronic         $1,3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les                $79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ck                 $42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       $37,9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98B-1282-4E46-8804-8EEC3486D12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600200"/>
          <a:ext cx="7467480" cy="4010040"/>
        </p:xfrm>
        <a:graphic>
          <a:graphicData uri="http://schemas.openxmlformats.org/drawingml/2006/table">
            <a:tbl>
              <a:tblPr/>
              <a:tblGrid>
                <a:gridCol w="1045440"/>
                <a:gridCol w="642204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average total purchases for custom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Avg(SalesValue) As AvgOf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CustomerSale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GOF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42.11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DE4-B6FE-4D22-8A98-4936F7466E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05120"/>
            <a:ext cx="6933960" cy="3276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Sales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for Sales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(SELECT Avg(SalesValue) FROM CustomerSa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BB8-F86E-45CC-B9C0-9746501D7D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447920"/>
          <a:ext cx="7772400" cy="4111560"/>
        </p:xfrm>
        <a:graphic>
          <a:graphicData uri="http://schemas.openxmlformats.org/drawingml/2006/table">
            <a:tbl>
              <a:tblPr/>
              <a:tblGrid>
                <a:gridCol w="1152360"/>
                <a:gridCol w="662004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who purchased more than the average custom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LECT LastName, FirstName, 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OM Customer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HERE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SalesValue 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(SELECT Avg(SalesValue) FROM CustomerS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DER BY SalesValue DESC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     FIRSTNAME         SALES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--- ---------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yons           Chester            $3,56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ines           Arlene             $2,81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xon           Carol              $2,78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illespie       Audrey             $2,70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'Connor        Carlos             $2,67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d            Manuel             $2,66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ash            Joseph             $2,60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only the top 7 are show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471-629E-488A-B22D-BCB05B951A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1447920"/>
          <a:ext cx="7848720" cy="4525920"/>
        </p:xfrm>
        <a:graphic>
          <a:graphicData uri="http://schemas.openxmlformats.org/drawingml/2006/table">
            <a:tbl>
              <a:tblPr/>
              <a:tblGrid>
                <a:gridCol w="1152360"/>
                <a:gridCol w="66963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rental customers who also purchased items, at any ti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RentDate, Rental.CustomerID, Sale.CustomerID,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R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INNER JOIN Sale ON Rental.CustomerID = 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NTDATE  CUSTOMERID CUSTOMERID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-MAR-06       1161       1161 23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6-NOV-06       1850       1850 13-NOV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4-MAR-06       1826       1826 02-JA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4-NOV-06        284        284 30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-JAN-06       1768       1768 19-MAR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4-MAR-06        337        337 10-AUG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04 rows selec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71D-98EC-43CB-97F2-8B752E7A9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676520"/>
            <a:ext cx="769644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the tables on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join between the tables on RentDate=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EAD-3AE9-4CE3-9843-4DA46913AF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20:51:58Z</dcterms:modified>
  <cp:revision>47</cp:revision>
  <dc:subject/>
  <dc:title>All Powder Board and Ski</dc:title>
</cp:coreProperties>
</file>