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250-6785-4041-8594-57DE1963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349-A23D-4FF0-841C-03652C67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CEC-CFF8-4D24-B6D4-43AB875A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DBD-6C3A-4C02-9CDF-A857AFFC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A31-F6B9-4109-AFFB-EEB831B4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2CE6-199A-4E4F-89D8-875CABA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D17-44C8-464C-9505-B531475D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A4D7-279B-485B-B7CD-E0B0B914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78F6-5561-4444-95E2-3E52051B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8D4-94B7-45D6-84EA-6E5AD8C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DB21-860D-4246-8863-CD6B05D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B50-949F-4AC7-84B5-761094D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364-98D8-49BF-8C2C-782CEF6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1FE-90C0-4256-B794-4B85A119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7A8-F2BA-4A15-8895-FD2DFE6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AE1A-931D-4FA4-89FF-1CFD300E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8B6E-34DD-40DF-8CF0-614F5705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759-F744-4EF4-87B9-4C31070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6B1-3E23-4D9A-8B93-5BE12D8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9ED-F573-4041-9B9D-F06354F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853-911E-4813-926B-7FE0A01A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F33-FD8C-4F0A-9A0A-229D9DF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2F6-4C5C-42B9-9697-0EC0105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A15-0056-4D4B-90C5-1C0708E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5258-F250-426A-9C80-B8F172864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D42A-FC13-4343-B691-C1EB65762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1E14-1A91-4A74-876B-C88AF9FD70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plica: Deployment: Master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614920" cy="4419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638680" y="1676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502920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876920" y="18288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42667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276720" y="4572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50292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87F-A7A6-4FAF-B105-4B6898B856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: Create 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817640" y="1600200"/>
            <a:ext cx="5508720" cy="4419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257800" y="16765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876560" y="205740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09680" y="4952880"/>
            <a:ext cx="914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124080" y="44956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04C-FDEB-4679-8082-B4D96E3CC3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Template: Sch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816200" y="1600200"/>
            <a:ext cx="55101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390-C3B9-476A-B7E7-D81B90707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Materialized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31320" y="3107880"/>
            <a:ext cx="72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TERIALIZED VIEW Powder.Customer FOR UPDAT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Powder.Customer@host_database_li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733-9CDC-4C53-AEEC-3D00BB94D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ent Side MV and Refresh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99360" cy="4419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343400" y="487692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refres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580920" y="4952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1752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409720" y="1905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289548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94360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BAD-B364-4677-B63E-C190AB68FA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JDeveloper: Model-View-Control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47760"/>
            <a:ext cx="12193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14400" y="290988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2833560"/>
            <a:ext cx="45720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275760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268128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604960"/>
            <a:ext cx="45720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4280" y="3062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94080" y="2797200"/>
            <a:ext cx="19368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64600" y="2685240"/>
            <a:ext cx="636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64240" y="3218760"/>
            <a:ext cx="10814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35520" y="4052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9920" y="2071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24526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26812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29098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2920" y="3214800"/>
            <a:ext cx="9903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487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0100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3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162920" y="3443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3519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2920" y="35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2920" y="36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224080"/>
            <a:ext cx="152388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452680"/>
            <a:ext cx="1219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21640" y="2990160"/>
            <a:ext cx="10814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91320" y="2300400"/>
            <a:ext cx="8380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25320" y="3914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5960" y="3914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165080" y="3914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1447560" y="283356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1447560" y="2986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743200" y="27572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124080" y="3138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22800" y="2833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81480" y="2681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248520" y="252864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138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248520" y="329076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D0D-CCC1-4F36-8421-C2875B5C8B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Developer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48720" y="2672640"/>
            <a:ext cx="636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9360" y="3200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08360" y="2672640"/>
            <a:ext cx="1130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5360" y="32004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117440" y="1981080"/>
            <a:ext cx="406440" cy="83844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528"/>
                </a:moveTo>
                <a:cubicBezTo>
                  <a:pt x="144" y="452"/>
                  <a:pt x="32" y="376"/>
                  <a:pt x="16" y="288"/>
                </a:cubicBezTo>
                <a:cubicBezTo>
                  <a:pt x="0" y="200"/>
                  <a:pt x="80" y="100"/>
                  <a:pt x="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1981080"/>
            <a:ext cx="406440" cy="83844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528"/>
                </a:moveTo>
                <a:cubicBezTo>
                  <a:pt x="144" y="452"/>
                  <a:pt x="32" y="376"/>
                  <a:pt x="16" y="288"/>
                </a:cubicBezTo>
                <a:cubicBezTo>
                  <a:pt x="0" y="200"/>
                  <a:pt x="80" y="100"/>
                  <a:pt x="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17280" y="1676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41160" y="1676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43360" y="1981080"/>
            <a:ext cx="990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93240" y="32004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(J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81960" y="5065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081-E25A-44B0-8F4C-AF4E42F5E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1752480"/>
            <a:ext cx="6476760" cy="3124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JDeveloper and install it by unzipping the files into a new folder on your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JDeveloper with the jdevw.exe file in the jdev\bin folder that you inst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nnections tab, and right-click the Database node to build a new databas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pplications tab, and right-click the Application node to create a new application work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1E8-ECC8-41C9-8AA5-434E4F7DC7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Developer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49611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914400" y="495288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676520" y="43430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6765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560" y="1905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2895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809880" y="28191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621-9D83-4428-8FB4-A9DF8AA62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1752480"/>
            <a:ext cx="6476760" cy="3124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Model node, pick N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Business Tier, choose Business Components, and Business Components fro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wizard to pick your Sale and SaleIte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p the updateable screen, but pick Sale and SaleItem again for the Read-Only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7C4-5CCA-4560-88F0-F27FAB3BE0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9160" y="2354400"/>
            <a:ext cx="3594240" cy="546120"/>
          </a:xfrm>
          <a:custGeom>
            <a:avLst/>
            <a:gdLst/>
            <a:ahLst/>
            <a:rect l="l" t="t" r="r" b="b"/>
            <a:pathLst>
              <a:path w="2264" h="344">
                <a:moveTo>
                  <a:pt x="2264" y="344"/>
                </a:moveTo>
                <a:cubicBezTo>
                  <a:pt x="2224" y="232"/>
                  <a:pt x="2184" y="120"/>
                  <a:pt x="2024" y="104"/>
                </a:cubicBezTo>
                <a:cubicBezTo>
                  <a:pt x="1864" y="88"/>
                  <a:pt x="1520" y="264"/>
                  <a:pt x="1304" y="248"/>
                </a:cubicBezTo>
                <a:cubicBezTo>
                  <a:pt x="1088" y="232"/>
                  <a:pt x="936" y="16"/>
                  <a:pt x="728" y="8"/>
                </a:cubicBezTo>
                <a:cubicBezTo>
                  <a:pt x="520" y="0"/>
                  <a:pt x="112" y="160"/>
                  <a:pt x="56" y="200"/>
                </a:cubicBezTo>
                <a:cubicBezTo>
                  <a:pt x="0" y="240"/>
                  <a:pt x="196" y="244"/>
                  <a:pt x="3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633760"/>
            <a:ext cx="1231920" cy="2781360"/>
          </a:xfrm>
          <a:custGeom>
            <a:avLst/>
            <a:gdLst/>
            <a:ahLst/>
            <a:rect l="l" t="t" r="r" b="b"/>
            <a:pathLst>
              <a:path w="776" h="1752">
                <a:moveTo>
                  <a:pt x="0" y="264"/>
                </a:moveTo>
                <a:cubicBezTo>
                  <a:pt x="8" y="212"/>
                  <a:pt x="16" y="160"/>
                  <a:pt x="96" y="120"/>
                </a:cubicBezTo>
                <a:cubicBezTo>
                  <a:pt x="176" y="80"/>
                  <a:pt x="384" y="32"/>
                  <a:pt x="480" y="24"/>
                </a:cubicBezTo>
                <a:cubicBezTo>
                  <a:pt x="576" y="16"/>
                  <a:pt x="656" y="0"/>
                  <a:pt x="672" y="72"/>
                </a:cubicBezTo>
                <a:cubicBezTo>
                  <a:pt x="688" y="144"/>
                  <a:pt x="648" y="312"/>
                  <a:pt x="576" y="456"/>
                </a:cubicBezTo>
                <a:cubicBezTo>
                  <a:pt x="504" y="600"/>
                  <a:pt x="208" y="816"/>
                  <a:pt x="240" y="936"/>
                </a:cubicBezTo>
                <a:cubicBezTo>
                  <a:pt x="272" y="1056"/>
                  <a:pt x="760" y="1040"/>
                  <a:pt x="768" y="1176"/>
                </a:cubicBezTo>
                <a:cubicBezTo>
                  <a:pt x="776" y="1312"/>
                  <a:pt x="532" y="1532"/>
                  <a:pt x="288" y="17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33216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64"/>
                </a:moveTo>
                <a:cubicBezTo>
                  <a:pt x="52" y="60"/>
                  <a:pt x="104" y="56"/>
                  <a:pt x="144" y="64"/>
                </a:cubicBezTo>
                <a:cubicBezTo>
                  <a:pt x="184" y="72"/>
                  <a:pt x="184" y="120"/>
                  <a:pt x="240" y="112"/>
                </a:cubicBezTo>
                <a:cubicBezTo>
                  <a:pt x="296" y="104"/>
                  <a:pt x="416" y="32"/>
                  <a:pt x="480" y="16"/>
                </a:cubicBezTo>
                <a:cubicBezTo>
                  <a:pt x="544" y="0"/>
                  <a:pt x="592" y="8"/>
                  <a:pt x="624" y="16"/>
                </a:cubicBezTo>
                <a:cubicBezTo>
                  <a:pt x="656" y="24"/>
                  <a:pt x="664" y="44"/>
                  <a:pt x="67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395520"/>
            <a:ext cx="457200" cy="266760"/>
          </a:xfrm>
          <a:custGeom>
            <a:avLst/>
            <a:gdLst/>
            <a:ahLst/>
            <a:rect l="l" t="t" r="r" b="b"/>
            <a:pathLst>
              <a:path w="288" h="168">
                <a:moveTo>
                  <a:pt x="0" y="24"/>
                </a:moveTo>
                <a:cubicBezTo>
                  <a:pt x="72" y="12"/>
                  <a:pt x="144" y="0"/>
                  <a:pt x="192" y="24"/>
                </a:cubicBezTo>
                <a:cubicBezTo>
                  <a:pt x="240" y="48"/>
                  <a:pt x="264" y="108"/>
                  <a:pt x="28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196320" y="3513960"/>
            <a:ext cx="675720" cy="773280"/>
            <a:chOff x="6196320" y="3513960"/>
            <a:chExt cx="675720" cy="773280"/>
          </a:xfrm>
        </p:grpSpPr>
        <p:sp>
          <p:nvSpPr>
            <p:cNvPr id="102" name=""/>
            <p:cNvSpPr/>
            <p:nvPr/>
          </p:nvSpPr>
          <p:spPr>
            <a:xfrm>
              <a:off x="6196320" y="4067640"/>
              <a:ext cx="67356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0560" y="351504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11520" y="396180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68920" y="412308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07840" y="4107240"/>
              <a:ext cx="63180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8360" y="412200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9720" y="415116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15040" y="4062600"/>
              <a:ext cx="64548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5680" y="403488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5680" y="404028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960" y="403740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7880" y="4098960"/>
              <a:ext cx="38448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960" y="407700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3920" y="352764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80920" y="3527640"/>
              <a:ext cx="45288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9320" y="3596040"/>
              <a:ext cx="37836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94960" y="351468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8400" y="351396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7800" y="3967560"/>
              <a:ext cx="51336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2360" y="4082400"/>
              <a:ext cx="35856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1800" y="4058280"/>
              <a:ext cx="66024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0800" y="4113360"/>
              <a:ext cx="60876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840" y="412056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6840" y="418680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1320" y="413748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3800" y="413928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2760" y="412812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8560" y="3526920"/>
              <a:ext cx="49104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78640" y="413856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7840" y="412344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9240" y="413064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41526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0480" y="426600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00" y="357696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44280" y="3595680"/>
              <a:ext cx="39204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98240" y="426600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6000" y="4265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3760" y="4265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4264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49280" y="42645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70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44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840" y="42638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426348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7360" y="426348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51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0280" y="4262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3840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616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1320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096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720" y="42620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6480" y="4261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4240" y="4260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1640" y="42606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9400" y="4260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27520" y="42602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14920" y="42602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2320" y="42595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0080" y="4259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840" y="42591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5600" y="425880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300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076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8520" y="4258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6640" y="425772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3680" y="4257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1440" y="42570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200" y="425664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696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47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21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988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7640" y="4255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540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280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056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8320" y="42552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56080" y="42548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348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3124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2160" y="4136040"/>
              <a:ext cx="62712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0560" y="360648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9720" y="4132440"/>
              <a:ext cx="20268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3880" y="397620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05800" y="3209040"/>
            <a:ext cx="676080" cy="773640"/>
            <a:chOff x="6805800" y="3209040"/>
            <a:chExt cx="676080" cy="773640"/>
          </a:xfrm>
        </p:grpSpPr>
        <p:sp>
          <p:nvSpPr>
            <p:cNvPr id="189" name=""/>
            <p:cNvSpPr/>
            <p:nvPr/>
          </p:nvSpPr>
          <p:spPr>
            <a:xfrm>
              <a:off x="6805800" y="37630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90400" y="32101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1000" y="36568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8760" y="38181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7320" y="38023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7840" y="38170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560" y="38466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4880" y="37580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37303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5520" y="37357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3800" y="37328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7944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44800" y="37724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03400" y="32227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0400" y="32227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160" y="32911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04440" y="32097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88240" y="32090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7280" y="36626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81840" y="37778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1280" y="37537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0280" y="38084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5680" y="38156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6320" y="38822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0800" y="38329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3280" y="38347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2240" y="38235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8040" y="32220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8480" y="38340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7680" y="38185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9080" y="38257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8440" y="38480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0320" y="39614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5840" y="32720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3760" y="32907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8080" y="39614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5480" y="3961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240" y="3960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71000" y="3960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9120" y="39600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46880" y="39600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4280" y="39596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1680" y="3959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440" y="39589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0" y="39589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460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236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0120" y="39582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82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56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23040" y="3957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10800" y="39571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8560" y="39571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85960" y="3956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3720" y="39564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1480" y="39560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49240" y="39556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37000" y="39556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4400" y="3955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12160" y="39549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9920" y="39546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7320" y="3954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75080" y="39542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284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5060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8360" y="39538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6120" y="39531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952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1280" y="39524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9040" y="39520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644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420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5196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972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7120" y="3951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488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2640" y="3950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90400" y="3950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7780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556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332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108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21640" y="38314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0400" y="33015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9560" y="38278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53720" y="36712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15280" y="2904480"/>
            <a:ext cx="676080" cy="773280"/>
            <a:chOff x="7415280" y="2904480"/>
            <a:chExt cx="676080" cy="773280"/>
          </a:xfrm>
        </p:grpSpPr>
        <p:sp>
          <p:nvSpPr>
            <p:cNvPr id="276" name=""/>
            <p:cNvSpPr/>
            <p:nvPr/>
          </p:nvSpPr>
          <p:spPr>
            <a:xfrm>
              <a:off x="7415280" y="345816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99880" y="290556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30480" y="335232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88240" y="351360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26800" y="349776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7320" y="351252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99040" y="354168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34360" y="345312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5000" y="342540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95000" y="343080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3280" y="342792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7200" y="348948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4280" y="346752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2880" y="291816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9880" y="291816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68640" y="298656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3920" y="290520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7720" y="290448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6760" y="335808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1320" y="347292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0760" y="344880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9760" y="350388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5160" y="351108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35800" y="357732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0280" y="35280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2760" y="352980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1720" y="351864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17520" y="291744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97960" y="352908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7160" y="351396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8560" y="352116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7920" y="354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9800" y="365652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5320" y="296748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3240" y="298620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17560" y="365652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4960" y="3656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92720" y="3655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0480" y="3655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68600" y="365508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63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437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1160" y="3654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18920" y="365400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6680" y="365400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408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8184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69600" y="3653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577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51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52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2028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08040" y="36525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5440" y="36518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3200" y="3651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0960" y="3651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8720" y="3650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46480" y="3650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33880" y="36507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21640" y="3650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9400" y="3649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800" y="36496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4560" y="3649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7232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6008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47840" y="3648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5600" y="364824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3000" y="36482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0760" y="36475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8520" y="364716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8592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368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6144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4920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36600" y="3646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2436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212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988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7280" y="3645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5040" y="3645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280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5056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1120" y="3526560"/>
              <a:ext cx="62748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9880" y="299700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9040" y="352296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63200" y="336672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4748400" y="4809240"/>
            <a:ext cx="676080" cy="773640"/>
            <a:chOff x="4748400" y="4809240"/>
            <a:chExt cx="676080" cy="773640"/>
          </a:xfrm>
        </p:grpSpPr>
        <p:sp>
          <p:nvSpPr>
            <p:cNvPr id="364" name=""/>
            <p:cNvSpPr/>
            <p:nvPr/>
          </p:nvSpPr>
          <p:spPr>
            <a:xfrm>
              <a:off x="4748400" y="53632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3000" y="48103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63600" y="52570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21360" y="54183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9920" y="54025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60440" y="54172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32160" y="54468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7480" y="53582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28120" y="53305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8120" y="53359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26400" y="53330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00320" y="53946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87400" y="53726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6000" y="48229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3000" y="48229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1760" y="48913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47040" y="48099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0840" y="48092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99880" y="52628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4440" y="53780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3880" y="53539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72880" y="54086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8280" y="54158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8920" y="54824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3400" y="543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5880" y="54349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74840" y="54237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50640" y="48222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31080" y="54342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0280" y="54187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41680" y="54259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51040" y="54482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2920" y="55616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8440" y="48722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96360" y="48909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50680" y="55616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8080" y="5561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5840" y="5560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3600" y="5560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01720" y="55602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9480" y="5560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6880" y="55598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4280" y="5559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2040" y="55591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9800" y="55591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720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496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2720" y="55584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908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782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65640" y="5557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3400" y="55573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5557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28560" y="5556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16320" y="5556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4080" y="5556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91840" y="5555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9600" y="55558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7000" y="55555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54760" y="5555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2520" y="5554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9920" y="5554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7680" y="5554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0544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9320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0960" y="55540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55533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6120" y="55530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3880" y="5552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1640" y="55522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904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680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9456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232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9720" y="55515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748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5240" y="55508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3000" y="5550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2040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816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592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68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64240" y="54316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3000" y="49017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2160" y="54280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6320" y="52714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646360"/>
            <a:ext cx="1892160" cy="863640"/>
          </a:xfrm>
          <a:custGeom>
            <a:avLst/>
            <a:gdLst/>
            <a:ahLst/>
            <a:rect l="l" t="t" r="r" b="b"/>
            <a:pathLst>
              <a:path w="1192" h="544">
                <a:moveTo>
                  <a:pt x="0" y="256"/>
                </a:moveTo>
                <a:cubicBezTo>
                  <a:pt x="40" y="176"/>
                  <a:pt x="80" y="96"/>
                  <a:pt x="192" y="64"/>
                </a:cubicBezTo>
                <a:cubicBezTo>
                  <a:pt x="304" y="32"/>
                  <a:pt x="600" y="0"/>
                  <a:pt x="672" y="64"/>
                </a:cubicBezTo>
                <a:cubicBezTo>
                  <a:pt x="744" y="128"/>
                  <a:pt x="552" y="376"/>
                  <a:pt x="624" y="448"/>
                </a:cubicBezTo>
                <a:cubicBezTo>
                  <a:pt x="696" y="520"/>
                  <a:pt x="1016" y="480"/>
                  <a:pt x="1104" y="496"/>
                </a:cubicBezTo>
                <a:cubicBezTo>
                  <a:pt x="1192" y="512"/>
                  <a:pt x="1172" y="528"/>
                  <a:pt x="1152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92120" y="2976480"/>
            <a:ext cx="3927600" cy="2233800"/>
          </a:xfrm>
          <a:custGeom>
            <a:avLst/>
            <a:gdLst/>
            <a:ahLst/>
            <a:rect l="l" t="t" r="r" b="b"/>
            <a:pathLst>
              <a:path w="2474" h="1407">
                <a:moveTo>
                  <a:pt x="2474" y="0"/>
                </a:moveTo>
                <a:cubicBezTo>
                  <a:pt x="2342" y="100"/>
                  <a:pt x="2210" y="200"/>
                  <a:pt x="1850" y="288"/>
                </a:cubicBezTo>
                <a:cubicBezTo>
                  <a:pt x="1490" y="376"/>
                  <a:pt x="621" y="416"/>
                  <a:pt x="314" y="528"/>
                </a:cubicBezTo>
                <a:cubicBezTo>
                  <a:pt x="7" y="640"/>
                  <a:pt x="0" y="816"/>
                  <a:pt x="5" y="962"/>
                </a:cubicBezTo>
                <a:cubicBezTo>
                  <a:pt x="10" y="1108"/>
                  <a:pt x="272" y="1314"/>
                  <a:pt x="342" y="1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87800" y="1976400"/>
            <a:ext cx="484200" cy="843120"/>
          </a:xfrm>
          <a:custGeom>
            <a:avLst/>
            <a:gdLst/>
            <a:ahLst/>
            <a:rect l="l" t="t" r="r" b="b"/>
            <a:pathLst>
              <a:path w="305" h="531">
                <a:moveTo>
                  <a:pt x="305" y="531"/>
                </a:moveTo>
                <a:cubicBezTo>
                  <a:pt x="245" y="495"/>
                  <a:pt x="164" y="451"/>
                  <a:pt x="113" y="387"/>
                </a:cubicBezTo>
                <a:cubicBezTo>
                  <a:pt x="62" y="323"/>
                  <a:pt x="2" y="208"/>
                  <a:pt x="1" y="146"/>
                </a:cubicBezTo>
                <a:cubicBezTo>
                  <a:pt x="0" y="84"/>
                  <a:pt x="58" y="32"/>
                  <a:pt x="109" y="16"/>
                </a:cubicBezTo>
                <a:cubicBezTo>
                  <a:pt x="160" y="0"/>
                  <a:pt x="264" y="44"/>
                  <a:pt x="305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AB0-859B-4484-A1D6-EBAB84338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siness Compon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971800" y="45720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4038120" y="40384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419720" y="3657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088-6FEC-40AE-88E1-0A72446EFC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1752480"/>
            <a:ext cx="647676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ViewController and pick New to add a Web JavaServer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title to the page and assign the Heading 1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JDeveloper CSS style sheet onto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HTML form to the page, enter labels, and drag SaleID, SaleDate, and CustomerID on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ABA-0115-46FA-B834-0691D0C29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19320" y="1752480"/>
            <a:ext cx="647676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Operations node and drag Previous and Next buttons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aleItemView2 onto the page below the form as a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ViewController and select Run to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16B-11CB-4D35-BFE6-5276F8BAD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81960" cy="52498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981080" y="45720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to ad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1752480" y="335232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464832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or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4191120" y="4343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495680" y="3200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76920" y="274320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5181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05520" y="14479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248520" y="1828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190760" y="18288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4120" y="457200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24480" y="4191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581960" cy="52498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981080" y="45720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to ad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1752480" y="335232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33920" y="464832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or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191120" y="4343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4495680" y="3200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76920" y="274320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181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14479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48520" y="1828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190760" y="18288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457200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324480" y="4191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82B-5749-422E-9948-08F12B73E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47880" y="1523880"/>
            <a:ext cx="4543560" cy="47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ADB-6C91-4A94-A9F5-905AE5D92D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 table 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SaleView, select Sale and Customer as Entity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Customer as not Updateable, but set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tributes to add LastName and FirstName to the Sal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Firstname and Lastname onto the browseSales.jsp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F5F-2C54-4EF4-9441-A5C2CCD430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View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62120" y="1447920"/>
          <a:ext cx="7238880" cy="466236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.SALE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ALED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CUSTOMER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EMPLOYEE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ADDRES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CIT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ST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ZI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ALESTAX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PAYMENTMETHO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CUSTOMERID CUSTOMERID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LASTNAM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FIRST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Sale, CUSTOMER Custo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.CUSTOMERID = Customer.CUSTOMER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890-56D3-4D3C-9284-60F3343F42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Query to Obj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9128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F94-7655-4056-AE00-EB1359396B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581200" y="1295280"/>
            <a:ext cx="451476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1E9-C28D-404A-89EA-0A5B93E1FE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SaleitemView object to edi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ttributes node, click the New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Value for the Name and the A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Number as the Type, and check the Selected in Query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expression: QUANTITYSOLD*SALE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Query and add the calculation to the SELECT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B86-8E45-449E-822A-06C1FF4A57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1828800"/>
            <a:ext cx="586764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second database, preferably on a different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mall Customer table and load it with four or five row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main database and create a database link 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n SQL statement that retrieves data across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226-6174-4402-BCED-6FD6335BC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609480" y="1600200"/>
          <a:ext cx="7619760" cy="358056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58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long 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pages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OL D:\MyFolder\Employee10.x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XMLElement("Employee", XMLElement("LastName", LastNam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MLElement("FirstName", FirstName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M Employ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rownum&lt;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OL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57B-887D-4DEB-94B1-D17EF866EA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QL Plus, run the SELECT XMLElement command to create an XML file for some of the employe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resulting file to remove the extra title lines printed by 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&lt;?xml…?&gt; tag and the starting and ending &lt;Employees&gt;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file in Internet Expl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445-8D12-43D0-B0AB-55958CB366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1371600" y="1600200"/>
          <a:ext cx="6019560" cy="4037760"/>
        </p:xfrm>
        <a:graphic>
          <a:graphicData uri="http://schemas.openxmlformats.org/drawingml/2006/table">
            <a:tbl>
              <a:tblPr/>
              <a:tblGrid>
                <a:gridCol w="6019560"/>
              </a:tblGrid>
              <a:tr h="403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?xml version='1.0'?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LastName&gt;Staff&lt;/La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FirstName&gt;&lt;/Fir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LastName&gt;Killy&lt;/La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FirstName&gt;Jean-Claude&lt;/Fir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D68-FFCF-46DC-8EAB-57D02D2998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Explo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457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20B-4458-44D3-9F63-1B646F6C8A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rget Database an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3640" y="148428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database if necess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/All Programs/Oracle-OraHome92/Configuration and Migration Tools/ Database Configuration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Net Manager to add a hostnam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 and create a new user/schema or use the system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mal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352680"/>
            <a:ext cx="861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ustomerID  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1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1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1,'Smith', 'Adam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2,'Keynes', 'Joh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3,'Samuelson', 'Paul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4,'Robinson', 'Joa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574-5CC3-4F6A-B610-F0674ABD3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nk to Targe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228276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DATABASE LINK New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O RemoteUser IDENTIFIED BY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'dbhostname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Customer@NewY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16765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descriptive  name for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28954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count and password on the targe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342900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hostname in the network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67652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962160" y="28951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5790960" y="289512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23920" y="2057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66880" y="502920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name@link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352680" y="4572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34304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B24-5E21-4E66-8DD0-61FD752AF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Repl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1447920"/>
            <a:ext cx="312408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9048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98840" y="2213640"/>
            <a:ext cx="139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1985040"/>
            <a:ext cx="14428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285640" y="2895480"/>
            <a:ext cx="25146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886200" y="2895480"/>
            <a:ext cx="9907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2971800"/>
            <a:ext cx="144756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3120" y="27432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3440" y="35416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E52-3786-40C5-BFE1-45F5B8EF39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1905120"/>
            <a:ext cx="807732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nterprise Manager select the Administration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Views link under the Schema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Materialized View from the drop down list and click the Go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EmployeeM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F29-C57D-4BB6-BD40-870B75126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a Materialized View Repl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1523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Deployme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Maste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and log in as Rep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Mast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th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terialized View logs on the master site for each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client, or build as PL/SQL to add to th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create a Materialized View Group creating a new Refresh Group matching name from template: Customer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materialized view (or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materialized view to the refres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DF6-B46F-4671-85DA-0EEC65FF6B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ing Replicas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ployment Template-Master Si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628640" y="1600200"/>
            <a:ext cx="5886720" cy="4419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038480" y="487692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mai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41144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00600" y="34290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 as SYS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352680" y="1905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76520" y="5105520"/>
            <a:ext cx="23619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dvanced Replication and follow menu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3123720" y="44193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352680" y="49528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F8B-428D-45A1-A93A-6B470BD09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5:41:06Z</dcterms:modified>
  <cp:revision>94</cp:revision>
  <dc:subject/>
  <dc:title>All Powder Board and Ski</dc:title>
</cp:coreProperties>
</file>