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6DD-63E6-4B5F-87CE-884F87DB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90B-80E5-4D9D-B0C7-B26C3672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585-F410-4BD2-9BC0-70F8C98C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1B6-26DD-4F42-B2F3-1C67996F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573C-EC53-4279-A9B0-75D32FFF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2005-2AE4-4E16-A191-38070DAD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959F-3B45-4CD3-8E5C-7D1E8E6A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8408-28F0-4618-BFA4-EB790B7C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57B5-D67A-4ECE-9A9C-38AB72A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5772-2323-4C67-AA48-A6B683E2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64ED-5F75-4D37-9B80-80B94FE1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011-4D10-46F5-BFD6-17243D35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9D76-E3B3-45D7-AB12-D3D7715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192D-9BD1-4A98-8BA1-EE27DE80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BFA9-F683-49B0-BD4D-E79DBE03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B8F0-46F8-4EF9-9FD0-02AB6DAF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677D-959F-41AB-8760-96E6F6C1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EEB-27E3-4851-AAE9-35FA2AFD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994-54C5-4914-BF8A-0BCE2D1E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BBC-F20C-4AD2-8784-23A78DF6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2BB-4753-4C6B-A994-F5D53F20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A40-BCA5-46A6-9E97-A0866EB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338-3325-4B8A-B5E0-F7E312B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5F0-3A2C-47C0-AD84-B8E4FC9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7A8C-53A0-4667-96E1-EC4667A5FF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D430-D6E6-4725-BC34-65FF6C5EB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: Integrity an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AD97-E980-4C83-90EC-BE102307F2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 Database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60020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ustomerID, EmployeeID, SaleDat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antityOnHand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27672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ew item is sold, subtract QuantitySold from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ions: changes to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aleItem is revoked, the SaleItem row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antitySold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KU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9528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pl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leID=3000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KU=500000 or 5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ustomerID=58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mployeeID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7B8-7844-4AB0-8E96-E0C090131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752480"/>
            <a:ext cx="7543800" cy="2210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new row into the Sale table with a SaleID of 3000, CustomerID of 582, and EmployeeID of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AFTER INSERT trigger for the SaleIte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new row into the SaleItem table (3000, 500000, 1, 1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value of QuantityOnHand in the Inventory table for SKU=500000 and ensure it was decreased from 10 to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DD0-B7B6-4C89-B561-EA69F02A9A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Event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60020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38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38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FOR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38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200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New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NSERT 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- :NEW.QuantityS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NEW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864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/inser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019560" y="49528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190760" y="51055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5F0-6A18-4000-AB8F-76B51E1379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tup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82880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 (SaleID, CustomerID, Employe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3000, 582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3000, 500000, 1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4952880"/>
            <a:ext cx="6095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OnHand before and after the 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C33-7496-453F-B933-762BE643C5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752480"/>
            <a:ext cx="75438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SaleItem row (SaleID=3000 And SKU=500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AFTER DELE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the SaleItem row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SaleItem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D58-07A2-4EA4-8061-137DBBEE30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tential Problem: Delete Ro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FROM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514600"/>
            <a:ext cx="6095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OnHand before and after the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does not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58128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Del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DELETE 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+ :OLD.QuantityS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OLD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562360" y="4495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8862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the deleted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F6A-879C-44C1-95D5-6862A36A6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 clerk entered the wrong value and should have entered 1 instead of 2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t, and the code subtracts 1 from the QOH, leaving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add the original 2 units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640" y="4394160"/>
            <a:ext cx="77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OnHand = QuantityOnHand – QuantityS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656-1EF8-407C-8BF8-0C8AEF1A3E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752480"/>
            <a:ext cx="754380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ON UPDA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an update to change the QuantitySold in the SaleIte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524-F59D-4202-A9DE-E7B6D35D1D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: Change the Quant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9548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Change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UPDATE 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:OLD.QuantitySold - :NEW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OLD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Sold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1523880"/>
            <a:ext cx="990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7150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5181480"/>
            <a:ext cx="3657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ack the old quantity (1) and subtract the new value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647960" y="48769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791320" y="4876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DD3-D470-4D26-8CCD-2E291BA952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: Change the SK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3526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Sold = 3, SKU = 5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595600"/>
            <a:ext cx="5257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by changing both QuantitySold and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4956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 Or SKU=5000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44792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 Or SKU=5000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AB1-3EBA-4D35-9110-BD1B821818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 Sales Ta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67320" cy="416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15000" y="446724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952520" y="37047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C7E-58F7-4397-9391-85488A1DD0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752480"/>
            <a:ext cx="754380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ull ON UPDA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QuantitySold and SKU (to 500010) in the SaleItem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 for SKU 500000 and 500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C99-3AAD-477A-8488-22DA04C45C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igger to Handle SKU Chan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54764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Change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UPDATE 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:OLD.SKU = :NEW.SKU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:OLD.QuantitySold - :NEW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OLD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+ :OL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OLD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- :NEW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NEW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61722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264-4B53-4987-9898-82A119A40B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s for Discou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62320" y="1528920"/>
            <a:ext cx="4495680" cy="44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16D-A709-4FC4-B91B-4162E1ADE7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86520" cy="3629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948200" y="525780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91000" y="5028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888-30F6-4E39-B523-290D925B23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752480"/>
            <a:ext cx="7543800" cy="1828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Discount form with no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ext boxes and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the Rental form that opens the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81D-BFEC-4712-AF5B-E41547836E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Discoun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5800" y="274320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ntID and Amount are determined by the Rent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572000"/>
            <a:ext cx="19051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 default value is set to $$DATETIME$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590920" y="32000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35053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90920" y="3428640"/>
            <a:ext cx="1447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5064120"/>
            <a:ext cx="4114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n unbound form built from design view with no Data Block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1B2-B329-4311-9816-F2D241A6FA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752480"/>
            <a:ext cx="7543800" cy="1371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Rental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WHEN-BUTTON-PRESSED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75A-D4C8-4B9E-8F50-BC1FD30E63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ntal Form Code: Discount Butt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4829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RentID := :Rental.Rent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Amount := :Rental.SubChar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_Form('D:\Students\AllPowder\GiveRentDiscoun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083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ve the RentID and total repair charges into global variables that can be retrieved by the discount form when it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60020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Form, 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event: WHEN-BUTTON-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367-1570-4F13-9CDA-CCBDB0DD8F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Form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02104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RentalID := :global.Rent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mount := :global.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1840" y="1600200"/>
            <a:ext cx="41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m: WHEN-NEW-FORM-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54816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RentItem SET RepairCharges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ID = :Renta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alDiscount(RentID, DiscountDate, DiscountAmount, R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:RentalID, :TransDate, :Amount, :Rea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txtMessage := 'Changes recorded.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2200" y="312408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ton: WHEN-BUTTON-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96B-7A2C-4D32-8B51-06433CB723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36232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RentItem SET RepairCharges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ID = :Renta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alDiscount(RentID, DiscountD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Amount, R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:RentalID, :TransDate, :Amount, :Rea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txtMessage := 'Changes recorded.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THER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b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1447920"/>
            <a:ext cx="19051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-BUTTON-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5181480"/>
            <a:ext cx="19047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thing goes wrong, cancel the fir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057400" y="5638680"/>
            <a:ext cx="2819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0BA-B068-43AC-9FA5-C23930A215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752480"/>
            <a:ext cx="624852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QL to create the ComputeSalesTax function within a new Taxes pack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unction with an SQL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FDD-AC97-4B51-B40E-10CC40ADF9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752480"/>
            <a:ext cx="754380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 and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TO_CHAR(SaleDate, ‘ww’) AS Sale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QuantitySold*SalePrice AS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 by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A9D-3CCE-475B-9E74-3A3EB08B20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Cursor: Weekly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28456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WeeklyS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aleDate, 'ww') AS SalesWe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(SalePrice*QuantitySold)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Date Is 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TO_CHAR(SaleDate, 'ww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08B-710D-4B15-B2F1-ED343C236B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752480"/>
            <a:ext cx="754380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alesAnalysis package with the AvgPercentWeeklyChang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QL to call the function: SELECT SalesAnalysis.AvgPercentWeeklyChange FROM 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146-D941-4BA6-9FB5-60710AE991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t up Package to Compute Aver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2952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PACKAGE SalesAnalysi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AvgPercentWeeklyChange return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alesAnalys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PACKAGE BODY SalesAnalysi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AvgPercentWeeklyChange return RE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 c1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sWeek, Value FROM Weekly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Value WeeklySales.Value%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4572000"/>
            <a:ext cx="3352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SELECT statement for the cursor to trace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495680" y="358128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952880"/>
            <a:ext cx="3352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ariable to hold the value from the previous row with the same data type as the column in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14600" y="441936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F08-10E2-47CE-AFEB-8E5D2BB175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de to Compute Average Chan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37160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: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Value :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cSales in c1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iorValue &gt; 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:= Avg1 + (recSales.Value - PriorValue)/Prior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= N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Value := recSales.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Avg1/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AvgPercentWeeklyChan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alesAnalys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1828800"/>
            <a:ext cx="3047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he first week because there is no pri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373392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ercent change and keep a running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4952880"/>
            <a:ext cx="3124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urrent row value and move to the nex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80920" y="2286000"/>
            <a:ext cx="1752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66520" y="2286000"/>
            <a:ext cx="2667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723920" y="335232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581280" y="4191120"/>
            <a:ext cx="2819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CFE-B168-41A0-BA69-D582C13249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752480"/>
            <a:ext cx="754380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new sequence definition for the Sale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rigger for the Sale table that generates a new sequence value and uses it for the Sal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process by inserting a row into the Sale table without using a Sal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859-88E0-409B-9D9A-8B12EAA113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 Sequence for the Sal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2214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SEQUENCE sq_S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EQUENCE sq_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AX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266688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a high number to avoid collisions with exis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2000" y="2895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93F-F2FD-4F50-B68D-47229E875A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igger to Generate Ke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66688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GenKeyFor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INSERT ON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q_Sale.NEXTVAL INTO :NEW.SaleID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752480"/>
            <a:ext cx="5562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generate and use a new key value for SaleID whenever a row is added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46483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nex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4648320"/>
            <a:ext cx="2819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t as the new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048120" y="4114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019560" y="4114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A13-CE87-4CB4-AB51-6E848D699CF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the Key Gener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9480" y="1600200"/>
          <a:ext cx="7925040" cy="4419360"/>
        </p:xfrm>
        <a:graphic>
          <a:graphicData uri="http://schemas.openxmlformats.org/drawingml/2006/table">
            <a:tbl>
              <a:tblPr/>
              <a:tblGrid>
                <a:gridCol w="1065600"/>
                <a:gridCol w="6859440"/>
              </a:tblGrid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a new Sale row and check the sequence val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 (CustomerID, EmployeeID) VALUES (582, 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q_Sale.CURRVAL FROM du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CustomerID FROM Sale WHERE SaleID=100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UR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QL&gt; SELECT SaleID, CustomerID FROM Sale WHERE SaleID=100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000       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09A-DF5F-482F-883C-CB659F559F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s: Create Sales and Items (barcod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8120" y="1865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D card is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8120" y="2265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7040" y="2665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8120" y="306540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 item, update QOH and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9200" y="3465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until done (payment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2895480"/>
            <a:ext cx="622080" cy="76212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480"/>
                </a:moveTo>
                <a:cubicBezTo>
                  <a:pt x="204" y="424"/>
                  <a:pt x="16" y="368"/>
                  <a:pt x="8" y="288"/>
                </a:cubicBezTo>
                <a:cubicBezTo>
                  <a:pt x="0" y="208"/>
                  <a:pt x="172" y="104"/>
                  <a:pt x="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40600" y="2286000"/>
            <a:ext cx="1297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3048120"/>
            <a:ext cx="30243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ID, SKU,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AAE-C620-4B0A-AF55-955866A148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Oracle Package and Fun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105920"/>
                <a:gridCol w="712332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function to compute sales tax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OR REPLACE PACKAGE Taxes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unction ComputeSalesTax(Amount REAL) return RE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ND Taxe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PACKAGE BODY Taxes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UNCTION ComputeSalesTax(Amount REAL) return REAL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axRate REAL := 0.07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TURN (Round(taxRate*Amount,2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ND ComputeSalesTax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ND Taxe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ckage crea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ckage body crea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26A-3E83-4234-A1DA-D52F899673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752480"/>
            <a:ext cx="754380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no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oxes for CustomerID, EmployeeID, SKU, and txtSaleID as the generated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mmand button and add the indicated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t the top of the code and step through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B04-5CC0-4C41-B883-B4792D2F576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962160" cy="246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743200" y="1676520"/>
            <a:ext cx="3733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s and SKU would be scanned, but to test code, set defaul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480" y="255276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55276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91120" y="255276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EA9-01DD-4763-BA18-9942B38B6F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752480"/>
            <a:ext cx="7543800" cy="24386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no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and LOV for Customer 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enter a new ZIP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utton and add the indicated code fo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wizards to create a second form that displays CustomerID and ZIP Code in a tabular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B22-51E3-46C2-9F54-F0073201253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quence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4640" y="1313280"/>
            <a:ext cx="7544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mpListPrice ItemModel.ListPrice%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mpSaleID Sale.SaleID%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ERT INTO Sale (CustomerID, EmployeeID, 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S (:CustomerID, :EmployeeID, SYSDA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sq_Sale.CURRVAL INTO tmpSaleID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ListPrice INTO tmp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Inventory, Item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SKU=: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ERT INTO SaleItem (SaleID, SKU, SalePrice, QuantityS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S (tmpSaleID, :SKU, tmpListPrice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txtSaleID := tmpSale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OTHER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lb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B14-5DAB-45EB-92C6-67FB66D1860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currency and Lock Test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666880" y="1986120"/>
            <a:ext cx="3810240" cy="288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17D-9028-4206-A57D-C955506EF22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L/SQL to Change ZIP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152388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ZIP = :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ID = :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CAB-C52D-478E-A889-B993DBC0CA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Li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114640" y="1547640"/>
            <a:ext cx="4914720" cy="37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7AA-3E61-4286-AC21-7117FC81E8C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752480"/>
            <a:ext cx="7543800" cy="24386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both forms so they are both visible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ist form, change the last digit but do not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st form, enter the same Customer ID and a different ZIP code, then click the Save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see the test form go into wait mode (hourglass cur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list form and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final value of the ZIP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5E3-F847-43BA-8AAA-AF1A8B9032C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d Consistent Lock on the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4324320" cy="5029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324480" y="1523880"/>
            <a:ext cx="221004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 both forms and use the testing form to change the ZIP code for CustomerID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464832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message that value wa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495680" y="50292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3352680"/>
            <a:ext cx="22100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here and try to change the ZI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200400" y="2514600"/>
            <a:ext cx="3124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17F-F445-4A31-BEBE-EDF558DFA4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1752480"/>
            <a:ext cx="754380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e query in the list form to obtain current databas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 the ZIP code in the testing form and save the new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ist form, try to change the matching ZIP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receive an error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6BF-2EC5-4696-BD35-8AABAE493F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ternate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270160"/>
            <a:ext cx="677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Function ComputeSales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mount REAL) return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ound(0.07*Amount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ComputeSalesT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178-DE14-4EB9-A9EA-BCBBEBC6D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ronger Lock on the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371600"/>
            <a:ext cx="7925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_hit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 EXCEPTION_INIT(concurrency_hit, -817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RANSACTION ISOLATION LEVEL SERIALIZA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ZIP = :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ID = :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ncurrency_hit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('Data has been changed by another process.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THER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('Unknown error.'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129528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concurrency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638320" y="16002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30481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trongest isolat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5943600" y="28191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4114800"/>
            <a:ext cx="3429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ch error raised by this update interrupting anothe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267080" y="44197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5398920"/>
            <a:ext cx="22096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 user who can decide to try again or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333760" y="53337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3B8-983F-460B-945A-A198BBE8BFB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752480"/>
            <a:ext cx="754380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code in the testing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and recompil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pen the list and testing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he first experiment by changing one digit of the ZIP code on the Li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ew ZIP code on the Test form and click the button to sav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receive an error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List form and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current value of the ZIP code in the data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E21-BFC9-4B83-9E98-DBABDDC9ED3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rializable Isolation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808000" cy="4191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181480" y="3276720"/>
            <a:ext cx="19051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hange is not made and the error is trapped because the row i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038480" y="4724280"/>
            <a:ext cx="1524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98F-A59E-4F2F-990B-67A19FE45A6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the Function in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600200"/>
          <a:ext cx="7390800" cy="3961440"/>
        </p:xfrm>
        <a:graphic>
          <a:graphicData uri="http://schemas.openxmlformats.org/drawingml/2006/table">
            <a:tbl>
              <a:tblPr/>
              <a:tblGrid>
                <a:gridCol w="1266480"/>
                <a:gridCol w="6124320"/>
              </a:tblGrid>
              <a:tr h="13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est the function by computing the tax on 50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ELECT Taxes.ComputeSalesTax(500) FROM du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AXES.COMPUTESALESTAX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5F6-48D8-4D92-B930-CA09BF46E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752480"/>
            <a:ext cx="7543800" cy="2210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SalesTax box and select the PRE-TEXT-ITEM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Sale.SalesTax := Taxes.ComputeSalesTax(:Sale.Subtot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alesTax box to test the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C8D-3412-4AC7-9837-4857E87A2D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 Event Code to the Sales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44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81080" y="2743200"/>
            <a:ext cx="1747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the PRE-TEXT-ITEM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5715000"/>
            <a:ext cx="1747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 the new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7909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33920" y="3581280"/>
            <a:ext cx="1904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590560" y="3657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856-F9A4-4A3D-918F-34BE8F9F7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705720" cy="5324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66880" y="35053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click to set brea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133360" y="3352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295280"/>
            <a:ext cx="2514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/Debug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/Step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00040" y="15238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5181480"/>
            <a:ext cx="26668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form and variable values with Debug/Debug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886200" y="4800600"/>
            <a:ext cx="1905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257800" y="4800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133720" y="4571640"/>
            <a:ext cx="3657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0F6-3A4B-4110-B8C6-2F42082F7F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0T01:42:48Z</dcterms:modified>
  <cp:revision>67</cp:revision>
  <dc:subject/>
  <dc:title>All Powder Board and Ski</dc:title>
</cp:coreProperties>
</file>