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706-DD0B-456B-B85F-08B27C84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460C-5FEE-4A9B-B45C-BAC07379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DED3-6366-44BE-B829-46D44B30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AF0-C2DA-4CF1-80D9-38C493BE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BAF5-3F56-4B03-8244-9E4CF786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5347-AB0E-4EE3-BCCB-54E46F9A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F1EF-0F49-407B-8355-CD3B542C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8A09-25BB-48F9-996F-5C1E1247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61D9-495A-4ADC-B1F8-11DAEF67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272E-8F0C-40C3-969A-6DCAA505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8BE8-8BA7-4F6C-A210-8E0A13D7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1B0-C01D-4FFC-8341-A2C1D4CB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7BFF-3B63-4BB7-A5E3-DC284BD9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01F3-653B-43FE-9742-3F7E7AC5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C479-167C-4734-B5D6-613B07BB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780E-F999-42E3-9DCD-DAB88EFD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FCA9-B875-45B8-9591-A4C3357E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BA6-909F-420B-9CAA-DFE9E702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503-1A51-4E89-AE76-4209B72A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8194-62BE-4BBC-BDAB-0A1D6387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E1B-F088-4A8E-9BCF-8010B49F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BDF3-0E8B-4994-8BF9-D94436A9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5B0F-A7B0-4A9D-AE9F-14ABA6C0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31CD-C6CC-41B9-980E-E94A3823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1761-22E3-479F-8E8C-93484F456C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541A-B821-4025-9387-AFF5A5E8B4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10g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9: Data Warehouses and Data 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68FF-2A3B-4106-8C4A-2A7DD46749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ION Query for Mod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828800"/>
            <a:ext cx="6324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ManufacturerID, Categor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s_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ManufacturerID, Categor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Rentals_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E466-2626-4C5C-8020-0788BC290D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523880"/>
            <a:ext cx="7391160" cy="3353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that retrieves DISTINCT values from the saved UNION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at it wo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n INSERT INTO statement above the SELECT statement to copy the data to the ItemModel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similar process to add SKU, ModelID, and Size to the Inventory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a similar process to copy the Sale, Rental, SalesItem, and RentalItems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CA68-F787-4751-9C52-9A756F6967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sert Model Data into ItemMod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205740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ItemModel (ModelID, ManufacturerID, Category, Color, ModelY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, ItemMaterial, ListPrice, Style, SkillLevel, WeightMax, WaistWidth, BindingSty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qryOldModels.ModelID, qryOldModels.ManufacturerID, qryOldModels.Catego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ryOldModels.Color, qryOldModels.ModelYear, qryOldModels.Graphics, qryOldModels.ItemMateri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ryOldModels.ListPrice, qryOldModels.Style, qryOldModels.SkillLevel, qryOldModels.WeightMax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ryOldModels.WaistWidth, qryOldModels.BindingSty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qryOldMode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C997-666E-4A07-A863-73EB2A7CDF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SKU Data into 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5686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Inventory (ModelID, SKU, ItemSize, QuantityOnH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qryOldInventory.ModelID, qryOldInventory.SKU, qryOldInventory.ItemSiz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As QuantityOnH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qryOldInvento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5170320"/>
            <a:ext cx="32763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e use of the column alias to force a zero value for QuantityOnHand for each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114440" y="448416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44792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qryOldInventory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SKU, Item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_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SKU, Item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Rental_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9B96-839C-419B-A187-623FE7ED73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py Sales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00200"/>
            <a:ext cx="815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Sale (SaleID, SaleDate, ShipState, ShipZIP, PaymentMeth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DISTINCT OldSales_ext.SaleID, OldSales_ext.SaleDate, OldSales_ext.ShipState, OldSales_ext.ShipZIP, OldSales_ext.Payment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OldSales_ex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067200"/>
            <a:ext cx="32767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if you have added data to your Sales table, your existing SaleID values might conflict with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3067200"/>
            <a:ext cx="32763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solve the problem by adding a number to these values so they are all larger than your highes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4800600"/>
            <a:ext cx="815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Sale (SaleID, SaleDate, ShipState, ShipZIP, PaymentMeth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DISTINCT OldSales_ext.SaleI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50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OldSales_ext.SaleDate, OldSales_ext.ShipState, OldSales_ext.ShipZIP, OldSales_ext.Payment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OldSales_ex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990720" y="1523520"/>
            <a:ext cx="3581280" cy="1295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447920"/>
            <a:ext cx="182880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7A02-3202-409F-97D8-DC520DBAD7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py SaleItem Row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057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Item (SaleID, SKU, QuantitySold, Sale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Sale_ext.Sale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5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ldSale_ext.SKU, OldSale_ext.QuantitySold, OldSale_ext.SalePr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_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3809880"/>
            <a:ext cx="327636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transformed the SaleID in the prior step for the Sale data, you must do the exact same calculation for SaleID in the SaleItem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876920" y="266652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CE4-AF66-4234-987D-22716AAC73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py Rental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781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Rental (RentID, RentDate, ExpectedReturn, PaymentMeth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Rental_ext.RentID+5000, OldRental_ext.RentDate, OldRental_ext.ExpectedReturn, OldRental_ext.PaymentMeth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Rental_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38098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RentItem (RentID, SKU, RentFee, Return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Rental_ext.RentID+5000, OldRental_ext.SKU, OldRental_ext.RentFee, OldRental_ext.Return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Rental_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005-E8D9-4051-8DB4-20BBD7A3A2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1676520"/>
            <a:ext cx="6629400" cy="39621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skipped the first activity, run the BuildAllPowder file for this chap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Discoverer Administrator to create a new Business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your sch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base tables: Sale, SaleItem, Inventory, ItemModel, and Manufactu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lookup tables: BindingStyle, Customer, PaymentMethod, ProductCategory, SkiBoardStyle, and Skill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he box to build the LOV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4A96-03C7-46F8-8A8D-CB7962A607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iscoverer Administrator: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ad Business Are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14480" y="1585800"/>
            <a:ext cx="5315040" cy="3686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057400" y="434340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2133720"/>
            <a:ext cx="1219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bles and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24382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581280" y="342864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81280" y="3276720"/>
            <a:ext cx="16002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7470-EB09-46EF-9DC5-9A8D863078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ad Wizard Options: LO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5315040" cy="3686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38080" y="2666880"/>
            <a:ext cx="16002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ptions are selected by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3962520"/>
            <a:ext cx="19051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the LOV option to have Discoverer build lookup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438280" y="2362320"/>
            <a:ext cx="19814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38280" y="3124080"/>
            <a:ext cx="198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4267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49AA-4B09-4828-B1F6-4BFA5AB475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acle Relational Approac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9480" y="2973240"/>
            <a:ext cx="1371600" cy="1827000"/>
            <a:chOff x="609480" y="2973240"/>
            <a:chExt cx="1371600" cy="1827000"/>
          </a:xfrm>
        </p:grpSpPr>
        <p:sp>
          <p:nvSpPr>
            <p:cNvPr id="95" name=""/>
            <p:cNvSpPr/>
            <p:nvPr/>
          </p:nvSpPr>
          <p:spPr>
            <a:xfrm>
              <a:off x="609480" y="2973240"/>
              <a:ext cx="1076760" cy="888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8160" y="3268800"/>
              <a:ext cx="1076760" cy="888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86240" y="3565440"/>
              <a:ext cx="1076760" cy="888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leI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04320" y="3911400"/>
              <a:ext cx="1076760" cy="888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62120" y="1752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267080" y="2743200"/>
            <a:ext cx="3428640" cy="2436480"/>
            <a:chOff x="4267080" y="2743200"/>
            <a:chExt cx="3428640" cy="2436480"/>
          </a:xfrm>
        </p:grpSpPr>
        <p:sp>
          <p:nvSpPr>
            <p:cNvPr id="101" name=""/>
            <p:cNvSpPr/>
            <p:nvPr/>
          </p:nvSpPr>
          <p:spPr>
            <a:xfrm>
              <a:off x="5464440" y="3623400"/>
              <a:ext cx="1020960" cy="675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ct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85760" y="2743200"/>
              <a:ext cx="1209960" cy="676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67080" y="2743200"/>
              <a:ext cx="1209960" cy="676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67080" y="4503960"/>
              <a:ext cx="1209960" cy="675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85760" y="4503960"/>
              <a:ext cx="1209960" cy="675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"/>
            <p:cNvCxnSpPr>
              <a:stCxn id="104" idx="0"/>
              <a:endCxn id="101" idx="1"/>
            </p:cNvCxnSpPr>
            <p:nvPr/>
          </p:nvCxnSpPr>
          <p:spPr>
            <a:xfrm flipV="1">
              <a:off x="4871520" y="3961440"/>
              <a:ext cx="592920" cy="54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7" name=""/>
            <p:cNvCxnSpPr>
              <a:stCxn id="103" idx="2"/>
              <a:endCxn id="101" idx="1"/>
            </p:cNvCxnSpPr>
            <p:nvPr/>
          </p:nvCxnSpPr>
          <p:spPr>
            <a:xfrm>
              <a:off x="4871520" y="3419280"/>
              <a:ext cx="592920" cy="54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8" name=""/>
            <p:cNvCxnSpPr>
              <a:stCxn id="102" idx="2"/>
              <a:endCxn id="101" idx="3"/>
            </p:cNvCxnSpPr>
            <p:nvPr/>
          </p:nvCxnSpPr>
          <p:spPr>
            <a:xfrm flipH="1">
              <a:off x="6485400" y="3419280"/>
              <a:ext cx="605520" cy="54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9" name=""/>
            <p:cNvCxnSpPr>
              <a:stCxn id="105" idx="0"/>
              <a:endCxn id="101" idx="3"/>
            </p:cNvCxnSpPr>
            <p:nvPr/>
          </p:nvCxnSpPr>
          <p:spPr>
            <a:xfrm flipH="1" flipV="1">
              <a:off x="6485400" y="3961440"/>
              <a:ext cx="605520" cy="54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10" name=""/>
          <p:cNvSpPr/>
          <p:nvPr/>
        </p:nvSpPr>
        <p:spPr>
          <a:xfrm>
            <a:off x="5257800" y="2133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-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21800" y="3278160"/>
            <a:ext cx="1169640" cy="785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1905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ized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05120" y="3047760"/>
            <a:ext cx="2057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057400" y="388584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365760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CF9-F19D-45DF-87EC-1551BD8D2E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coverer: Business Are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857920" cy="5491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971800" y="2514600"/>
            <a:ext cx="220968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bles shown as folders and named so managers understan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71800" y="4114800"/>
            <a:ext cx="12952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a calculat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2438280" y="25905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267080" y="2666880"/>
            <a:ext cx="121932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971440" y="3885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75C-9070-45A4-BFFB-B89971F88A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1676520"/>
            <a:ext cx="6933960" cy="3657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Data tab, expand Sale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calculated item: Value = SalePrice*QuantityS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-click the SUM option to set the defa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Hierarchies tab, create a new hierarchy for Category Style: Category, Style from SkiBoard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location hierarchies from Sale and Customer based on the state and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C20-5190-4B59-9E7F-6A6B950E07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a Data Hierarch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72320" cy="56102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071960" y="5319720"/>
            <a:ext cx="28954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Category and Style from the SkiBoardStyle lookup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214960" y="45572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3919680" y="501444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EFEA-DED2-4039-B4E1-86F9D27A1C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iscoverer Desktop: New Workbook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181840" cy="445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5047-0141-43FF-A978-CFFE2C8128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447920"/>
            <a:ext cx="7086600" cy="3809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iscoverer Desktop and create a new workbook using the Page-Detail-Crosstab o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nalysis columns, select SaleItem.Value, Sale.ShipState, Sale.Saledate Year through Sale.Saledate Month, and ItemModel.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econdary dimensions such as Color, ItemMaterial, BindingStyle, and Manufacturer 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ShipState and Category onto the row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everything but the dates and Sum Value onto the page item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and save the worksh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29F-6BAF-4EA4-A495-2583F85F9B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Cube Layou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429320" cy="5209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981080" y="4191120"/>
            <a:ext cx="12956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w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266688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um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2514600"/>
            <a:ext cx="12956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895480" y="3581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819520" y="24379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4343400" y="27432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E3E-28C6-4397-A33C-FB5AABF575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600200"/>
            <a:ext cx="6933960" cy="3886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with the worksheet by collapsing, formatting cells, and adding row and column to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drop-down arrow to select all of the values for each page item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llapse categories, mark the column and right-click to select collap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pse the time frame down to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the data using the butt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the Analysis B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Category column and click the Sum Totals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EB3-9325-4935-8CBE-29CC9BC85A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coverer Cube Brows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52440" y="1295280"/>
            <a:ext cx="8439120" cy="5086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553080" y="1905120"/>
            <a:ext cx="17528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all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705360" y="22860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3505320"/>
            <a:ext cx="17528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t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952880" y="281916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562720" y="28191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1600200"/>
            <a:ext cx="8384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761760" y="1752480"/>
            <a:ext cx="4190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7340-0418-4CBE-8CEA-3B9B1B97C2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523880"/>
            <a:ext cx="7543800" cy="4191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ew worksheet using the table layout instead of crosst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ems: SalesItem.Value SUM, Sale.Saledate Year, and Sale.Saleate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worksheet, choose Tools/Calcu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Functions option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Analytic and paste the AVG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it to match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VG(Value SUM) OVER(PARTITION BY "Saledate Year"  ORDER BY  "Saledate Month"  RANGE  INTERVAL '2' MONTH PRECEDING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BF4-9FF3-4DB5-B6AF-8AC92F58BFB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ime Series Analysis: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Moving Averag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562720" cy="45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2FF1-A9F1-4FF4-ADDF-A2B9AA8163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sired Sales Cube Dimens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18288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(sh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ding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Ma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Materi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stWid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98C-7E04-4A7F-B7F0-C6F52055D0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1676520"/>
            <a:ext cx="6248160" cy="31240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Graph/New Graph from the main m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Line chart, with the 2D o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chart title (Sales Moving Averag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font sizes to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chart is drawn, resize and edit it to display enough data to make it use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8965-D92D-4BFF-9121-B8C4F07C2F5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ime Series Analysis: Discover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257880" cy="415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B30-EA3A-406E-8BDA-415C3C23A94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1600200"/>
            <a:ext cx="6934320" cy="42670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demographic data into Ora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query to combine the sales data by state with the demographic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Excel and retrieve the query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xcel, choose Tools/Data Analysis/Reg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Value column as the Y-range and the population and income columns as the X-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top row as label o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reg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B23-6575-4D77-A876-30EAD3BECF3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 by State for Regres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09480" y="1447920"/>
          <a:ext cx="7848720" cy="4721040"/>
        </p:xfrm>
        <a:graphic>
          <a:graphicData uri="http://schemas.openxmlformats.org/drawingml/2006/table">
            <a:tbl>
              <a:tblPr/>
              <a:tblGrid>
                <a:gridCol w="1497240"/>
                <a:gridCol w="635148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ist states with sales in 200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ShipState, Sum(SalePrice*QuantitySold) As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Sa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SaleItem ON Sale.SaleID=SaleItem.Sale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SaleDate BETWEEN '01-Jan-2006' AND '31-DEC-2006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ROUP BY ShipState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1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HIPSTATE      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T               43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               8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A               82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I               75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Y                3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8 rows select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 flipH="1">
            <a:off x="2971440" y="57150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5105520"/>
            <a:ext cx="3276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that some states are missing from the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3DAE-326B-4205-8025-1D54F721263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gression Data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527120"/>
            <a:ext cx="617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StateSales2004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tateName, Income2001, Pop2002, Sum(SalePrice*QuantitySold) AS Sales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 INNER JOIN StateDemo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Sale.ShipState = StateDemographics.Stat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SaleItem ON Sale.SaleID = 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hipState IS NOT NULL AND SaleDate Between '01-Jan-2006' And '31-Dec-2006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StateName, Income2001, Pop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BY Stat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C5A-F4E1-4C18-A59E-BE6830A772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gression Set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752480" y="1192320"/>
            <a:ext cx="5715000" cy="53607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14400" y="4572000"/>
            <a:ext cx="3276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 should include the label row but be sure to check the box to show you include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057400" y="3809520"/>
            <a:ext cx="2514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994-889F-48CB-873E-E825BE92494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90440" y="2057400"/>
            <a:ext cx="6961320" cy="28954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gression 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14800" y="2057400"/>
            <a:ext cx="2743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ly high R-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200400" y="220968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5292720"/>
            <a:ext cx="3048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is a significant predictor, Income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4419360" y="491184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952880" y="491184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195B-F333-49F3-9D5F-D2859F701B2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1600200"/>
            <a:ext cx="6934320" cy="42670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ction requires the enterprise version of Oracle and assumes the default installation was used to install the data min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system DBA, configure an ODMiner user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system DBA, unlock the DMSYS user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and install Oracle Data Miner from OT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6AC7-2F69-4EAF-9ED7-3F06C807124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sociation Rules Configu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1600200"/>
            <a:ext cx="6629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acle Data Mining software configuration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Find the file: odmuser.sq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 your_Oracle_Home\product\10.1.0\DB_1\dm\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Log into SQL Plus with SYS as sysd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. Run the odmuser.sql file to create a completely new u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@found_path\odmuser.sql username password tabl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. Unlock the DMSYS accou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TER USER “DMSYS” IDENTIFIED BY “password” ACCOUNT UNLOC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ownload Oracle Data Miner from OTN. Unzip the files and place them in one of your Oracle folders. Add a shortcut to your_folder\bin\odminerw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2B0E-28E2-4FF6-BCC0-CAE5188E2B2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1600200"/>
            <a:ext cx="6934320" cy="29718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MARKET_BASKET_TX_BINNED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 to load the data into the new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 SELECT access to the new table to the ODM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granting SELECT access to the other Powder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DB1-18FE-4AD6-A595-8BE79654F56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arly Data: Spreadshee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5867640" cy="3190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905120" y="2895480"/>
            <a:ext cx="6019560" cy="327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BA6-50DC-49F3-9D06-C396FC3A30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Market Basket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1676520"/>
            <a:ext cx="7543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TABLE MARKET_BASKET_TX_BI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 SEQUENC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RCHAR2(28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NT SELECT ON MARKET_BASKET_TX_BINNED TO ODMus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CC1B-2B27-4DE6-8689-E61448BFB6A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figure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1752480"/>
            <a:ext cx="7696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ERT INTO MARKET_BASKET_TX_BINNED (SEQUENCE_ID, ATTRIBUTE_NAME,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SaleID, Substr(ItemModel.Category || '-' || ItemModel.Style,1,28) AS AName, 1 A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SaleI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NER JOIN Inventory ON SaleItem.SKU = Inventory.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NER JOIN ItemModel ON Inventory.ModelID = ItemModel.Mode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UP BY SaleID, Substr(ItemModel.Category || '-' || ItemModel.Style,1,2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F34D-466E-4712-93D1-C546371DE7D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un Market Basket Analy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676520" y="1484280"/>
            <a:ext cx="5667120" cy="47642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800600" y="1407960"/>
            <a:ext cx="1905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ck the schema and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15000" y="2779560"/>
            <a:ext cx="1523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 the colum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800600" y="308448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028840" y="3084480"/>
            <a:ext cx="685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343400" y="1712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571640" y="1712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BC2-1FB7-4C45-93CA-05DBCC7ACDA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rket Basket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771800" cy="40384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314960" y="1876320"/>
            <a:ext cx="2209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 confidence to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90920" y="248616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EBB-CD76-4C72-A15A-A2C20CE1915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1600200"/>
            <a:ext cx="6934320" cy="3352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Oracle Data Miner: odminerw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 the database conn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: Model/Association Rules/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the schema that holds the data and choose the MARKET_BASKET_TX_BINNED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Multiple records per case and double-check the column mapping defin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minimum confidence to 0.3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option for Data is already prep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analysis and wait for the task to fin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76B-4FEE-4979-9D8C-343B88B52A4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tting Market Basket 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162920" cy="53481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28800" y="50292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441972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it for the Success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00200" y="5867280"/>
            <a:ext cx="3581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uble click the task name, then the model name (not sh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1371240" y="5791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4280" y="601992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57800" y="1600200"/>
            <a:ext cx="16002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ck button to choose rules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858000" y="20574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6019920" y="2133720"/>
            <a:ext cx="8380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2DB6-D771-4F45-A747-E845AAB63C6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rket Basket 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76960" cy="46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EBC-8C08-4FA7-BB82-CC9A8E9D04C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IS: Microsoft MapPoi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4746600" cy="4419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114800" y="2438280"/>
            <a:ext cx="3276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scoverer worksheet places the data into rows and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5562720"/>
            <a:ext cx="3504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ynamic copy of this sheet is used to remove the top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2057040" y="571500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047760" y="251424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9FCE-C57B-4F2A-BD29-B2FA096B253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pPoint Data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9480" y="1849320"/>
            <a:ext cx="3886200" cy="3921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648320" y="1849320"/>
            <a:ext cx="388620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5A6-5259-4F10-94EC-01C895025EA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IS Analysis of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5882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DBB4-D8A6-40FE-B11F-682F69B2D6E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1981080"/>
            <a:ext cx="548640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ll sales with SaleID&gt;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ble the trigger that creates SaleID ke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 TRIGGER GenKeyForSale Disab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 and run the code to create the external tables for the old Sale and Rental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CustomerID 0 and EmployeeID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FB97-2915-4D65-8BAC-D22AB9746F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ternal Tables: Attach to CS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362320"/>
            <a:ext cx="3962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table OldSale_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Sale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p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pZ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ment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ySo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(10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2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Siz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facturer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371600"/>
            <a:ext cx="63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r replace directory csv_dir as ‘D:\students\BuildAllPowder\AllPowderSampleDataCSV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2581200"/>
            <a:ext cx="41907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Ye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Materi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(10,2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llLev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stWid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ding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tinued on next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6440" y="6262560"/>
            <a:ext cx="706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arning: currency columns cannot have $ symbols or com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A59-1BBB-448C-B544-DB5EC48AC0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ternal File Defini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295280"/>
            <a:ext cx="79246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ation external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oracle_lo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directory csv_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arameters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rds delimited by new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elds terminated by ',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ly enclosed by '"' lrtr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ing field values are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I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Date char date_format date mask "mm/dd/yyyy"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pState, ShipZIP, PaymentMethod, SKU, QuantitySold, SalePri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delID, ItemSize, ManufacturerID, Category, Color, ModelYea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, ItemMaterial, ListPrice, Style, SkillLevel, WeightMax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stWidth, BindingSty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on ('Lab 08-01 Early Sales.csv'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 limit unlimit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5E64-344D-4DE7-AE79-437A55CFFA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Customer and Employe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636560"/>
            <a:ext cx="763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 and EmployeeID are missing from the old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f relying on blank cell values, create a new customer called “Walk-in” and a new employee called “Employe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down the ID numbers generated for these anonymous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use SQL, you can assign a value of zero to these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3429000"/>
            <a:ext cx="5715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Customer (CustomerID, Last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0,'Walk-in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4343400"/>
            <a:ext cx="5791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Employee (EmployeeID, Last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0,'Staff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709-11DF-4141-A26C-E25368B581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tract Model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08720" cy="2952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143000" y="4495680"/>
            <a:ext cx="7010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DISTINCT OldSale_ext.ModelID, OldSale_ext.ManufacturerID, OldSale_ext.Category, OldSale_ext.Color, OldSale_ext.ModelYear, OldSale_ext.Graphics, OldSale_ext.ItemMaterial,  OldSale_ext.ListPrice, OldSale_ext.Style, OldSale_ext.SkillLevel, OldSale_ext.WeightMax, OldSale_ext.WaistWidth, OldSale_ext.BindingSty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OldSale_ex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C10-0D73-447F-87F3-9F0217AE32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0T03:41:17Z</dcterms:modified>
  <cp:revision>83</cp:revision>
  <dc:subject/>
  <dc:title>All Powder Board and Ski</dc:title>
</cp:coreProperties>
</file>