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CC38-1F71-499E-8726-0D0BFA1EB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BA7F-3046-4838-94A6-8BE02C92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0166-8185-4322-B4E9-9433954C5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D6A2-D75B-40E0-82D8-9E1E366DB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ED71-F3E1-4948-B0B5-59027714B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14A8-9146-4907-A35E-4B1EF69F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B5D2-3BF7-4C2D-BC44-5EB8707E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9832-7CAA-4510-A136-6D58CBAD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65DF-E7C8-4572-9277-981A4983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0CE6-1935-4E73-A7BF-51BD46DA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9A42-4961-40D0-8428-D277D993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7069-0DAA-48E3-9A35-1137EB1C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700E-A6C0-489D-8DC2-CACCA7A3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CFCC-076E-44DC-A2E5-E2B09DBE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5251-2ED8-4E65-BB08-460B818B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9191-F257-4B65-8C90-0CA3D00F1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354D-A821-4BAC-AA75-429F110E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3C23-B677-49C9-90B5-123B9D4D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2326-6FB2-4E44-B2A1-191FEA26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7CC2-0768-4A1E-80C7-5F3ABB00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BB1E-0D79-42A4-8238-70682094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4481-B33E-4E54-9CD5-7D8652C8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DA11-563D-4400-84FA-83DD5D66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E91C-E41C-4417-BF1B-EF60B2D8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770A-8F2F-4EC4-B2EA-EF529CB3E8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2ADA-B3C4-4228-8320-4FB0BB967B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cle 10g 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6: Forms and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B1E5-5298-4838-9204-B2B0792AD96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19320" y="1905120"/>
            <a:ext cx="6400800" cy="37335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click the Trigger option for the Customer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Smart Trig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WHEN-NEW-FORM-IN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code line: Execute_quer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 and save every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3B34-3668-41B4-BD52-3AA8CE8639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orm Trigg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666800" y="1600200"/>
            <a:ext cx="5808600" cy="4419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905120" y="4648320"/>
            <a:ext cx="31240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and select Smart triggers, New form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2590560" y="2743200"/>
            <a:ext cx="99036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581280"/>
            <a:ext cx="19814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one line: Execute_que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4038120" y="33526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24280" y="2133720"/>
            <a:ext cx="19814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657240" y="23623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CA78-A000-4022-B2B4-DFB74CED58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1447920"/>
            <a:ext cx="6781680" cy="22096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the Trigger option for the Customer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mart Trig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WHEN-NEW-FORM-INST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code line: Execute_que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and save everyth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E7CC-A470-43DE-9ADA-807F24C1CB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ist of Values (LOV): Record Group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665360" y="1600200"/>
            <a:ext cx="5813280" cy="4419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752480" y="5334120"/>
            <a:ext cx="14479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/Cre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c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057400" y="4038120"/>
            <a:ext cx="3808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4038480"/>
            <a:ext cx="16765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4724280"/>
            <a:ext cx="10666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3428640" y="396216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809880" y="4952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809880" y="4952880"/>
            <a:ext cx="1447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809880" y="495288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E8FE-82DE-4A0B-84EE-E161E9E048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ist of Valu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666800" y="1600200"/>
            <a:ext cx="5808600" cy="4419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486400" y="3809880"/>
            <a:ext cx="15238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return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6095520" y="327636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5943600" y="4419720"/>
            <a:ext cx="3808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105520" y="4419720"/>
            <a:ext cx="1218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7CA8-0FE2-4690-9CF6-6150004913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1676520"/>
            <a:ext cx="7620120" cy="35049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the record group and create a new 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a static group and add the three values (Female, Male, and Unidentifi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and rename the gro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Tools/LOV Wiz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new (existing) record gro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the Gender colum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look up button and select Gender as the return value colum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Gender box, add the WHEN-NEW-ITEM-INSTANCE trigger with the code List_Valu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everything and run the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4F0B-4D38-4950-AD7C-BB83163538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itial Grid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467760" cy="44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CCB2-0809-4E5D-B69B-43A63B6930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1676520"/>
            <a:ext cx="7848720" cy="32004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a new form with Tools/Data Block wiz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it on the table: SkiBoardSty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all three colum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defaults and run the Layout wiz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all three columns ag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column widths (144, 216, 7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Tabular (not For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a frame title, number of records (10), and space between records (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form as SkiBoardStyle.fm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C043-5CF8-4761-A6AC-C922F3F4AE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ayout Wizard for Gri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600200" y="1504800"/>
            <a:ext cx="5915160" cy="45910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019920" y="4876920"/>
            <a:ext cx="144756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acing between 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867280" y="3733920"/>
            <a:ext cx="16002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rows to display in g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5181120" y="411444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5257440" y="472428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781E-8A8C-4AD0-AE3C-1160A83E63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1676520"/>
            <a:ext cx="7848720" cy="35049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the Tools/LOV wiz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 new record group, build an SQL query using the ProductCategory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both columns, close the desig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SQL synta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both columns into the LOV and set their widths (72 and 14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return item column in the Category row and click the Return Item but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SkiBoardStyle.Category colum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sh the wizard by accepting the default val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form and run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B18E-03C8-47F3-9C43-FB9FBBA097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orm Typ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429000" y="1739880"/>
          <a:ext cx="3886200" cy="1460520"/>
        </p:xfrm>
        <a:graphic>
          <a:graphicData uri="http://schemas.openxmlformats.org/drawingml/2006/table">
            <a:tbl>
              <a:tblPr/>
              <a:tblGrid>
                <a:gridCol w="727200"/>
                <a:gridCol w="1992240"/>
                <a:gridCol w="1166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y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yle 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533520" y="1676520"/>
            <a:ext cx="22860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69200" y="18288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5440" y="2246400"/>
            <a:ext cx="129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5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26478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293364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3219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3505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98200" y="137160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 Board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3809880"/>
            <a:ext cx="49528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61800" y="38466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000" y="42051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65960" y="420516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s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05320" y="4572000"/>
          <a:ext cx="4701960" cy="1187280"/>
        </p:xfrm>
        <a:graphic>
          <a:graphicData uri="http://schemas.openxmlformats.org/drawingml/2006/table">
            <a:tbl>
              <a:tblPr/>
              <a:tblGrid>
                <a:gridCol w="857160"/>
                <a:gridCol w="1326960"/>
                <a:gridCol w="704880"/>
                <a:gridCol w="1035360"/>
                <a:gridCol w="777600"/>
              </a:tblGrid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748440" y="4227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920" y="2133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12560" y="4952880"/>
            <a:ext cx="1118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Mai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ub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1BCC-1487-410A-A0CB-67E71DA1C2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dd a List of Values (LOV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541520" y="1600200"/>
            <a:ext cx="6059520" cy="4419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800600" y="5029200"/>
            <a:ext cx="2133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a list of values (LOV) for 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867280" y="449568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56C9-36EF-49E0-9740-2D354C84B7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4648320" cy="34909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V Ro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71800" y="5029200"/>
            <a:ext cx="2590920" cy="11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Board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8120" y="5410080"/>
            <a:ext cx="2514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63828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63828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hi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400800" y="2286000"/>
            <a:ext cx="21337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77120" y="2666880"/>
            <a:ext cx="1676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t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ctron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a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43400" y="2666880"/>
            <a:ext cx="91440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81480" y="4114800"/>
            <a:ext cx="3289320" cy="1828800"/>
          </a:xfrm>
          <a:custGeom>
            <a:avLst/>
            <a:gdLst/>
            <a:ahLst/>
            <a:rect l="l" t="t" r="r" b="b"/>
            <a:pathLst>
              <a:path w="2072" h="1152">
                <a:moveTo>
                  <a:pt x="1200" y="0"/>
                </a:moveTo>
                <a:cubicBezTo>
                  <a:pt x="1636" y="192"/>
                  <a:pt x="2072" y="384"/>
                  <a:pt x="1872" y="576"/>
                </a:cubicBezTo>
                <a:cubicBezTo>
                  <a:pt x="1672" y="768"/>
                  <a:pt x="836" y="960"/>
                  <a:pt x="0" y="11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55960" y="175248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34840" y="51418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057400" y="2362320"/>
            <a:ext cx="19810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0984-3FC3-46D4-B6D0-DEE8DBA186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V Runtim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5629320" cy="45036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248520" y="2133720"/>
            <a:ext cx="13716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ick Ctrl-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5486040" y="23623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181480" y="4648320"/>
            <a:ext cx="17528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 th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4647960" y="4038120"/>
            <a:ext cx="53316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24480" y="3581280"/>
            <a:ext cx="2133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osen value is transferred to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5486400" y="2666880"/>
            <a:ext cx="8380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1A1B-46F9-450C-BEBE-3E1C0716A9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in/Subform by Sa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5781960" cy="4626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200400" y="4191120"/>
            <a:ext cx="2133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gin with the Sale main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3844-3F28-435F-A1ED-400C089492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9480" y="1676520"/>
            <a:ext cx="7848720" cy="30477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Sale form with the wiz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property ORDER BY to SaleD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 the SalesTax to $99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rrange the items to the top of the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Data Block Wizard to add the SaleItem table with all of its colum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relationship to S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Layout Wizard, choose tabular and do not include the SaleID colum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5 rows and display the scroll b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and run the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614B-4551-409F-A24B-A05493DED6C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a Block Relation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650960" y="1600200"/>
            <a:ext cx="5840280" cy="44197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2362320" y="4191120"/>
            <a:ext cx="16761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the SaleItem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486400" y="3886200"/>
            <a:ext cx="16765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a relationship to the Sale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5333760" y="2742840"/>
            <a:ext cx="14475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0603-7764-4AA1-B8A1-C1754A4DF58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itial Form Desig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391520" cy="49863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172200" y="3581280"/>
            <a:ext cx="13716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e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91320" y="4419720"/>
            <a:ext cx="17524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eItem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F551-3849-4CB8-B961-EFB70C78DC6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itial Sal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553080" y="1905120"/>
            <a:ext cx="2590920" cy="13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V button for CustomerID, co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_Item(‘CustomerID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_Valu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5629320" cy="44877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52280" y="3048120"/>
            <a:ext cx="17528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ed LOV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905120" y="28195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905120" y="266688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05120" y="32004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57600" y="4038480"/>
            <a:ext cx="27432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ly price by 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191120" y="4724280"/>
            <a:ext cx="22096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culate sub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200400" y="426708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971440" y="495288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95DB-13D4-4BA3-AB93-B027182FCD0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1676520"/>
            <a:ext cx="7848720" cy="16761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LOV Wizard to create lists for the employee, customer, payment method, and S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KU will use columns from the Inventory and Item model t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button for the CustomerID that opens the LOV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DF58-85FD-4A47-B341-3E7987CFA46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form Value Colum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19800" y="1447920"/>
            <a:ext cx="7259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maintain a consistent format, copy and paste the SalePrice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properties of Value colum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600200" y="2514600"/>
            <a:ext cx="403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d: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ification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 Mask: $99,99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Mode: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: :QuantitySold*:Sale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Item: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 Name: (blank/dele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 Allowed: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Allowed: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Allowed: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pt: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91320" y="3048120"/>
            <a:ext cx="243828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clude the leading colon in variable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4267080" y="3429000"/>
            <a:ext cx="15242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9EB8-4EA7-4BB6-A9FF-CA5DF2968AE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Main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09880" y="1585800"/>
            <a:ext cx="5124240" cy="3686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181480" y="2286000"/>
            <a:ext cx="22100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ord 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3504960" y="42670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472428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5105160" y="213372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62320" y="4876920"/>
            <a:ext cx="10666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2666880" y="47242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952520" y="2666880"/>
            <a:ext cx="114300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70E4-92AF-4940-B10E-C530604969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9480" y="1676520"/>
            <a:ext cx="7848720" cy="2743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and paste the SalePrice column in the subform to create a Value colum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properties so that it multiplies SalePrice by QuantitySo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and paste this new column to create a subtotal colum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properties to make it a Summary calculation for Sum of the Value fie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subtotal and total fields to the Sale data block to display the subtotal and add the sales ta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D92A-B801-4008-957E-C47C4D81514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form Subtotal Colum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295280" y="1930320"/>
            <a:ext cx="388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 Sub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d: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ification: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board Navigable: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ype: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 Mask: $999,99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Mode: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 Function: 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ized Block: 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ized Item: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Item: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th: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ble: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pt: Sub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16920" y="15238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486400" y="2057400"/>
            <a:ext cx="30481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importan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so set one property for the SaleItem data blo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 All Records: 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9A3F-6207-4B5C-A20E-E7EAB571B83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1676520"/>
            <a:ext cx="7848720" cy="20574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the Sale data block properties and create a query as the data source to load the customer name and ph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ext boxes to the Sale form to display the name and ph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SaleID property to Primary K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properties of the customer items so the database cannot change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5165-E561-47E8-83FC-F7E51D279FF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e Form: Subtotal and Tot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73920" y="1484280"/>
            <a:ext cx="5662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Sale data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ext box to main form to display the subtotal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3048120"/>
            <a:ext cx="3200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 Sub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d: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ification: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ype: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 Mask: $999,99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Mode: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: :SaleItem.Sub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Item: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pt: Sub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787280" y="2398680"/>
            <a:ext cx="3087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it to create a Total D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14800" y="327672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 Sale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: :Sale.Subtotal + :Sale.Sales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pt: Total D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512F-4080-47E7-8D56-29420E4DD27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e Form: Customer Name (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1600200"/>
            <a:ext cx="784872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 Data Block Proper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L Data Target Type: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L Data Target Name: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 Data Source Type: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 Data Source Na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LECT SaleID, EmployeeID, SaleDate, Sale.CustomerID, ShipAddress, ShipCity, ShipState, ShipZIP, SalesTax, PaymentMethod, Customer.LastName as cLastName, Customer.FirstName as cFirstName, Customer.Phone as cPhone FROM Sale INNER JOIN Customer ON Sale.CustomerID=Customer.Customer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18000" y="5562720"/>
            <a:ext cx="35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ties for the Sale data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1A35-A3D8-4DDE-B483-35C06263703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e Form: Customer Name (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420920" y="1600200"/>
            <a:ext cx="6302160" cy="441972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57200" y="3581280"/>
            <a:ext cx="12193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676520" y="3733920"/>
            <a:ext cx="533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4952880"/>
            <a:ext cx="18288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umns/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3733560" y="403848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4267080" y="434304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0" y="4114800"/>
            <a:ext cx="129528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C86D-554C-4FD5-AEAC-835472C6107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e Form: Customer Name (3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16040" y="1636560"/>
            <a:ext cx="6593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ale form, set the property for SaleID: Primary Key: 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add textboxes or copy existing boxes for the new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371600" y="3048120"/>
            <a:ext cx="388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 c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d: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Item: 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 Name: c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 Only: 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Allowed: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Allowed: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pt: Firs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46AC-BB15-41F1-A1AC-613042A47AB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9480" y="1676520"/>
            <a:ext cx="7848720" cy="16761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button to the Sale form to edit customer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two lines of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more code to the Customer startup trig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, compile, and test all for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E513-CAAF-4FAC-A311-0993577A097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e Form: Edit Custom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75000" y="2228760"/>
            <a:ext cx="5711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button (btnEditCustomer) below the 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: WHEN-BUTTON-PR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143000" y="3106800"/>
            <a:ext cx="586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global.CustomerID := :Sale.Customer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_Form('D:\Students\AllPowder\Customer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2B78-037D-48D0-A257-6447B87D3FC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2286000"/>
            <a:ext cx="7467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here VARCHAR2(2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You should assign a null value to this in the startup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:global.CustomerID IS NOT NULL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here := ' WHERE CustomerID=' || :global.Customer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_block_property('Customer', DEFAULT_WHERE, sWher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_block('Customer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_que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281600" y="1636560"/>
            <a:ext cx="42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-NEW-FORM-INSTANCE trigg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3A50-FC3D-4549-B736-CFBE0C080F2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1447920"/>
            <a:ext cx="6781680" cy="42670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the form buil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ools/Data Block Wiz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the Customer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all colum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ck with default op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Layout Wiz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all colum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n up the promp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smaller values for the wid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option to show the scrollb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form desig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program: Start OC4J Inst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 to test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Execute Query but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9442-67A5-4679-B2D0-B55AF8B8DA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inal Sale Form Desig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934320" cy="476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9C95-89BD-4A9B-9D84-E0E450A5A9B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inal Sal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467320" cy="416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CF97-AEB2-4510-BFFC-B46C62789EF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9480" y="1676520"/>
            <a:ext cx="7848720" cy="32763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report with the wiz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title and choose Group Abo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the SQL query using the Customer, Sale, and SaleItem t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column Value AS QuantitySold * SalePrice to the SQ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group fields so Customer data is at Level 1 and Sale data is at Level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 all fiel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otals, compute Sum(Valu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a temp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report and sav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22C3-9E21-4589-B2D3-42AF2529CDF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Sales Report: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609480" y="1959120"/>
            <a:ext cx="7925040" cy="370044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762120" y="2819520"/>
            <a:ext cx="1981080" cy="1465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 columns from the Customer, Sale, and SaleItem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4648320"/>
            <a:ext cx="28191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oin tables by dragging a column to the next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4723920" y="327672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952880" y="3047760"/>
            <a:ext cx="16002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2262-8F52-473B-81FD-9CEE20C5422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uery: Calculated Value Colum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2133720"/>
            <a:ext cx="7696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ALL CUSTOMER.CUSTOMERID, CUSTOMER.LASTNAM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.FIRSTNAME, CUSTOMER.PHONE, CUSTOMER.EMAIL, CUSTOMER.CIT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.STATE, SALE.SALEID, SALE.SALEDATE, SALE.SHIPSTATE, SALE.PAYMENTMETHO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ITEM.SKU, SALEITEM.QUANTITYSOLD, SALEITEM.SALEPRI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ALEITEM.QUANTITYSOLD*SALEITEM.SALEPRICE A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CUSTOMER, SALE, 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((CUSTOMER.CUSTOMERID = SALE.CUSTOMER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(SALE.SALEID = SALEITEM.SALEID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4BD3-49E0-4927-BEB1-3A4F293537E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port Group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5715000" cy="36198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6400800" y="1676520"/>
            <a:ext cx="213372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ve CustomerID first, followed by columns from the Custome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400800" y="3352680"/>
            <a:ext cx="21337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ick 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00800" y="4038480"/>
            <a:ext cx="213372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ve SaleID, followed by columns from the Sal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5333760" y="243828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5562720" y="31240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105520" y="4572000"/>
            <a:ext cx="1295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68F2-F721-46F4-99AE-A450DF1BF2A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port Display Colum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724040" y="2052720"/>
            <a:ext cx="5695920" cy="361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9DB8-6C8C-46CE-BBBC-5F51F7786DB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elect Tot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709640" y="2057400"/>
            <a:ext cx="5724720" cy="36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D2F3-EA0C-48F3-9C65-82F37386239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itial Labels and Column Width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717560" y="2066760"/>
            <a:ext cx="5707080" cy="359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0D9D-67BC-47E4-9D27-5AAB224CAD7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itial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5871960" cy="44193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6324480" y="251928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stomer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324480" y="320508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e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24480" y="388620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eItem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5486400" y="274320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586728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5105520" y="3809520"/>
            <a:ext cx="12189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CF5B-D2FC-4A24-985D-B7A28CFE7DF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46360" y="1600200"/>
            <a:ext cx="5649840" cy="4419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in Form Wizar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2209680"/>
            <a:ext cx="16002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4495680"/>
            <a:ext cx="23623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/transfer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4648320" y="38095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5867280" y="3962160"/>
            <a:ext cx="152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105160" y="259092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1447920"/>
            <a:ext cx="16002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/Data block w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93C0-F228-40C0-850E-C43E5ECCBC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itial Report Desig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881680" cy="44197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6477120" y="190512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stomer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477120" y="259092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e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477120" y="327672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eItem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477120" y="380520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e foo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77120" y="449100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stomer foo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5943600" y="21337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5943600" y="281952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 flipV="1">
            <a:off x="4800240" y="3276360"/>
            <a:ext cx="1676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 flipV="1">
            <a:off x="4800240" y="3428640"/>
            <a:ext cx="1676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 flipV="1">
            <a:off x="4343040" y="3505320"/>
            <a:ext cx="21337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477120" y="510552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ort foo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4191120" y="3657240"/>
            <a:ext cx="22860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3D8D-F50C-4A33-BA05-0AABE6D9B01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port Desig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38080" y="236232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stomer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38080" y="411480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e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38080" y="533412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eItem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743200" y="2590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743200" y="4343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743200" y="5562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3578400" y="1600200"/>
            <a:ext cx="198576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5108-16E5-47D2-87F4-A4D4B634E32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port: Object Naviga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2797200" y="1600200"/>
            <a:ext cx="3548160" cy="44197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609480" y="2895480"/>
            <a:ext cx="16765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ord group for customer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286000" y="3123720"/>
            <a:ext cx="1600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629400" y="259092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stomer foo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5181480" y="2666880"/>
            <a:ext cx="1447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4648320"/>
            <a:ext cx="16765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e group within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286000" y="4800240"/>
            <a:ext cx="1676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629400" y="411480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stomer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5181480" y="4343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629400" y="327672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stomer lab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518148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161F-298C-4FDE-811A-D2FB9BD9BF4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9480" y="1676520"/>
            <a:ext cx="7848720" cy="19810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items around to improve the lo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urrency forma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Page Protect in all customer 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the data model is corr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and test the rep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D1B1-7F1C-4C94-ABA4-31F0A1943D3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inal Desig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36640" y="1600200"/>
            <a:ext cx="746928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5813-938B-4542-B3F3-1FB5050F96C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inal Report (One Page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2449440" y="1600200"/>
            <a:ext cx="42433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7533-A4ED-41C4-8AA6-9B9D0005BE9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09480" y="1676520"/>
            <a:ext cx="7848720" cy="19810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to total sales by cust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report based on the qu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Group Above sty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the No Template o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Level 1 group with the customer colum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the report and clean it 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216A-818E-4AB4-8354-2D67349904C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Totals Without Ite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2057400"/>
            <a:ext cx="784872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ustomer.CustomerID, Customer.LastName, Customer.FirstName, Customer.Phone, Customer.EMail, Sale.SaleID, Sale.SaleDate, Sale.ShipCity, Sale.ShipState, Sum(SalePrice*QuantitySold) A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(Customer INNER JOIN Sale ON Customer.CustomerID = Sale.CustomerID) INNER JOIN SaleItem ON Sale.SaleID = SaleItem.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Customer.CustomerID, Customer.LastName, Customer.FirstName, Customer.Phone, Customer.EMail, Sale.SaleID, Sale.SaleDate, Sale.ShipCity, Sale.Ship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 BY Customer.LastName, Customer.First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B7C3-2A3B-466A-93FC-908FA266D46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es Total Desig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861840" y="1995480"/>
            <a:ext cx="7418520" cy="37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F970-A51D-4244-9E12-A3CD13CFCC78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ayout Wizar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47720" y="1600200"/>
            <a:ext cx="5848560" cy="441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267080" y="4724280"/>
            <a:ext cx="31244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olumn widths—default values are too w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867280" y="3962520"/>
            <a:ext cx="4572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29000" y="419112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n up prom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495680" y="3962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041E-58EF-4767-B83D-6B31470D53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orm Design View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00200" y="1677960"/>
            <a:ext cx="6386400" cy="47991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419720" y="1371600"/>
            <a:ext cx="16002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olbox to add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505320" y="1752480"/>
            <a:ext cx="9144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10280" y="4419720"/>
            <a:ext cx="16765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erties to control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5866920" y="4495680"/>
            <a:ext cx="1143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4343400"/>
            <a:ext cx="129564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ght click to open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447920" y="380988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1447920"/>
            <a:ext cx="12956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navig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1905120"/>
            <a:ext cx="5331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2971800"/>
            <a:ext cx="129564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ght click to add trigger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447920" y="35053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1B52-878D-4320-B4B5-8BF52D7547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racle Form Structu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1600200"/>
            <a:ext cx="6476760" cy="419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1905120"/>
            <a:ext cx="1752480" cy="1369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Block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3720" y="4037040"/>
            <a:ext cx="1752480" cy="1370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Block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1" idx="2"/>
            <a:endCxn id="152" idx="0"/>
          </p:cNvCxnSpPr>
          <p:nvPr/>
        </p:nvCxnSpPr>
        <p:spPr>
          <a:xfrm>
            <a:off x="3009600" y="3274560"/>
            <a:ext cx="108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4" name=""/>
          <p:cNvSpPr/>
          <p:nvPr/>
        </p:nvSpPr>
        <p:spPr>
          <a:xfrm>
            <a:off x="5334120" y="1981080"/>
            <a:ext cx="2819160" cy="160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va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3962520"/>
            <a:ext cx="2819160" cy="160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va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91320" y="2442960"/>
            <a:ext cx="13921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3052800"/>
            <a:ext cx="13921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4463280"/>
            <a:ext cx="91440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81680" y="4463280"/>
            <a:ext cx="91440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809880" y="2590560"/>
            <a:ext cx="2057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9880" y="281952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4648320"/>
            <a:ext cx="1828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3733920" y="4876560"/>
            <a:ext cx="3352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3352680"/>
            <a:ext cx="762120" cy="15264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3276720"/>
            <a:ext cx="762120" cy="15228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3200400"/>
            <a:ext cx="762120" cy="15228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124080"/>
            <a:ext cx="762120" cy="15264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048120"/>
            <a:ext cx="762120" cy="15228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971800"/>
            <a:ext cx="762120" cy="15228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2895480"/>
            <a:ext cx="762120" cy="15264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6400" y="365760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3276720"/>
            <a:ext cx="60984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523880" y="281952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7508-5B5F-46FA-8031-64CB9AB5B0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848120" y="1762200"/>
            <a:ext cx="3486240" cy="40957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a Source Propert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804960" y="1757520"/>
            <a:ext cx="3495600" cy="41050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254600" y="5867280"/>
            <a:ext cx="23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block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90000" y="586728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276360" y="2286000"/>
            <a:ext cx="2286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7162920" y="228600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52480" y="1676520"/>
            <a:ext cx="18288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ource = Custome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5880" y="1676520"/>
            <a:ext cx="19051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 Name = 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1E28-7A5B-413E-9DD5-9BF9720697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6-06-19T23:43:25Z</dcterms:modified>
  <cp:revision>73</cp:revision>
  <dc:subject/>
  <dc:title>All Powder Board and Ski</dc:title>
</cp:coreProperties>
</file>