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6447B-1A84-433E-A3E7-25C2268DB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9B19B-9F02-4A2E-973C-1E63B3FDF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A6294-1E6A-4DD9-813D-6B3106B16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F097E-6855-4C9D-8510-2964043A6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345F4-8986-4384-BC0B-F8DB7B8DE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7F790-B279-4F5E-A200-FA28F2BA7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C92EA-0FD0-45FE-B0A4-7330F4C3D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FFA97-0014-4AE4-853C-D316407C2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63375-BE56-47B6-A352-9820F5C6B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D54BC-ED1C-4CF7-8767-5C01058D5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C5B39-C035-4AAB-BEEE-0C80560F6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380DC-3ED1-4702-8822-357C1FDD6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64CEC-2E33-4636-B869-D154FA2A7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40A1E-007D-43DC-BECC-419C02BBE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AC74B-6C07-48E1-9E06-3E7C87981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01E09-5FF0-4EDA-BBFE-C34615CB0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8858A-3704-4B8D-8766-41A63B8CC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D0D6F-781E-4FF0-A48F-CAF925D38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E04CE-0F7B-4443-9AAF-C5091F70D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223AC-11A6-4367-94F6-8028AFDD3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E7D30-24D7-43C1-B409-6D3C2A725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19367-63AF-4444-80E7-53A705656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1FF35-1BF2-476E-A31C-4C8B16576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1F223-5E18-4312-9837-536AD6E43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53779-9D2D-4019-A7F5-9CD9183DA90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9AD0B-7E0D-4BD8-AFF7-EDA3CB54F8C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All Powder Board and Ski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QL Server Workbo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pter 7: Integrity and Trans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erry P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pyright © 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9696B-9426-4DF2-88A9-8E6040EB08A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09480" y="1905120"/>
            <a:ext cx="7848720" cy="2590560"/>
          </a:xfrm>
          <a:prstGeom prst="rect">
            <a:avLst/>
          </a:prstGeom>
          <a:gradFill rotWithShape="0">
            <a:gsLst>
              <a:gs pos="0">
                <a:srgbClr val="d1d1d1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a login for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 the connection string in the app.config file to remove the values for Data Source, User ID, and Passwor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code to the Menu form to open the Login for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code to the Login button to modify the connection string and test the log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FD9C1-7B34-45A8-8658-A0B914CC92E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ode to Call Login Form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85800" y="2438280"/>
            <a:ext cx="7696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Private Su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enu_Load(ByVal sender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As Objec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ByVa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A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ystem.EventArgs)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Handl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M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Lo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Di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rmLogin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A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New Log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mLogin.ShowDialog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End Su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804760" y="1484280"/>
            <a:ext cx="110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nu.v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668A6-52DF-40B5-B546-5B2BFA7D123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Login Button Cod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04920" y="1371600"/>
            <a:ext cx="86104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36520"/>
                <a:tab algn="l" pos="457200"/>
                <a:tab algn="l" pos="693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Courier New"/>
              </a:rPr>
              <a:t>Private Sub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btnLogin_Click(ByVal sender </a:t>
            </a:r>
            <a:r>
              <a:rPr b="0" lang="en-US" sz="1600" spc="-1" strike="noStrike">
                <a:solidFill>
                  <a:srgbClr val="0000ff"/>
                </a:solidFill>
                <a:latin typeface="Courier New"/>
              </a:rPr>
              <a:t>As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System.Object, 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6520"/>
                <a:tab algn="l" pos="457200"/>
                <a:tab algn="l" pos="693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Courier New"/>
              </a:rPr>
              <a:t>ByVal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e </a:t>
            </a:r>
            <a:r>
              <a:rPr b="0" lang="en-US" sz="1600" spc="-1" strike="noStrike">
                <a:solidFill>
                  <a:srgbClr val="0000ff"/>
                </a:solidFill>
                <a:latin typeface="Courier New"/>
              </a:rPr>
              <a:t>As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System.EventArgs) </a:t>
            </a:r>
            <a:r>
              <a:rPr b="0" lang="en-US" sz="1600" spc="-1" strike="noStrike">
                <a:solidFill>
                  <a:srgbClr val="0000ff"/>
                </a:solidFill>
                <a:latin typeface="Courier New"/>
              </a:rPr>
              <a:t>Handles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btnLogin.Cli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6520"/>
                <a:tab algn="l" pos="457200"/>
                <a:tab algn="l" pos="693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'   connectionString="Data Source=;Initial Catalog=Powder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6520"/>
                <a:tab algn="l" pos="457200"/>
                <a:tab algn="l" pos="693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'   Persist Security Info=True;User ID=;Password=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6520"/>
                <a:tab algn="l" pos="457200"/>
                <a:tab algn="l" pos="693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Courier New"/>
              </a:rPr>
              <a:t>Dim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sCn </a:t>
            </a:r>
            <a:r>
              <a:rPr b="0" lang="en-US" sz="1600" spc="-1" strike="noStrike">
                <a:solidFill>
                  <a:srgbClr val="0000ff"/>
                </a:solidFill>
                <a:latin typeface="Courier New"/>
              </a:rPr>
              <a:t>As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String = </a:t>
            </a:r>
            <a:r>
              <a:rPr b="0" lang="en-US" sz="1600" spc="-1" strike="noStrike">
                <a:solidFill>
                  <a:srgbClr val="0000ff"/>
                </a:solidFill>
                <a:latin typeface="Courier New"/>
              </a:rPr>
              <a:t>My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Settings.PowderConnectionString.Replace 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6520"/>
                <a:tab algn="l" pos="457200"/>
                <a:tab algn="l" pos="693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"User ID=", "User ID=" &amp; UsernameTextBox.Tex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6520"/>
                <a:tab algn="l" pos="457200"/>
                <a:tab algn="l" pos="693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Cn = sCn.Replace("Password=", "Password=" &amp; PasswordTextBox.Tex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6520"/>
                <a:tab algn="l" pos="457200"/>
                <a:tab algn="l" pos="693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My.Settings.Item("PowderConnectionString") 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6520"/>
                <a:tab algn="l" pos="457200"/>
                <a:tab algn="l" pos="693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= sCn.Replace("Data Source=", "Data Source=" &amp; ServerTextBox.Tex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6520"/>
                <a:tab algn="l" pos="457200"/>
                <a:tab algn="l" pos="693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Courier New"/>
              </a:rPr>
              <a:t>T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6520"/>
                <a:tab algn="l" pos="457200"/>
                <a:tab algn="l" pos="693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Courier New"/>
              </a:rPr>
              <a:t>Dim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cnn </a:t>
            </a:r>
            <a:r>
              <a:rPr b="0" lang="en-US" sz="1600" spc="-1" strike="noStrike">
                <a:solidFill>
                  <a:srgbClr val="0000ff"/>
                </a:solidFill>
                <a:latin typeface="Courier New"/>
              </a:rPr>
              <a:t>As New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SqlClient.SqlConnection 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6520"/>
                <a:tab algn="l" pos="457200"/>
                <a:tab algn="l" pos="693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1600" spc="-1" strike="noStrike">
                <a:solidFill>
                  <a:srgbClr val="0000ff"/>
                </a:solidFill>
                <a:latin typeface="Courier New"/>
              </a:rPr>
              <a:t>My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Settings.Item("PowderConnectionString"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6520"/>
                <a:tab algn="l" pos="457200"/>
                <a:tab algn="l" pos="693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nn.Open(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6520"/>
                <a:tab algn="l" pos="457200"/>
                <a:tab algn="l" pos="693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nn.Close(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6520"/>
                <a:tab algn="l" pos="457200"/>
                <a:tab algn="l" pos="693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Courier New"/>
              </a:rPr>
              <a:t>Me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Close(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6520"/>
                <a:tab algn="l" pos="457200"/>
                <a:tab algn="l" pos="693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Courier New"/>
              </a:rPr>
              <a:t>Catch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ex </a:t>
            </a:r>
            <a:r>
              <a:rPr b="0" lang="en-US" sz="1600" spc="-1" strike="noStrike">
                <a:solidFill>
                  <a:srgbClr val="0000ff"/>
                </a:solidFill>
                <a:latin typeface="Courier New"/>
              </a:rPr>
              <a:t>As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Excep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6520"/>
                <a:tab algn="l" pos="457200"/>
                <a:tab algn="l" pos="693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MessageLabel.Text = "Invalid login. Please try again.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6520"/>
                <a:tab algn="l" pos="457200"/>
                <a:tab algn="l" pos="693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Courier New"/>
              </a:rPr>
              <a:t>End T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6520"/>
                <a:tab algn="l" pos="457200"/>
                <a:tab algn="l" pos="693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Courier New"/>
              </a:rPr>
              <a:t>End Su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172200" y="457200"/>
            <a:ext cx="113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Login.v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ADE72-07EC-4556-BF0F-D24EC0044F1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09480" y="1905120"/>
            <a:ext cx="7848720" cy="2666880"/>
          </a:xfrm>
          <a:prstGeom prst="rect">
            <a:avLst/>
          </a:prstGeom>
          <a:gradFill rotWithShape="0">
            <a:gsLst>
              <a:gs pos="0">
                <a:srgbClr val="d1d1d1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a new Taxes.vb clas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the parameterized code to compute the tax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 the Sale form and switch to cod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the SalesTax text box and the Enter ev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the code to compute the sales tax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n the form to test the comput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7DB88-9062-4965-A708-2B878CC3A94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ode to Compute Taxe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0880" y="1447920"/>
            <a:ext cx="83059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36520"/>
                <a:tab algn="l" pos="457200"/>
                <a:tab algn="l" pos="693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Courier New"/>
              </a:rPr>
              <a:t>Public Class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Tax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6520"/>
                <a:tab algn="l" pos="457200"/>
                <a:tab algn="l" pos="693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Courier New"/>
              </a:rPr>
              <a:t>Public Shared Functio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ComputeSalesTax(</a:t>
            </a:r>
            <a:r>
              <a:rPr b="0" lang="en-US" sz="1400" spc="-1" strike="noStrike">
                <a:solidFill>
                  <a:srgbClr val="0000ff"/>
                </a:solidFill>
                <a:latin typeface="Courier New"/>
              </a:rPr>
              <a:t>ByVal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Amount </a:t>
            </a:r>
            <a:r>
              <a:rPr b="0" lang="en-US" sz="1400" spc="-1" strike="noStrike">
                <a:solidFill>
                  <a:srgbClr val="0000ff"/>
                </a:solidFill>
                <a:latin typeface="Courier New"/>
              </a:rPr>
              <a:t>As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Courier New"/>
              </a:rPr>
              <a:t>Decimal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0" lang="en-US" sz="1400" spc="-1" strike="noStrike">
                <a:solidFill>
                  <a:srgbClr val="0000ff"/>
                </a:solidFill>
                <a:latin typeface="Courier New"/>
              </a:rPr>
              <a:t>As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Courier New"/>
              </a:rPr>
              <a:t>Decim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6520"/>
                <a:tab algn="l" pos="457200"/>
                <a:tab algn="l" pos="693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Courier New"/>
              </a:rPr>
              <a:t>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6520"/>
                <a:tab algn="l" pos="457200"/>
                <a:tab algn="l" pos="693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Courier New"/>
              </a:rPr>
              <a:t>Dim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cnn </a:t>
            </a:r>
            <a:r>
              <a:rPr b="0" lang="en-US" sz="1400" spc="-1" strike="noStrike">
                <a:solidFill>
                  <a:srgbClr val="0000ff"/>
                </a:solidFill>
                <a:latin typeface="Courier New"/>
              </a:rPr>
              <a:t>As New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6520"/>
                <a:tab algn="l" pos="457200"/>
                <a:tab algn="l" pos="693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qlClient.SqlConnection(My.Settings.PowderConnectionStrin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6520"/>
                <a:tab algn="l" pos="457200"/>
                <a:tab algn="l" pos="693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Courier New"/>
              </a:rPr>
              <a:t>Dim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cmd </a:t>
            </a:r>
            <a:r>
              <a:rPr b="0" lang="en-US" sz="1400" spc="-1" strike="noStrike">
                <a:solidFill>
                  <a:srgbClr val="0000ff"/>
                </a:solidFill>
                <a:latin typeface="Courier New"/>
              </a:rPr>
              <a:t>As New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SqlClient.Sql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6520"/>
                <a:tab algn="l" pos="457200"/>
                <a:tab algn="l" pos="693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md.Connection = cn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6520"/>
                <a:tab algn="l" pos="457200"/>
                <a:tab algn="l" pos="693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md.CommandText = "SELECT dbo.ComputeSalesTax(@Amount) AS Tax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6520"/>
                <a:tab algn="l" pos="457200"/>
                <a:tab algn="l" pos="693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md.Parameters.Add(New SqlClient.SqlParameter("@Amount", Amount)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6520"/>
                <a:tab algn="l" pos="457200"/>
                <a:tab algn="l" pos="693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Courier New"/>
              </a:rPr>
              <a:t>Dim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rdr </a:t>
            </a:r>
            <a:r>
              <a:rPr b="0" lang="en-US" sz="1400" spc="-1" strike="noStrike">
                <a:solidFill>
                  <a:srgbClr val="0000ff"/>
                </a:solidFill>
                <a:latin typeface="Courier New"/>
              </a:rPr>
              <a:t>As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SqlClient.SqlDataRea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6520"/>
                <a:tab algn="l" pos="457200"/>
                <a:tab algn="l" pos="693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nn.Open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6520"/>
                <a:tab algn="l" pos="457200"/>
                <a:tab algn="l" pos="693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dr = cmd.ExecuteReader(CommandBehavior.SingleRo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6520"/>
                <a:tab algn="l" pos="457200"/>
                <a:tab algn="l" pos="693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dr.Read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6520"/>
                <a:tab algn="l" pos="457200"/>
                <a:tab algn="l" pos="693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Courier New"/>
              </a:rPr>
              <a:t>Dim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tax </a:t>
            </a:r>
            <a:r>
              <a:rPr b="0" lang="en-US" sz="1400" spc="-1" strike="noStrike">
                <a:solidFill>
                  <a:srgbClr val="0000ff"/>
                </a:solidFill>
                <a:latin typeface="Courier New"/>
              </a:rPr>
              <a:t>As Decimal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= rdr.GetDecimal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6520"/>
                <a:tab algn="l" pos="457200"/>
                <a:tab algn="l" pos="693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dr.Close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6520"/>
                <a:tab algn="l" pos="457200"/>
                <a:tab algn="l" pos="693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nn.Close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6520"/>
                <a:tab algn="l" pos="457200"/>
                <a:tab algn="l" pos="693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Courier New"/>
              </a:rPr>
              <a:t>Retur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ta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6520"/>
                <a:tab algn="l" pos="457200"/>
                <a:tab algn="l" pos="693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Courier New"/>
              </a:rPr>
              <a:t>Catch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ex </a:t>
            </a:r>
            <a:r>
              <a:rPr b="0" lang="en-US" sz="1400" spc="-1" strike="noStrike">
                <a:solidFill>
                  <a:srgbClr val="0000ff"/>
                </a:solidFill>
                <a:latin typeface="Courier New"/>
              </a:rPr>
              <a:t>As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Excep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6520"/>
                <a:tab algn="l" pos="457200"/>
                <a:tab algn="l" pos="693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ystem.Windows.Forms.MessageBox.Show("Error computing taxes."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6520"/>
                <a:tab algn="l" pos="457200"/>
                <a:tab algn="l" pos="693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Courier New"/>
              </a:rPr>
              <a:t>Retur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0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6520"/>
                <a:tab algn="l" pos="457200"/>
                <a:tab algn="l" pos="693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Courier New"/>
              </a:rPr>
              <a:t>End 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6520"/>
                <a:tab algn="l" pos="457200"/>
                <a:tab algn="l" pos="693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Courier New"/>
              </a:rPr>
              <a:t>End Fun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6520"/>
                <a:tab algn="l" pos="457200"/>
                <a:tab algn="l" pos="693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Courier New"/>
              </a:rPr>
              <a:t>End Cla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936480" y="533520"/>
            <a:ext cx="115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Taxes.v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4BC00-BB50-4483-84CB-416C138926A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Add Event Code to the Sales Form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09480" y="2057400"/>
            <a:ext cx="792504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36520"/>
                <a:tab algn="l" pos="457200"/>
                <a:tab algn="l" pos="693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Courier New"/>
              </a:rPr>
              <a:t>Private Sub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SalesTaxTextBox_Enter(</a:t>
            </a:r>
            <a:r>
              <a:rPr b="0" lang="en-US" sz="1400" spc="-1" strike="noStrike">
                <a:solidFill>
                  <a:srgbClr val="0000ff"/>
                </a:solidFill>
                <a:latin typeface="Courier New"/>
              </a:rPr>
              <a:t>ByVal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sender </a:t>
            </a:r>
            <a:r>
              <a:rPr b="0" lang="en-US" sz="1400" spc="-1" strike="noStrike">
                <a:solidFill>
                  <a:srgbClr val="0000ff"/>
                </a:solidFill>
                <a:latin typeface="Courier New"/>
              </a:rPr>
              <a:t>As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Object, 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6520"/>
                <a:tab algn="l" pos="457200"/>
                <a:tab algn="l" pos="693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Courier New"/>
              </a:rPr>
              <a:t>ByVal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e </a:t>
            </a:r>
            <a:r>
              <a:rPr b="0" lang="en-US" sz="1400" spc="-1" strike="noStrike">
                <a:solidFill>
                  <a:srgbClr val="0000ff"/>
                </a:solidFill>
                <a:latin typeface="Courier New"/>
              </a:rPr>
              <a:t>As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System.EventArgs) Handles SalesTaxTextBox.En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6520"/>
                <a:tab algn="l" pos="457200"/>
                <a:tab algn="l" pos="693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Courier New"/>
              </a:rPr>
              <a:t>Dim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tax </a:t>
            </a:r>
            <a:r>
              <a:rPr b="0" lang="en-US" sz="1400" spc="-1" strike="noStrike">
                <a:solidFill>
                  <a:srgbClr val="0000ff"/>
                </a:solidFill>
                <a:latin typeface="Courier New"/>
              </a:rPr>
              <a:t>As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Decimal = Taxes.ComputeSalesTax(</a:t>
            </a:r>
            <a:r>
              <a:rPr b="0" lang="en-US" sz="1400" spc="-1" strike="noStrike">
                <a:solidFill>
                  <a:srgbClr val="0000ff"/>
                </a:solidFill>
                <a:latin typeface="Courier New"/>
              </a:rPr>
              <a:t>M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SubtotalLabel.Tex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6520"/>
                <a:tab algn="l" pos="457200"/>
                <a:tab algn="l" pos="693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alesTaxTextBox.Text = Format(tax, "0.00"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6520"/>
                <a:tab algn="l" pos="457200"/>
                <a:tab algn="l" pos="693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Courier New"/>
              </a:rPr>
              <a:t>M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SaleTotalLabel.Text = Format(</a:t>
            </a:r>
            <a:r>
              <a:rPr b="0" lang="en-US" sz="1400" spc="-1" strike="noStrike">
                <a:solidFill>
                  <a:srgbClr val="0000ff"/>
                </a:solidFill>
                <a:latin typeface="Courier New"/>
              </a:rPr>
              <a:t>CTyp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(SubtotalLabel.Text, </a:t>
            </a:r>
            <a:r>
              <a:rPr b="0" lang="en-US" sz="1400" spc="-1" strike="noStrike">
                <a:solidFill>
                  <a:srgbClr val="0000ff"/>
                </a:solidFill>
                <a:latin typeface="Courier New"/>
              </a:rPr>
              <a:t>Decimal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) 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6520"/>
                <a:tab algn="l" pos="457200"/>
                <a:tab algn="l" pos="693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Courier New"/>
              </a:rPr>
              <a:t>+ tax, "0.00"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6520"/>
                <a:tab algn="l" pos="457200"/>
                <a:tab algn="l" pos="693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Courier New"/>
              </a:rPr>
              <a:t>End Su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C87F5-224A-4705-929E-172FDC6D35A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ale Form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2057400" y="1676520"/>
            <a:ext cx="4971960" cy="4105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D23D7-45E2-476F-8CD0-074DFCCD33A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1600200" y="1447920"/>
            <a:ext cx="6114960" cy="459720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Debugging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0880" y="2930400"/>
            <a:ext cx="137160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set breakpo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3581280"/>
            <a:ext cx="5335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029200" y="1752480"/>
            <a:ext cx="198108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bug/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bug/Step I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H="1" flipV="1">
            <a:off x="3962160" y="1905120"/>
            <a:ext cx="10666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257800" y="5181480"/>
            <a:ext cx="175248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e form and variable val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 flipV="1">
            <a:off x="3276360" y="5181480"/>
            <a:ext cx="19810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H="1" flipV="1">
            <a:off x="4724280" y="5257800"/>
            <a:ext cx="5335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H="1" flipV="1">
            <a:off x="3047760" y="1752480"/>
            <a:ext cx="19810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BDC79-01E9-494F-AF0C-EE897F156FF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Inventory Database Trigger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09480" y="1600200"/>
            <a:ext cx="72392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le(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aleI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CustomerID, EmployeeID, SaleDate, 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leItem(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aleI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KU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QuantitySold, SalePric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entory(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KU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QuantityOnHand, 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09480" y="3276720"/>
            <a:ext cx="6858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a new item is sold, subtract QuantitySold from QuantityOnH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lications: changes to the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SaleItem is revoked, the SaleItem row dele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QuantitySold is chang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KU is chang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4952880"/>
            <a:ext cx="4953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ple valu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leID=3000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KU=500000 or 500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CustomerID=582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mployeeID=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8E479-A712-43C3-AEFB-27C4857F1D6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838080" y="1828800"/>
            <a:ext cx="7315200" cy="2438280"/>
          </a:xfrm>
          <a:prstGeom prst="rect">
            <a:avLst/>
          </a:prstGeom>
          <a:gradFill rotWithShape="0">
            <a:gsLst>
              <a:gs pos="0">
                <a:srgbClr val="d1d1d1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ert a new row into the Sale table with a SaleID of 3000, CustomerID of 582, and EmployeeID of 5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the INSERT trigger for the SaleItem tab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ert a new row into the SaleItem table (3000, 500000, 1, 100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eck the value of QuantityOnHand in the Inventory table for SKU=500000 and ensure it was decreased from 10 to 9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883DF-7E33-4C29-9906-60E434854D3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2057400" y="1676520"/>
            <a:ext cx="4971960" cy="410508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ompute Sales Tax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095880" y="3581280"/>
            <a:ext cx="83844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les Ta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 flipV="1">
            <a:off x="5715000" y="3581280"/>
            <a:ext cx="3808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22512-ED3D-4258-AEFE-20A393AFCA1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Database Event Trigger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62320" y="1447920"/>
            <a:ext cx="403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1380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DELETE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INSERT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UP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838080" y="2057400"/>
            <a:ext cx="769644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6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EXISTS (SELECT name FROM sysob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6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RE name='NewSaleQOH' AND type='TR'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6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OP TRIGGER NewSaleQO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6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6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TRIGGER NewSaleQO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6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Sale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6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INSE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6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6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DATE Inven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6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QuantityOnHand = QuantityOnHand - inserted.QuantitySo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6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Inventory INNER JOIN insert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6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Inventory.SKU = inserted.SK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6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562720" y="5486400"/>
            <a:ext cx="182880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/inserted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6019560" y="4952880"/>
            <a:ext cx="1522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H="1" flipV="1">
            <a:off x="4952520" y="5333760"/>
            <a:ext cx="12193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43221-8708-408A-B7E5-339E017C359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etup Exampl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33520" y="1828800"/>
            <a:ext cx="73911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ERT INTO Sale (SaleID, CustomerID, EmployeeI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ES (3000, 582, 5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SKU, QuantityOnH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Inven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RE SKU=50000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ERT INTO SaleItem (SaleID, SKU, QuantitySold, SalePric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ES (3000, 500000, 1, 100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85800" y="4952880"/>
            <a:ext cx="609588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eck the QuantityOnHand before and after the INSE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10F90-0701-4F88-891F-127AC823155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1676520"/>
            <a:ext cx="6934320" cy="2743200"/>
          </a:xfrm>
          <a:prstGeom prst="rect">
            <a:avLst/>
          </a:prstGeom>
          <a:gradFill rotWithShape="0">
            <a:gsLst>
              <a:gs pos="0">
                <a:srgbClr val="d1d1d1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lete the SaleItem row (SaleID=3000 And SKU=500000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eck the quantity on han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the DELETE trigg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ert the SaleItem row ag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eck the quantity on han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lete the SaleItem row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eck the quantity on han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9BAEF-E1D9-4B82-936B-64950B42B42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Potential Problem: Delete Row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838080" y="14479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LETE FROM Sale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RE SaleID=3000 And SKU=50000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762120" y="2133720"/>
            <a:ext cx="609588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eck the QuantityOnHand before and after the DE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value does not change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85800" y="2895480"/>
            <a:ext cx="72388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06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EXISTS (SELECT name FROM sysob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06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RE name='DelSaleQOH' AND type='TR'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06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OP TRIGGER DelSaleQO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06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06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TRIGGER DelSaleQO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06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Sale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06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DE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06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06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DATE Inven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06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QuantityOnHand = QuantityOnHand + deleted.QuantitySo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06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Inventory INNER JOIN dele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06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Inventory.SKU = deleted.SK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06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172200" y="4495680"/>
            <a:ext cx="4572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943600" y="3886200"/>
            <a:ext cx="182880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tore the deleted quant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B7C0D-A959-4241-9337-C76EAAA1456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Problem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f the clerk entered the wrong value and should have entered 1 instead of 2 uni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st it, and the code subtracts 1 from the QOH, leaving 7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need to add the original 2 units bac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21640" y="4394160"/>
            <a:ext cx="7750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antityOnHand = QuantityOnHand – QuantitySold 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ldQuant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E26D0-5D72-434A-BBAD-3ABF899DF569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219320" y="1828800"/>
            <a:ext cx="6476760" cy="2133720"/>
          </a:xfrm>
          <a:prstGeom prst="rect">
            <a:avLst/>
          </a:prstGeom>
          <a:gradFill rotWithShape="0">
            <a:gsLst>
              <a:gs pos="0">
                <a:srgbClr val="d1d1d1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the UPDATE trigg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eck the quantity on han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sue an update to change the QuantitySold in the SaleItem tab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eck the quantity on han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22992-AF79-45A1-8543-FC47B2E39E3F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Problem: Change the Quantity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80880" y="2590920"/>
            <a:ext cx="853452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EXISTS (SELECT name FROM sysobjec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ERE name='ChangeSaleQOH' AND type='TR'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ROP TRIGGER ChangeSaleQO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EATE TRIGGER ChangeSaleQO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 SaleI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UPD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DATE Invento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T QuantityOnHand = QuantityOnHand - inserted.QuantitySold + deleted.QuantitySol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OM Inventory INNER JOIN insert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 Inventory.SKU = inserted.SK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NER JOIN dele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 Inventory.SKU = deleted.SK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57200" y="1600200"/>
            <a:ext cx="7620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DATE Sale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QuantitySold =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RE SaleID=3000 And SKU=50000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181480" y="1523880"/>
            <a:ext cx="99072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257800" y="5715000"/>
            <a:ext cx="152388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it ag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419720" y="3505320"/>
            <a:ext cx="365760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back the old quantity (1) and subtract the new value (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5181480" y="4191120"/>
            <a:ext cx="9144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095880" y="4191120"/>
            <a:ext cx="9907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0E727-299A-4AEF-B799-456B4054ED31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Problem: Change the SKU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990720" y="3352680"/>
            <a:ext cx="5867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DATE Sale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QuantitySold = 3, SKU = 500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RE SaleID=3000 And SKU=50000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990720" y="2595600"/>
            <a:ext cx="525780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it by changing both QuantitySold and SK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990720" y="4495680"/>
            <a:ext cx="4876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SKU, QuantityOnH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Inven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RE SKU=500000 Or SKU=50001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990720" y="1447920"/>
            <a:ext cx="4876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SKU, QuantityOnH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Inven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RE SKU=500000 Or SKU=50001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3D514-A883-46C2-AC2F-725C4E951C75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33520" y="1981080"/>
            <a:ext cx="7924680" cy="1981440"/>
          </a:xfrm>
          <a:prstGeom prst="rect">
            <a:avLst/>
          </a:prstGeom>
          <a:gradFill rotWithShape="0">
            <a:gsLst>
              <a:gs pos="0">
                <a:srgbClr val="d1d1d1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the full UPDATE trigg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eck the quantity on han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nge the QuantitySold and SKU (to 500010) in the SaleItem row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eck the quantity on hand for SKU 500000 and 50001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D62A8-6E30-49F5-95C4-35A643BDC5D1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Trigger to Handle SKU Changes 1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57200" y="1547640"/>
            <a:ext cx="868680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31840"/>
                <a:tab algn="l" pos="46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EXISTS (SELECT name FROM sysobjec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31840"/>
                <a:tab algn="l" pos="46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ERE name='ChangeSaleQOH' AND type='TR'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31840"/>
                <a:tab algn="l" pos="46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ROP TRIGGER ChangeSaleQO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31840"/>
                <a:tab algn="l" pos="46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31840"/>
                <a:tab algn="l" pos="46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EATE TRIGGER ChangeSaleQO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31840"/>
                <a:tab algn="l" pos="46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 SaleI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31840"/>
                <a:tab algn="l" pos="46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UPD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31840"/>
                <a:tab algn="l" pos="46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31840"/>
                <a:tab algn="l" pos="46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(COLUMNS_UPDATED() &amp; 4) &gt; 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/* 3rd column QuantitySold is changed *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31840"/>
                <a:tab algn="l" pos="46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31840"/>
                <a:tab algn="l" pos="46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DATE Invento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31840"/>
                <a:tab algn="l" pos="46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T QuantityOnHand = QuantityOnHand - inserted.QuantitySold + deleted.QuantitySol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31840"/>
                <a:tab algn="l" pos="46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OM Inventory INNER JOIN insert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31840"/>
                <a:tab algn="l" pos="46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 Inventory.SKU = inserted.SK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31840"/>
                <a:tab algn="l" pos="46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NER JOIN dele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31840"/>
                <a:tab algn="l" pos="46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 Inventory.SKU = deleted.SK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31840"/>
                <a:tab algn="l" pos="46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28B7D-6D0E-4B7D-AD6E-E89D3AEC4641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828800" y="1828800"/>
            <a:ext cx="5029200" cy="1676520"/>
          </a:xfrm>
          <a:prstGeom prst="rect">
            <a:avLst/>
          </a:prstGeom>
          <a:gradFill rotWithShape="0">
            <a:gsLst>
              <a:gs pos="0">
                <a:srgbClr val="d1d1d1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SQL Server Management Studio to create the ComputeSalesTax func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the function with an SQL statem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53E76-24F4-4373-A6D6-9C11A883506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Trigger to Handle SKU Changes 2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80880" y="1828800"/>
            <a:ext cx="81536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3652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(COLUMNS_UPDATED() &amp; 2) &gt; 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* 2nd column SKU is changed *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3652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3652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DATE Invento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* restore QOH for original SKU *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3652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QuantityOnHand = QuantityOnHand + deleted.QuantitySo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3652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Inventory INNER JOIN dele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3652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Inventory.SKU = deleted.SK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3652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DATE Invento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* subtract for QOH for new SKU *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3652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QuantityOnHand = QuantityOnHand - inserted.QuantitySo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3652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Inventory INNER JOIN inser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3652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Inventory.SKU = inserted.SK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3652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3652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666880" y="5486400"/>
            <a:ext cx="152424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it ag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893D2-6F3B-48D7-861E-49529F793974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2133720" y="1752480"/>
            <a:ext cx="3865320" cy="411480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Transactions for Discount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019920" y="4648320"/>
            <a:ext cx="144756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5638320" y="4800600"/>
            <a:ext cx="3812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AC82C-31F2-4264-B821-23CBF9BAC072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QL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84480" y="1981080"/>
            <a:ext cx="801252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CREATE TABLE RentalDiscou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RentID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int  NOT NULL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DiscountDat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datetime NOT NULL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DiscountAmoun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money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Reaso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nvarchar(150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CONSTRAINT pk_RentalDiscount PRIMARY KEY (RentID, DiscountDate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CONSTRAINT fk_RentalDiscountRental FOREIGN KEY (RentI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REFERENCES Rental(RentI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ON DELETE CASC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399F6-8C5D-4D71-9490-CE6A3699A6EF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5800680" cy="429588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Rental Form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410080" y="1600200"/>
            <a:ext cx="175284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tton to open discount 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5791320" y="2209680"/>
            <a:ext cx="83808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76B3D-5306-4321-952D-2A5C39C14F99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914400" y="1905120"/>
            <a:ext cx="7238880" cy="2361960"/>
          </a:xfrm>
          <a:prstGeom prst="rect">
            <a:avLst/>
          </a:prstGeom>
          <a:gradFill rotWithShape="0">
            <a:gsLst>
              <a:gs pos="0">
                <a:srgbClr val="d1d1d1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the Rental for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the RentalDiscount tab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the Rental Discount for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the text boxes and butt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ve the for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a button to the Rental form that opens the Discount for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8540D-D184-4481-BEAA-6017907D6718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2590920" y="1676520"/>
            <a:ext cx="3733560" cy="2857320"/>
          </a:xfrm>
          <a:prstGeom prst="rect">
            <a:avLst/>
          </a:prstGeom>
          <a:ln w="0">
            <a:noFill/>
          </a:ln>
        </p:spPr>
      </p:pic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Rental Discount Form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57200" y="2133720"/>
            <a:ext cx="1905120" cy="11912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ntID and Amount are determined by the Rental 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2362320" y="2590920"/>
            <a:ext cx="99036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362320" y="2895480"/>
            <a:ext cx="10666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895480" y="4648320"/>
            <a:ext cx="335304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is an unbound form built as a blank Window for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71E83-E3F5-4154-8F01-3435DDA481BA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09480" y="1600200"/>
            <a:ext cx="7620120" cy="1676520"/>
          </a:xfrm>
          <a:prstGeom prst="rect">
            <a:avLst/>
          </a:prstGeom>
          <a:gradFill rotWithShape="0">
            <a:gsLst>
              <a:gs pos="0">
                <a:srgbClr val="d1d1d1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 the Rental Discount for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the specified code to the Click ev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the Refresh button and code to the Rental for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the for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A84D6-6BDD-4341-B314-62EEDE1DB0E2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Rental Form Code: Discount Button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762120" y="5257800"/>
            <a:ext cx="708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ransfer the RentID and Repair charge to the new form as defaul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838080" y="1600200"/>
            <a:ext cx="62485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ntal Form, Button to open Discount 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igger event: Cli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57200" y="2666880"/>
            <a:ext cx="77724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31840"/>
                <a:tab algn="l" pos="46512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1800" spc="-1" strike="noStrike">
                <a:solidFill>
                  <a:srgbClr val="0000ff"/>
                </a:solidFill>
                <a:latin typeface="Arial"/>
              </a:rPr>
              <a:t>Private Sub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 DiscountButton_Click(</a:t>
            </a:r>
            <a:r>
              <a:rPr b="0" sz="1800" spc="-1" strike="noStrike">
                <a:solidFill>
                  <a:srgbClr val="0000ff"/>
                </a:solidFill>
                <a:latin typeface="Arial"/>
              </a:rPr>
              <a:t>ByVal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 sender </a:t>
            </a:r>
            <a:r>
              <a:rPr b="0" sz="1800" spc="-1" strike="noStrike">
                <a:solidFill>
                  <a:srgbClr val="0000ff"/>
                </a:solidFill>
                <a:latin typeface="Arial"/>
              </a:rPr>
              <a:t>As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 System.Object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31840"/>
                <a:tab algn="l" pos="46512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1800" spc="-1" strike="noStrike">
                <a:solidFill>
                  <a:srgbClr val="0000ff"/>
                </a:solidFill>
                <a:latin typeface="Arial"/>
              </a:rPr>
              <a:t>ByVal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0" sz="1800" spc="-1" strike="noStrike">
                <a:solidFill>
                  <a:srgbClr val="0000ff"/>
                </a:solidFill>
                <a:latin typeface="Arial"/>
              </a:rPr>
              <a:t>As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 System.EventArgs) </a:t>
            </a:r>
            <a:r>
              <a:rPr b="0" sz="1800" spc="-1" strike="noStrike">
                <a:solidFill>
                  <a:srgbClr val="0000ff"/>
                </a:solidFill>
                <a:latin typeface="Arial"/>
              </a:rPr>
              <a:t>Handles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 DiscountButton.Cli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31840"/>
                <a:tab algn="l" pos="46512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sz="1800" spc="-1" strike="noStrike">
                <a:solidFill>
                  <a:srgbClr val="0000ff"/>
                </a:solidFill>
                <a:latin typeface="Arial"/>
              </a:rPr>
              <a:t>Dim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 frmRentalDiscount </a:t>
            </a:r>
            <a:r>
              <a:rPr b="0" sz="1800" spc="-1" strike="noStrike">
                <a:solidFill>
                  <a:srgbClr val="0000ff"/>
                </a:solidFill>
                <a:latin typeface="Arial"/>
              </a:rPr>
              <a:t>As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1800" spc="-1" strike="noStrike">
                <a:solidFill>
                  <a:srgbClr val="0000ff"/>
                </a:solidFill>
                <a:latin typeface="Arial"/>
              </a:rPr>
              <a:t>New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 RentalDiscount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31840"/>
                <a:tab algn="l" pos="46512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frmRentalDiscount.Show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31840"/>
                <a:tab algn="l" pos="46512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frmRentalDiscount.RentIDTextBox.Text = Me.RentIDTextBox.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31840"/>
                <a:tab algn="l" pos="46512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frmRentalDiscount.AmountTextBox.Text = Me.ChargesLabel.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31840"/>
                <a:tab algn="l" pos="46512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ff"/>
                </a:solidFill>
                <a:latin typeface="Arial"/>
              </a:rPr>
              <a:t>End Su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0121B-B908-47F6-B406-BB271354EE68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Transaction Code 1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33520" y="1387440"/>
            <a:ext cx="800100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31840"/>
                <a:tab algn="l" pos="46512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Courier New"/>
              </a:rPr>
              <a:t>Private Sub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RecordButton_Click(</a:t>
            </a:r>
            <a:r>
              <a:rPr b="0" lang="en-US" sz="1600" spc="-1" strike="noStrike">
                <a:solidFill>
                  <a:srgbClr val="0000ff"/>
                </a:solidFill>
                <a:latin typeface="Courier New"/>
              </a:rPr>
              <a:t>ByVal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sender </a:t>
            </a:r>
            <a:r>
              <a:rPr b="0" lang="en-US" sz="1600" spc="-1" strike="noStrike">
                <a:solidFill>
                  <a:srgbClr val="0000ff"/>
                </a:solidFill>
                <a:latin typeface="Courier New"/>
              </a:rPr>
              <a:t>As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System.Object, 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1840"/>
                <a:tab algn="l" pos="46512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Courier New"/>
              </a:rPr>
              <a:t>ByVal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e </a:t>
            </a:r>
            <a:r>
              <a:rPr b="0" lang="en-US" sz="1600" spc="-1" strike="noStrike">
                <a:solidFill>
                  <a:srgbClr val="0000ff"/>
                </a:solidFill>
                <a:latin typeface="Courier New"/>
              </a:rPr>
              <a:t>As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System.EventArgs) </a:t>
            </a:r>
            <a:r>
              <a:rPr b="0" lang="en-US" sz="1600" spc="-1" strike="noStrike">
                <a:solidFill>
                  <a:srgbClr val="0000ff"/>
                </a:solidFill>
                <a:latin typeface="Courier New"/>
              </a:rPr>
              <a:t>Handles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RecordButton.Cli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1840"/>
                <a:tab algn="l" pos="46512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Courier New"/>
              </a:rPr>
              <a:t>Dim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cnn </a:t>
            </a:r>
            <a:r>
              <a:rPr b="0" lang="en-US" sz="1600" spc="-1" strike="noStrike">
                <a:solidFill>
                  <a:srgbClr val="0000ff"/>
                </a:solidFill>
                <a:latin typeface="Courier New"/>
              </a:rPr>
              <a:t>As New 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1840"/>
                <a:tab algn="l" pos="46512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qlClient.SqlConnection(My.Settings.PowderConnectionStrin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1840"/>
                <a:tab algn="l" pos="46512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Courier New"/>
              </a:rPr>
              <a:t>Dim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cmd </a:t>
            </a:r>
            <a:r>
              <a:rPr b="0" lang="en-US" sz="1600" spc="-1" strike="noStrike">
                <a:solidFill>
                  <a:srgbClr val="0000ff"/>
                </a:solidFill>
                <a:latin typeface="Courier New"/>
              </a:rPr>
              <a:t>As New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SqlClient.SqlComma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1840"/>
                <a:tab algn="l" pos="46512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Courier New"/>
              </a:rPr>
              <a:t>Dim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trn </a:t>
            </a:r>
            <a:r>
              <a:rPr b="0" lang="en-US" sz="1600" spc="-1" strike="noStrike">
                <a:solidFill>
                  <a:srgbClr val="0000ff"/>
                </a:solidFill>
                <a:latin typeface="Courier New"/>
              </a:rPr>
              <a:t>As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SqlClient.SqlTransa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1840"/>
                <a:tab algn="l" pos="46512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Courier New"/>
              </a:rPr>
              <a:t>Dim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sSQL </a:t>
            </a:r>
            <a:r>
              <a:rPr b="0" lang="en-US" sz="1600" spc="-1" strike="noStrike">
                <a:solidFill>
                  <a:srgbClr val="0000ff"/>
                </a:solidFill>
                <a:latin typeface="Courier New"/>
              </a:rPr>
              <a:t>As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1840"/>
                <a:tab algn="l" pos="46512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nn.Open(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1840"/>
                <a:tab algn="l" pos="46512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rn = cnn.BeginTransaction(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1840"/>
                <a:tab algn="l" pos="46512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Courier New"/>
              </a:rPr>
              <a:t>T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1840"/>
                <a:tab algn="l" pos="46512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md.Connection = cn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1840"/>
                <a:tab algn="l" pos="46512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md.Transaction = tr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1840"/>
                <a:tab algn="l" pos="46512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SQL = "UPDATE RentItem Set RepairCharges=0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1840"/>
                <a:tab algn="l" pos="46512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SQL &amp;= " WHERE RentID=@RentID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1840"/>
                <a:tab algn="l" pos="46512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md.CommandText = sSQ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1840"/>
                <a:tab algn="l" pos="46512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md.Parameters.Add(New SqlClient.SqlParameter("@RentID",  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1840"/>
                <a:tab algn="l" pos="46512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Courier New"/>
              </a:rPr>
              <a:t>me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RentIDTextBox.Text)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1840"/>
                <a:tab algn="l" pos="46512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md.ExecuteNonQuery(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1840"/>
                <a:tab algn="l" pos="46512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SQL = "INSERT INTO RentalDiscount(RentID, DiscountDate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1840"/>
                <a:tab algn="l" pos="46512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iscountAmount, Reason)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623FF-8B1E-4902-98BF-4EED5A720C61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Transaction Code 2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80880" y="1447920"/>
            <a:ext cx="8534520" cy="46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36520"/>
                <a:tab algn="l" pos="457200"/>
                <a:tab algn="l" pos="693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SQL &amp;= " VALUES(@RentID2, @DiscountDate, @DiscountAmount, @Reason)"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6520"/>
                <a:tab algn="l" pos="457200"/>
                <a:tab algn="l" pos="693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cmd.CommandText = sSQ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6520"/>
                <a:tab algn="l" pos="457200"/>
                <a:tab algn="l" pos="693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qlClient.SqlParameter("@RentID2", _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6520"/>
                <a:tab algn="l" pos="457200"/>
                <a:tab algn="l" pos="693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CType(</a:t>
            </a:r>
            <a:r>
              <a:rPr b="0" lang="en-US" sz="1500" spc="-1" strike="noStrike">
                <a:solidFill>
                  <a:srgbClr val="0000ff"/>
                </a:solidFill>
                <a:latin typeface="Courier New"/>
              </a:rPr>
              <a:t>Me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.RentIDTextBox.Text, Integer))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6520"/>
                <a:tab algn="l" pos="457200"/>
                <a:tab algn="l" pos="693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cmd.Parameters.Add(New SqlClient.SqlParameter("@DiscountDate",_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6520"/>
                <a:tab algn="l" pos="457200"/>
                <a:tab algn="l" pos="693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500" spc="-1" strike="noStrike">
                <a:solidFill>
                  <a:srgbClr val="0000ff"/>
                </a:solidFill>
                <a:latin typeface="Courier New"/>
              </a:rPr>
              <a:t>Me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.DiscountDateTimePicker.Value.Date)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6520"/>
                <a:tab algn="l" pos="457200"/>
                <a:tab algn="l" pos="693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cmd.Parameters.Add(New SqlClient.SqlParameter("@DiscountAmount",_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6520"/>
                <a:tab algn="l" pos="457200"/>
                <a:tab algn="l" pos="693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500" spc="-1" strike="noStrike">
                <a:solidFill>
                  <a:srgbClr val="0000ff"/>
                </a:solidFill>
                <a:latin typeface="Courier New"/>
              </a:rPr>
              <a:t>CType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1500" spc="-1" strike="noStrike">
                <a:solidFill>
                  <a:srgbClr val="0000ff"/>
                </a:solidFill>
                <a:latin typeface="Courier New"/>
              </a:rPr>
              <a:t>Me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.AmountTextBox.Text, Decimal))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6520"/>
                <a:tab algn="l" pos="457200"/>
                <a:tab algn="l" pos="693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cmd.Parameters.Add(New SqlClient.SqlParameter("@Reason", _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6520"/>
                <a:tab algn="l" pos="457200"/>
                <a:tab algn="l" pos="693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500" spc="-1" strike="noStrike">
                <a:solidFill>
                  <a:srgbClr val="0000ff"/>
                </a:solidFill>
                <a:latin typeface="Courier New"/>
              </a:rPr>
              <a:t>Me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.ReasonTextBox.Text)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6520"/>
                <a:tab algn="l" pos="457200"/>
                <a:tab algn="l" pos="693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cmd.ExecuteNonQuery(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6520"/>
                <a:tab algn="l" pos="457200"/>
                <a:tab algn="l" pos="693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cmd.Transaction.Commit(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6520"/>
                <a:tab algn="l" pos="457200"/>
                <a:tab algn="l" pos="693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MessageLabel.Text = "Changes recorded."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6520"/>
                <a:tab algn="l" pos="457200"/>
                <a:tab algn="l" pos="693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500" spc="-1" strike="noStrike">
                <a:solidFill>
                  <a:srgbClr val="0000ff"/>
                </a:solidFill>
                <a:latin typeface="Courier New"/>
              </a:rPr>
              <a:t>Catch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ex </a:t>
            </a:r>
            <a:r>
              <a:rPr b="0" lang="en-US" sz="1500" spc="-1" strike="noStrike">
                <a:solidFill>
                  <a:srgbClr val="0000ff"/>
                </a:solidFill>
                <a:latin typeface="Courier New"/>
              </a:rPr>
              <a:t>As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Excepti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6520"/>
                <a:tab algn="l" pos="457200"/>
                <a:tab algn="l" pos="693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cmd.Transaction.Rollback(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6520"/>
                <a:tab algn="l" pos="457200"/>
                <a:tab algn="l" pos="693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MessageLabel.Text = "Error saving changes."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6520"/>
                <a:tab algn="l" pos="457200"/>
                <a:tab algn="l" pos="693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500" spc="-1" strike="noStrike">
                <a:solidFill>
                  <a:srgbClr val="0000ff"/>
                </a:solidFill>
                <a:latin typeface="Courier New"/>
              </a:rPr>
              <a:t>Finall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6520"/>
                <a:tab algn="l" pos="457200"/>
                <a:tab algn="l" pos="693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cnn.Close(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6520"/>
                <a:tab algn="l" pos="457200"/>
                <a:tab algn="l" pos="693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500" spc="-1" strike="noStrike">
                <a:solidFill>
                  <a:srgbClr val="0000ff"/>
                </a:solidFill>
                <a:latin typeface="Courier New"/>
              </a:rPr>
              <a:t>End Tr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6520"/>
                <a:tab algn="l" pos="457200"/>
                <a:tab algn="l" pos="693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ff"/>
                </a:solidFill>
                <a:latin typeface="Courier New"/>
              </a:rPr>
              <a:t>End Sub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6399A-62E0-4409-B785-5B1388A34A83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523880" y="1676520"/>
            <a:ext cx="6019920" cy="419868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1867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reate Tax Fun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600200" y="3657600"/>
            <a:ext cx="1523880" cy="11912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o is required to separate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34120" y="3505320"/>
            <a:ext cx="205740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ction defin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 flipV="1">
            <a:off x="5333760" y="2666520"/>
            <a:ext cx="106668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3124080" y="3504960"/>
            <a:ext cx="38124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30608-076E-4A01-B831-A704814C71A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Transaction Code 3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867280" y="1600200"/>
            <a:ext cx="1905120" cy="11912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something goes wrong, cancel the first up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 flipH="1">
            <a:off x="4876560" y="2133720"/>
            <a:ext cx="9903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09480" y="2819520"/>
            <a:ext cx="76964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Courier New"/>
              </a:rPr>
              <a:t>Catch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ex </a:t>
            </a:r>
            <a:r>
              <a:rPr b="0" lang="en-US" sz="1600" spc="-1" strike="noStrike">
                <a:solidFill>
                  <a:srgbClr val="0000ff"/>
                </a:solidFill>
                <a:latin typeface="Courier New"/>
              </a:rPr>
              <a:t>As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Excep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md.Transaction.Rollback(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MessageLabel.Text = "Error saving changes.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Courier New"/>
              </a:rPr>
              <a:t>Final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nn.Close(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Courier New"/>
              </a:rPr>
              <a:t>End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Courier New"/>
              </a:rPr>
              <a:t>T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Courier New"/>
              </a:rPr>
              <a:t>End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Courier New"/>
              </a:rPr>
              <a:t>Su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9F00B-5426-4EF9-89F1-8C5BFF1A4BB9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838080" y="1752480"/>
            <a:ext cx="7162920" cy="2210040"/>
          </a:xfrm>
          <a:prstGeom prst="rect">
            <a:avLst/>
          </a:prstGeom>
          <a:gradFill rotWithShape="0">
            <a:gsLst>
              <a:gs pos="0">
                <a:srgbClr val="d1d1d1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a new que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s: Sale and SaleIt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column DatePart(“ww”, SaleDate) As SaleWe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column QuantitySold*SalePrice AS Valu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m the Value column by wee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41513-DB5C-4619-A1BE-6C10D4516CC3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Query for Cursor: Weekly Sale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33520" y="2284560"/>
            <a:ext cx="73911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VIEW WeeklySales 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DatePart("ww", SaleDate) AS SaleWeek, Sum(QuantitySold*SalePrice) As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Sale INNER JOIN Sale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Sale.SaleID=SaleItem.Sale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RE SaleDate Is Not Nu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UP BY DatePart("ww", SaleDat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3E7BE-F50A-49A3-BA1E-83880D90D913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066680" y="1600200"/>
            <a:ext cx="6705720" cy="1905120"/>
          </a:xfrm>
          <a:prstGeom prst="rect">
            <a:avLst/>
          </a:prstGeom>
          <a:gradFill rotWithShape="0">
            <a:gsLst>
              <a:gs pos="0">
                <a:srgbClr val="d1d1d1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the AvgPercentWeeklyChange func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SQL to call the function: SELECT AvgPercentWeeklyCh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18A0D-4369-41AD-977C-3EA0F0307522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609480" y="1447920"/>
            <a:ext cx="78487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EXISTS (SELECT name FROM sysobjec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ERE name = 'AvgPercentWeeklyChange' AND type = 'FN'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ROP FUNCTION AvgPercentWeeklyChan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EATE Function AvgPercentWeeklyChange (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TURNS flo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CLARE c1 CURSOR FORWARD_ONLY READ_ONLY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LECT SaleWeek, Value FROM WeeklySales ORDER BY SaleWee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CLARE @Avg1 flo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CLARE @N 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CLARE @PriorValue mone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CLARE @cWeek int, @cValue mone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T @Avg1 =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T @N =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T @PriorValue = -1.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EN c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263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Function to Compute Averag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876920" y="4572000"/>
            <a:ext cx="335268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ine the SELECT statement for the cursor to trace throug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H="1" flipV="1">
            <a:off x="5181120" y="3962160"/>
            <a:ext cx="7621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4648320" y="5410080"/>
            <a:ext cx="3352680" cy="11912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variable to hold the value from the previous row with the same data type as the column in the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 flipV="1">
            <a:off x="3276720" y="5562720"/>
            <a:ext cx="13716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46E50-6AD3-4C8D-B6B9-D6A9EF79C41C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380880" y="1371600"/>
            <a:ext cx="800100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27160"/>
                <a:tab algn="l" pos="461880"/>
                <a:tab algn="l" pos="687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TCH NEXT FROM c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461880"/>
                <a:tab algn="l" pos="687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O @cWeek, @cVal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461880"/>
                <a:tab algn="l" pos="687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ILE @@FETCH_STATUS =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461880"/>
                <a:tab algn="l" pos="687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461880"/>
                <a:tab algn="l" pos="687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@PriorValue &gt;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461880"/>
                <a:tab algn="l" pos="687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461880"/>
                <a:tab algn="l" pos="687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T @Avg1 = @Avg1 + (@cValue - @PriorValue)/@PriorVal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461880"/>
                <a:tab algn="l" pos="687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T @N = @N +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461880"/>
                <a:tab algn="l" pos="687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461880"/>
                <a:tab algn="l" pos="687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T @PriorValue = @cVal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461880"/>
                <a:tab algn="l" pos="687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TCH NEXT FROM c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461880"/>
                <a:tab algn="l" pos="687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O @cWeek, @cVal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461880"/>
                <a:tab algn="l" pos="687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461880"/>
                <a:tab algn="l" pos="687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OSE c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461880"/>
                <a:tab algn="l" pos="687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ALLOCATE c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461880"/>
                <a:tab algn="l" pos="687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TURN (@Avg1/@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461880"/>
                <a:tab algn="l" pos="687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461880"/>
                <a:tab algn="l" pos="687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Code to Compute Average Change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334120" y="1828800"/>
            <a:ext cx="304776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kip the first week because there is no prior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029200" y="3733920"/>
            <a:ext cx="327672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ute the percent change and keep a running to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410080" y="4952880"/>
            <a:ext cx="312444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ve the current row value and move to the next 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334120" y="2286000"/>
            <a:ext cx="53316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>
            <a:off x="2666520" y="2286000"/>
            <a:ext cx="266724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flipH="1" flipV="1">
            <a:off x="4723920" y="3352320"/>
            <a:ext cx="129564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H="1" flipV="1">
            <a:off x="3352320" y="3809520"/>
            <a:ext cx="304812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FDE18-23A0-4BE5-86FA-F564E6B9A628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143000" y="1600200"/>
            <a:ext cx="6858000" cy="2362320"/>
          </a:xfrm>
          <a:prstGeom prst="rect">
            <a:avLst/>
          </a:prstGeom>
          <a:gradFill rotWithShape="0">
            <a:gsLst>
              <a:gs pos="0">
                <a:srgbClr val="d1d1d1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the new TestIdentity tab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ert a row and display the generated key valu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ert a row with an existing key value by temporarily turning off the identit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ert a row without a key value and display the generated valu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2641B-7F46-4D75-B950-72000CC64C4B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Create an Identity for a New Table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838080" y="2214720"/>
            <a:ext cx="60199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90520"/>
                <a:tab algn="l" pos="1712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TABLE TestIdent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90520"/>
                <a:tab algn="l" pos="1712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90520"/>
                <a:tab algn="l" pos="1712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I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Identity(1,1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90520"/>
                <a:tab algn="l" pos="1712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stNam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varchar(50) null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90520"/>
                <a:tab algn="l" pos="1712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rstNam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varchar(50) null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90520"/>
                <a:tab algn="l" pos="1712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TRAINT pk_TestIdentity PRIMARY KEY (CI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90520"/>
                <a:tab algn="l" pos="1712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BF3EF-02F4-46B4-B24F-AEC08DC2D347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Test the Key Generator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85800" y="2558880"/>
            <a:ext cx="7391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ERT INTO TestIdentity (LastName, FirstNam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ES ('Jones', 'Joe'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SCOPE_IDENTITY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990720" y="1676520"/>
            <a:ext cx="594360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ert a row into TestIdentity without specifying an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6705720" y="3124080"/>
            <a:ext cx="1600200" cy="9169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e what key value was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 flipV="1">
            <a:off x="4114440" y="3276720"/>
            <a:ext cx="259092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 flipH="1">
            <a:off x="3962160" y="2057400"/>
            <a:ext cx="10666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F26DE-27EB-4B8B-A7BE-D11829610584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Insert Data with Original Value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447920" y="1981080"/>
            <a:ext cx="624816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IDENTITY_INSERT TestIdentity ON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ERT INTO TestIdentity (CID, LastName, FirstNam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ES (10, 'Brown', 'Bobbie'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SCOPE_IDENTITY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IDENTITY_INSERT TestIdentity OFF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F56AA-9BE9-4830-849B-2E5502F942E9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QL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62120" y="1873080"/>
            <a:ext cx="73911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CREATE FUNCTION ComputeSalesTax(@Amount As money) RETURNS mon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DECLARE @taxRate re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SET @taxRate = 0.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return (Round(@taxRate*@Amount,2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010D8-7D00-4FAE-BA23-8B57954991F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Keys: Create Sales and Items (barcode)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978120" y="1865160"/>
            <a:ext cx="312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stomer ID card is scan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978120" y="2265480"/>
            <a:ext cx="182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new s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977040" y="266544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n an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978120" y="3065400"/>
            <a:ext cx="41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ve sale item, update QOH and tot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979200" y="3465360"/>
            <a:ext cx="347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eat until done (payment ke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44600" y="2895480"/>
            <a:ext cx="622080" cy="762120"/>
          </a:xfrm>
          <a:custGeom>
            <a:avLst/>
            <a:gdLst/>
            <a:ahLst/>
            <a:rect l="l" t="t" r="r" b="b"/>
            <a:pathLst>
              <a:path w="392" h="480">
                <a:moveTo>
                  <a:pt x="392" y="480"/>
                </a:moveTo>
                <a:cubicBezTo>
                  <a:pt x="204" y="424"/>
                  <a:pt x="16" y="368"/>
                  <a:pt x="8" y="288"/>
                </a:cubicBezTo>
                <a:cubicBezTo>
                  <a:pt x="0" y="208"/>
                  <a:pt x="172" y="104"/>
                  <a:pt x="344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5340600" y="2286000"/>
            <a:ext cx="1297800" cy="368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 Sale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5340960" y="3048120"/>
            <a:ext cx="3024360" cy="368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ve SaleID, SKU, Quant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9D2C0-CA67-45C6-92FD-10DB9A789517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Transact-SQL Procedure NewSale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90840" y="1449720"/>
            <a:ext cx="7470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PROCEDURE NewSale(@CustomerID int, @EmployeeID int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@SKU nvarchar(50), @NewSaleID int OUTPU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ERT INTO Sale(CustomerID, EmployeeID, SaleDat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ES (@CustomerID, @EmployeeID, GETDATE(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CLARE @tmpSaleID 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@tmpSaleID = (SELECT SCOPE_IDENTITY(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CLARE @tmpListPrice mon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@tmpListPrice = (SELECT ListPr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Inventory INNER JOIN Item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Inventory.ModelID=ItemModel.Model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SKU=@SKU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ERT INTO SaleItem(SaleID, SKU, SalePrice, QuantitySol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ES (@tmpSaleID, @SKU, @tmpListPrice, 1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@NewSaleID=@tmpSale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BB9B3-A98E-4463-A730-87BD4FC2A78C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Test NewSale Procedur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1600200" y="2438280"/>
            <a:ext cx="5943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- Use the following commands to test the func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CLARE @NewSaleID 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EC NewSale 502, 5, N'500000', @NewSaleID 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@NewSale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4B868-C826-4A62-B63D-81188169F50B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914400" y="1828800"/>
            <a:ext cx="7010280" cy="2819520"/>
          </a:xfrm>
          <a:prstGeom prst="rect">
            <a:avLst/>
          </a:prstGeom>
          <a:gradFill rotWithShape="0">
            <a:gsLst>
              <a:gs pos="0">
                <a:srgbClr val="d1d1d1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the SQL NewSale Proced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a new form with no da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boxes for CustomerID, EmployeeID, SKU, and txtSaleID as the generated ke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a command button and add the indicated cod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the for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D3B8E-C524-4C5A-A766-8785BB850E21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" descr=""/>
          <p:cNvPicPr/>
          <p:nvPr/>
        </p:nvPicPr>
        <p:blipFill>
          <a:blip r:embed="rId1"/>
          <a:stretch/>
        </p:blipFill>
        <p:spPr>
          <a:xfrm>
            <a:off x="2133720" y="2638440"/>
            <a:ext cx="4476600" cy="2924280"/>
          </a:xfrm>
          <a:prstGeom prst="rect">
            <a:avLst/>
          </a:prstGeom>
          <a:ln w="0">
            <a:noFill/>
          </a:ln>
        </p:spPr>
      </p:pic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Generate Sale Form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666880" y="1863720"/>
            <a:ext cx="373392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s and SKU would be scanned, but to test code, set default val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 flipH="1">
            <a:off x="4038480" y="2517840"/>
            <a:ext cx="53352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572000" y="2517840"/>
            <a:ext cx="83808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flipH="1">
            <a:off x="4191120" y="2517840"/>
            <a:ext cx="38088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8D1F7-2A5F-424D-957A-35F49BCBC273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Visual Basic Calls SQL Procedure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380880" y="1600200"/>
            <a:ext cx="8382240" cy="39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36520"/>
                <a:tab algn="l" pos="457200"/>
                <a:tab algn="l" pos="693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Courier New"/>
              </a:rPr>
              <a:t>Private Sub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RecordSaleButton_Click(</a:t>
            </a:r>
            <a:r>
              <a:rPr b="0" lang="en-US" sz="1600" spc="-1" strike="noStrike">
                <a:solidFill>
                  <a:srgbClr val="0000ff"/>
                </a:solidFill>
                <a:latin typeface="Courier New"/>
              </a:rPr>
              <a:t>ByVal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sender </a:t>
            </a:r>
            <a:r>
              <a:rPr b="0" lang="en-US" sz="1600" spc="-1" strike="noStrike">
                <a:solidFill>
                  <a:srgbClr val="0000ff"/>
                </a:solidFill>
                <a:latin typeface="Courier New"/>
              </a:rPr>
              <a:t>As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System.Object, 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6520"/>
                <a:tab algn="l" pos="457200"/>
                <a:tab algn="l" pos="693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Courier New"/>
              </a:rPr>
              <a:t>ByVal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e </a:t>
            </a:r>
            <a:r>
              <a:rPr b="0" lang="en-US" sz="1600" spc="-1" strike="noStrike">
                <a:solidFill>
                  <a:srgbClr val="0000ff"/>
                </a:solidFill>
                <a:latin typeface="Courier New"/>
              </a:rPr>
              <a:t>As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System.EventArgs) </a:t>
            </a:r>
            <a:r>
              <a:rPr b="0" lang="en-US" sz="1600" spc="-1" strike="noStrike">
                <a:solidFill>
                  <a:srgbClr val="0000ff"/>
                </a:solidFill>
                <a:latin typeface="Courier New"/>
              </a:rPr>
              <a:t>Handles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RecordSaleButton.Cli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6520"/>
                <a:tab algn="l" pos="457200"/>
                <a:tab algn="l" pos="693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Courier New"/>
              </a:rPr>
              <a:t>Dim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cnn </a:t>
            </a:r>
            <a:r>
              <a:rPr b="0" lang="en-US" sz="1600" spc="-1" strike="noStrike">
                <a:solidFill>
                  <a:srgbClr val="0000ff"/>
                </a:solidFill>
                <a:latin typeface="Courier New"/>
              </a:rPr>
              <a:t>As New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6520"/>
                <a:tab algn="l" pos="457200"/>
                <a:tab algn="l" pos="693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qlClient.SqlConnection(My.Settings.PowderConnectionStrin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6520"/>
                <a:tab algn="l" pos="457200"/>
                <a:tab algn="l" pos="693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Courier New"/>
              </a:rPr>
              <a:t>Dim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cmd </a:t>
            </a:r>
            <a:r>
              <a:rPr b="0" lang="en-US" sz="1600" spc="-1" strike="noStrike">
                <a:solidFill>
                  <a:srgbClr val="0000ff"/>
                </a:solidFill>
                <a:latin typeface="Courier New"/>
              </a:rPr>
              <a:t>As New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SqlClient.SqlComma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6520"/>
                <a:tab algn="l" pos="457200"/>
                <a:tab algn="l" pos="693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Courier New"/>
              </a:rPr>
              <a:t>T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6520"/>
                <a:tab algn="l" pos="457200"/>
                <a:tab algn="l" pos="693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nn.Open(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6520"/>
                <a:tab algn="l" pos="457200"/>
                <a:tab algn="l" pos="693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md.Connection = cn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6520"/>
                <a:tab algn="l" pos="457200"/>
                <a:tab algn="l" pos="693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md.CommandType = CommandType.StoredProced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6520"/>
                <a:tab algn="l" pos="457200"/>
                <a:tab algn="l" pos="693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md.CommandText = "NewSale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6520"/>
                <a:tab algn="l" pos="457200"/>
                <a:tab algn="l" pos="693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md.Parameters.Add(New SqlClient.SqlParameter("@CustomerID", 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6520"/>
                <a:tab algn="l" pos="457200"/>
                <a:tab algn="l" pos="693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Courier New"/>
              </a:rPr>
              <a:t>Me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CustomerIDTextBox.Text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6520"/>
                <a:tab algn="l" pos="457200"/>
                <a:tab algn="l" pos="693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md.Parameters.Add(New SqlClient.SqlParameter("@EmployeeID", 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6520"/>
                <a:tab algn="l" pos="457200"/>
                <a:tab algn="l" pos="693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Courier New"/>
              </a:rPr>
              <a:t>Me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EmployeeIDTextBox.Text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6520"/>
                <a:tab algn="l" pos="457200"/>
                <a:tab algn="l" pos="693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md.Parameters.Add(New SqlClient.SqlParameter("@SKU", 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6520"/>
                <a:tab algn="l" pos="457200"/>
                <a:tab algn="l" pos="693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Courier New"/>
              </a:rPr>
              <a:t>Me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SKUTextBox.Text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16F6F-9E6E-4BD9-8BAA-E50964D3A60A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VB Call to SQL Procedure 2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9480" y="1600200"/>
            <a:ext cx="78487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36520"/>
                <a:tab algn="l" pos="457200"/>
                <a:tab algn="l" pos="693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Di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rmSaleID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As Ne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qlClient.SqlParameter("@NewSaleID", 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36520"/>
                <a:tab algn="l" pos="457200"/>
                <a:tab algn="l" pos="693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mSaleID.DbType = DbType.Int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36520"/>
                <a:tab algn="l" pos="457200"/>
                <a:tab algn="l" pos="693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mSaleID.Direction = ParameterDirection.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36520"/>
                <a:tab algn="l" pos="457200"/>
                <a:tab algn="l" pos="693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mSaleID.SqlDbType = SqlDbType.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36520"/>
                <a:tab algn="l" pos="457200"/>
                <a:tab algn="l" pos="693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md.Parameters.Add(prmSaleI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36520"/>
                <a:tab algn="l" pos="457200"/>
                <a:tab algn="l" pos="693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md.ExecuteNonQuery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36520"/>
                <a:tab algn="l" pos="457200"/>
                <a:tab algn="l" pos="693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M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GeneratedIDTextBox.Text = prmSaleID.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36520"/>
                <a:tab algn="l" pos="457200"/>
                <a:tab algn="l" pos="693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ssageLabel.Text = "Changes recorded.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36520"/>
                <a:tab algn="l" pos="457200"/>
                <a:tab algn="l" pos="693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Catc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ex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A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Exce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36520"/>
                <a:tab algn="l" pos="457200"/>
                <a:tab algn="l" pos="693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ssageLabel.Text = "Error saving changes.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36520"/>
                <a:tab algn="l" pos="457200"/>
                <a:tab algn="l" pos="693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Final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36520"/>
                <a:tab algn="l" pos="457200"/>
                <a:tab algn="l" pos="693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nn.Close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36520"/>
                <a:tab algn="l" pos="457200"/>
                <a:tab algn="l" pos="693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En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36520"/>
                <a:tab algn="l" pos="457200"/>
                <a:tab algn="l" pos="693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En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Su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724280" y="4876920"/>
            <a:ext cx="320040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ine output parameter separately to pick up Valu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54B0F-1718-42B3-94FB-81FCDEE5A64B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1219320" y="1905120"/>
            <a:ext cx="6476760" cy="2743200"/>
          </a:xfrm>
          <a:prstGeom prst="rect">
            <a:avLst/>
          </a:prstGeom>
          <a:gradFill rotWithShape="0">
            <a:gsLst>
              <a:gs pos="0">
                <a:srgbClr val="d1d1d1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a blank new for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a text box for Customer I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a text box to enter a new ZIP Cod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a button and add the indicated code for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the for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the data wizard to create a second form that displays CustomerID and ZIP Code in a tabular lis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2E027-AE78-49EE-9A0C-96CB7D93A15C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Concurrency and Lock Test Form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2" name="" descr=""/>
          <p:cNvPicPr/>
          <p:nvPr/>
        </p:nvPicPr>
        <p:blipFill>
          <a:blip r:embed="rId1"/>
          <a:stretch/>
        </p:blipFill>
        <p:spPr>
          <a:xfrm>
            <a:off x="2909880" y="2286000"/>
            <a:ext cx="3324240" cy="2286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24755-6697-439F-A178-1A8207D1BC56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Transact-SQL to Change ZIP Code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990720" y="1523880"/>
            <a:ext cx="71625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Procedure UpdateZIP(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@CustomerID int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@NewZIPCode nvarchar(20)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@ErrorCode int OUTPU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DATE Custo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ZIP = @NewZIP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RE CustomerID = @Customer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@ErrorCode = @@ERR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14E80-F91A-438E-9033-4A7B51B0FDBE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295280" y="1523880"/>
            <a:ext cx="6400800" cy="446580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Test the Function in SQL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581280" y="2895480"/>
            <a:ext cx="129564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base 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4120" y="3276720"/>
            <a:ext cx="175248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ction 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4191120" y="25146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 flipV="1">
            <a:off x="4876560" y="2514240"/>
            <a:ext cx="106668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648320" y="4572000"/>
            <a:ext cx="182880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rect result: 7 percent of 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H="1" flipV="1">
            <a:off x="4038480" y="4571640"/>
            <a:ext cx="60984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2057040" y="32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352680" y="3581280"/>
            <a:ext cx="198144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B745F-20E3-482C-B4B7-4F3E93AE47C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Visual Basic Code for Procedure 1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80880" y="1752480"/>
            <a:ext cx="822960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36520"/>
                <a:tab algn="l" pos="457200"/>
                <a:tab algn="l" pos="693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Courier New"/>
              </a:rPr>
              <a:t>Private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Courier New"/>
              </a:rPr>
              <a:t>Sub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btnChangeZIP_Click(</a:t>
            </a:r>
            <a:r>
              <a:rPr b="0" lang="en-US" sz="1600" spc="-1" strike="noStrike">
                <a:solidFill>
                  <a:srgbClr val="0000ff"/>
                </a:solidFill>
                <a:latin typeface="Courier New"/>
              </a:rPr>
              <a:t>ByVal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sender </a:t>
            </a:r>
            <a:r>
              <a:rPr b="0" lang="en-US" sz="1600" spc="-1" strike="noStrike">
                <a:solidFill>
                  <a:srgbClr val="0000ff"/>
                </a:solidFill>
                <a:latin typeface="Courier New"/>
              </a:rPr>
              <a:t>As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System.Object, 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6520"/>
                <a:tab algn="l" pos="457200"/>
                <a:tab algn="l" pos="693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Courier New"/>
              </a:rPr>
              <a:t>ByVal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e </a:t>
            </a:r>
            <a:r>
              <a:rPr b="0" lang="en-US" sz="1600" spc="-1" strike="noStrike">
                <a:solidFill>
                  <a:srgbClr val="0000ff"/>
                </a:solidFill>
                <a:latin typeface="Courier New"/>
              </a:rPr>
              <a:t>As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System.EventArgs) </a:t>
            </a:r>
            <a:r>
              <a:rPr b="0" lang="en-US" sz="1600" spc="-1" strike="noStrike">
                <a:solidFill>
                  <a:srgbClr val="0000ff"/>
                </a:solidFill>
                <a:latin typeface="Courier New"/>
              </a:rPr>
              <a:t>Handles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btnChangeZIP.Cli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6520"/>
                <a:tab algn="l" pos="457200"/>
                <a:tab algn="l" pos="693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Courier New"/>
              </a:rPr>
              <a:t>Dim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cnn </a:t>
            </a:r>
            <a:r>
              <a:rPr b="0" lang="en-US" sz="1600" spc="-1" strike="noStrike">
                <a:solidFill>
                  <a:srgbClr val="0000ff"/>
                </a:solidFill>
                <a:latin typeface="Courier New"/>
              </a:rPr>
              <a:t>As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Courier New"/>
              </a:rPr>
              <a:t>New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SqlClient.SqlConnection(Form1.globalVars.SQLC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6520"/>
                <a:tab algn="l" pos="457200"/>
                <a:tab algn="l" pos="693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Courier New"/>
              </a:rPr>
              <a:t>Dim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cmd </a:t>
            </a:r>
            <a:r>
              <a:rPr b="0" lang="en-US" sz="1600" spc="-1" strike="noStrike">
                <a:solidFill>
                  <a:srgbClr val="0000ff"/>
                </a:solidFill>
                <a:latin typeface="Courier New"/>
              </a:rPr>
              <a:t>As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Courier New"/>
              </a:rPr>
              <a:t>New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SqlClient.SqlComma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6520"/>
                <a:tab algn="l" pos="457200"/>
                <a:tab algn="l" pos="693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Courier New"/>
              </a:rPr>
              <a:t>T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6520"/>
                <a:tab algn="l" pos="457200"/>
                <a:tab algn="l" pos="693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nn.Open(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6520"/>
                <a:tab algn="l" pos="457200"/>
                <a:tab algn="l" pos="693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md.Connection = cn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6520"/>
                <a:tab algn="l" pos="457200"/>
                <a:tab algn="l" pos="693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md.CommandType = CommandType.StoredProced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6520"/>
                <a:tab algn="l" pos="457200"/>
                <a:tab algn="l" pos="693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md.CommandText = "UpdateZIP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6520"/>
                <a:tab algn="l" pos="457200"/>
                <a:tab algn="l" pos="693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md.Parameters.Add(</a:t>
            </a:r>
            <a:r>
              <a:rPr b="0" lang="en-US" sz="1600" spc="-1" strike="noStrike">
                <a:solidFill>
                  <a:srgbClr val="0000ff"/>
                </a:solidFill>
                <a:latin typeface="Courier New"/>
              </a:rPr>
              <a:t>New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SqlClient.SqlParameter("@CustomerID", 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6520"/>
                <a:tab algn="l" pos="457200"/>
                <a:tab algn="l" pos="693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Courier New"/>
              </a:rPr>
              <a:t>Me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CustomerIDTextBox.Text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6520"/>
                <a:tab algn="l" pos="457200"/>
                <a:tab algn="l" pos="693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md.Parameters.Add(</a:t>
            </a:r>
            <a:r>
              <a:rPr b="0" lang="en-US" sz="1600" spc="-1" strike="noStrike">
                <a:solidFill>
                  <a:srgbClr val="0000ff"/>
                </a:solidFill>
                <a:latin typeface="Courier New"/>
              </a:rPr>
              <a:t>New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SqlClient.SqlParameter("@NewZIPCode", 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6520"/>
                <a:tab algn="l" pos="457200"/>
                <a:tab algn="l" pos="693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Courier New"/>
              </a:rPr>
              <a:t>Me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NewZIPCodeTextBox.Text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7E16A-BCF1-4E15-AF9C-2B367295AE6B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Visual Basic Code for Procedure 2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62120" y="1447920"/>
            <a:ext cx="769608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36520"/>
                <a:tab algn="l" pos="457200"/>
                <a:tab algn="l" pos="693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Di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rmErrorID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A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Ne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qlClient.SqlParameter("@ErrorCode", 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36520"/>
                <a:tab algn="l" pos="457200"/>
                <a:tab algn="l" pos="693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mErrorID.DbType = DbType.Int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36520"/>
                <a:tab algn="l" pos="457200"/>
                <a:tab algn="l" pos="693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mErrorID.SqlDbType = SqlDbType.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36520"/>
                <a:tab algn="l" pos="457200"/>
                <a:tab algn="l" pos="693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mErrorID.Direction = ParameterDirection.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36520"/>
                <a:tab algn="l" pos="457200"/>
                <a:tab algn="l" pos="693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md.Parameters.Add(prmErrorI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36520"/>
                <a:tab algn="l" pos="457200"/>
                <a:tab algn="l" pos="693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md.ExecuteNonQuery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36520"/>
                <a:tab algn="l" pos="457200"/>
                <a:tab algn="l" pos="693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I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prmErrorID.Value &lt;&gt; 0)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T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36520"/>
                <a:tab algn="l" pos="457200"/>
                <a:tab algn="l" pos="693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ssageLabel.Text = "Error in database.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36520"/>
                <a:tab algn="l" pos="457200"/>
                <a:tab algn="l" pos="693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E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36520"/>
                <a:tab algn="l" pos="457200"/>
                <a:tab algn="l" pos="693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ssageLabel.Text = "Changes recorded.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36520"/>
                <a:tab algn="l" pos="457200"/>
                <a:tab algn="l" pos="693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En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I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36520"/>
                <a:tab algn="l" pos="457200"/>
                <a:tab algn="l" pos="693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Catc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ex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A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Exce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36520"/>
                <a:tab algn="l" pos="457200"/>
                <a:tab algn="l" pos="693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ssageLabel.Text = "Error saving changes.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36520"/>
                <a:tab algn="l" pos="457200"/>
                <a:tab algn="l" pos="693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Final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36520"/>
                <a:tab algn="l" pos="457200"/>
                <a:tab algn="l" pos="693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nn.Close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36520"/>
                <a:tab algn="l" pos="457200"/>
                <a:tab algn="l" pos="693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En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36520"/>
                <a:tab algn="l" pos="457200"/>
                <a:tab algn="l" pos="693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En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Su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CCEC8-F35C-49C7-867E-D636A29DE15B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ustomer List Form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1"/>
          <a:stretch/>
        </p:blipFill>
        <p:spPr>
          <a:xfrm>
            <a:off x="1828800" y="1676520"/>
            <a:ext cx="556272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E0A61-5D27-4A57-9878-4A1B227A0C20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609480" y="1828800"/>
            <a:ext cx="7772400" cy="2666880"/>
          </a:xfrm>
          <a:prstGeom prst="rect">
            <a:avLst/>
          </a:prstGeom>
          <a:gradFill rotWithShape="0">
            <a:gsLst>
              <a:gs pos="0">
                <a:srgbClr val="d1d1d1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n both forms so they are both visible on the scre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list form, change the last ZIP digit but do not save the chang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test form, enter the same Customer ID and a different ZIP code, then click the Save butt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 to the list form and save the chang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 should receive a concurrency error messag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36B70-46F7-4B38-832B-061E30183E81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609480" y="1905120"/>
            <a:ext cx="7848720" cy="1828800"/>
          </a:xfrm>
          <a:prstGeom prst="rect">
            <a:avLst/>
          </a:prstGeom>
          <a:gradFill rotWithShape="0">
            <a:gsLst>
              <a:gs pos="0">
                <a:srgbClr val="d1d1d1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a requery button to the CustomerList for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the button when concurrency violations ari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the concurrency test to the procedure code and test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D950B-B16E-416B-ABCB-49BC8FD2FF95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tronger Lock on the Test Form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609480" y="1371600"/>
            <a:ext cx="79250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Procedure UpdateZIP(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@CustomerID int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@NewZIPCode nvarchar(20)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@OldZIPCode nvarchar(20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@ErrorCode int OUTPU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DATE Custo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ZIP = @NewZIP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RE CustomerID = @Customer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ZIP = @OldZIP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(@@ERROR = 0) AND (@@ROWCOUNT &lt; 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@ErrorCode = 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@ErrorCode = @@ERR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6477120" y="3505320"/>
            <a:ext cx="2209680" cy="9169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date only if old value remains the sam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 flipH="1">
            <a:off x="4191120" y="380988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6477120" y="4800600"/>
            <a:ext cx="220968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eck for err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 flipH="1" flipV="1">
            <a:off x="5638320" y="4723920"/>
            <a:ext cx="83844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81221-293A-4C7D-895E-AA136DF56917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QL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74280" y="2170080"/>
            <a:ext cx="476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dbo.ComputeSalesTax(100) As Ta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13A31-637A-4D64-8B86-CC433911AB5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Create Login and Modify Connection String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 a login form to collect the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ify the Connection St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 code to substitute login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3EB77-5B42-4B05-A008-8D98895ED54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Login Form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819520" y="1981080"/>
            <a:ext cx="2857320" cy="2362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EA5A7-09AE-4363-B89F-72E84F691D7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8T22:44:22Z</dcterms:created>
  <dc:creator>Jerry Post</dc:creator>
  <dc:description/>
  <dc:language>en-US</dc:language>
  <cp:lastModifiedBy>Jerry Post</cp:lastModifiedBy>
  <dcterms:modified xsi:type="dcterms:W3CDTF">2007-01-12T22:45:10Z</dcterms:modified>
  <cp:revision>89</cp:revision>
  <dc:subject/>
  <dc:title>All Powder Board and Ski</dc:title>
</cp:coreProperties>
</file>