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A21-02F8-4ECA-AECA-90DF84D9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932-4C74-4A18-9997-95820B6D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DE9-944F-4946-A279-F55E6590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EB0-0707-4A1C-9095-3F791E5F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5D30-5994-4E81-947E-8EA5B4FF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D608-925E-4240-ACE3-EE35BC4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1DC8-B4FA-4E3E-9613-BE2EAFBD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7125-600F-4113-9D3F-F9AD9D78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2038-D591-44DF-8C68-CE057AB6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156D-CFBF-4FF4-976F-A412F731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CF6E-F496-45EE-88B6-8FB8D9A6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F66C-BB26-4FF4-9815-278BA884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AF54-95B5-491B-B3D9-4C6A783F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97A4-7F17-46A3-B025-2E3D5C9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F09A-23F7-40D7-A1A2-3F05AC8F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467F-42E7-4C8F-917F-216E1BED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96BE-1024-46D2-B032-1991DD9C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82E-1212-4D77-A412-09F787E2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6A8-D08A-4C63-82EA-546E0217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62F-91C4-4DF7-99C3-90AFD0F8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D4C-283F-44B4-A646-8D95EE29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A52-81C0-449A-B275-55809830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6F0-EF2C-4F38-B308-B139868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591-7B5D-4E08-A3E5-AA76A038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80A8-A346-44DC-8E8B-587BFB5E1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1AD3-1A55-4EF2-B902-9CAD45B023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3: Databas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905120"/>
            <a:ext cx="7010280" cy="32004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click Gender and select Check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Check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heck cond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(Gender) IN (‘FEMALE’, ‘MALE’, ‘UNIDENTIFIED’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unique name: CK_Customer_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form and save the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constraint with sampl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e Tables with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37160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DENTITY(1,1) NOT NUL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2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2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 (1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ti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Customer PRIMARY KEY (CustomerID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ck_Customer_Ge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(Upper(Gender) IN ('FEMALE', 'MALE', 'UNIDENTIFIED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2351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1981080"/>
            <a:ext cx="541044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Windows Wordpad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the CREATE TABLE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he file as ProductCategory.sq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the SQL Query Analyzer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Powder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in as the All Powder develo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ProductCategory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e Execute Query button to run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ble in SQL: ProductCateg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94004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ABLE Product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25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pk_ProductCategory PRIMARY KEY (Categ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65080"/>
                <a:tab algn="l" pos="3036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lationships: Department and Employe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67652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2057400"/>
            <a:ext cx="18288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6765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052720"/>
            <a:ext cx="19051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2209680"/>
            <a:ext cx="1295280" cy="2590920"/>
          </a:xfrm>
          <a:custGeom>
            <a:avLst/>
            <a:gdLst/>
            <a:ahLst/>
            <a:rect l="l" t="t" r="r" b="b"/>
            <a:pathLst>
              <a:path w="816" h="1632">
                <a:moveTo>
                  <a:pt x="0" y="0"/>
                </a:moveTo>
                <a:lnTo>
                  <a:pt x="384" y="0"/>
                </a:lnTo>
                <a:lnTo>
                  <a:pt x="384" y="1632"/>
                </a:lnTo>
                <a:lnTo>
                  <a:pt x="816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88120" y="1789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256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457200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ig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333760" y="47242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429000"/>
            <a:ext cx="1981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52388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4862520" cy="4240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elationship: Foreign Key Constrai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447920"/>
            <a:ext cx="2133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both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441972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in the Employe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28954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59092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in the Department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16765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181480" y="20574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487692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 is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666880" y="495252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248520" y="388584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600200"/>
            <a:ext cx="647712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Department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sure the Department column is ke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Employe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EmployeeID as a primary key constra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diagram and add both t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the Department column from the Department to the Employe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the columns m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the update bo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 in SQ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43208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ABLE Depart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1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T pk_Department PRIMARY KEY (Depart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ABLE Employ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e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paye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2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1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15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varchar(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AULT ‘Sales’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T pk_Employee PRIMARY KEY (EmployeeID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T fk_DepartmentEmployee FOREIGN KEY (Depart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Department(Depart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DELETE CASC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agrams in SQL Serv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stimating Database Siz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160020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1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5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archar(15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OfBir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bytes per custo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per week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s (winte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r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tes added per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4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133720"/>
            <a:ext cx="472428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spread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able names as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olumns for: Bytes, Rows, To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bytes per table r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the number of r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table and overall to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 Assum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1752480"/>
            <a:ext cx="50292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customers per week for 25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skills per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ntals per customer per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tems per 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percent of customers bu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tems per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 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models pe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items (sizes) p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atabase Table Siz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38080" y="1503360"/>
          <a:ext cx="7315200" cy="46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03360"/>
                    <a:ext cx="731520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ying Key Colum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5000" y="1447920"/>
            <a:ext cx="52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certain about which columns to k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m down and evaluate the business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133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66688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order, can there ever be more than one custom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Customer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st businesses, only one customer per order, so d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given customer, can there ever be more than one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, then key OrderID, otherwise, do not key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businesses hope to get more than one order from a custom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OrderID must be key. Underline it. Since OrderID is the only k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columns belong in the Order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6386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766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Order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rd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ustomerID, …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ties: Introdu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best to let the DBMS generate a guaranteed unique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able must contain a single column primary key that is assigned a numeric data type, such as NUMBER(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you will create an identity to generate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, you will create a trigger to automatically obtain and use the generated ke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16560" y="251928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16560" y="301608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8400" y="354960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32400" y="455436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073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ider what happens if you (incorrectly) try to place Style and SkillLevel in the Customer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66680" y="1681200"/>
            <a:ext cx="7239240" cy="3195720"/>
            <a:chOff x="1066680" y="1681200"/>
            <a:chExt cx="7239240" cy="3195720"/>
          </a:xfrm>
        </p:grpSpPr>
        <p:sp>
          <p:nvSpPr>
            <p:cNvPr id="111" name=""/>
            <p:cNvSpPr/>
            <p:nvPr/>
          </p:nvSpPr>
          <p:spPr>
            <a:xfrm>
              <a:off x="1066680" y="1752480"/>
              <a:ext cx="160020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6680" y="2133720"/>
              <a:ext cx="1600200" cy="220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ustome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st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st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33920" y="2438280"/>
              <a:ext cx="182880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stomerSki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3920" y="2819520"/>
              <a:ext cx="182880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ustomer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ill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81200"/>
              <a:ext cx="190512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2057400"/>
              <a:ext cx="19051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y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yleDe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814920"/>
              <a:ext cx="190512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ill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9051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kill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killDe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6880" y="2286000"/>
              <a:ext cx="1067040" cy="685800"/>
            </a:xfrm>
            <a:custGeom>
              <a:avLst/>
              <a:gdLst/>
              <a:ahLst/>
              <a:rect l="l" t="t" r="r" b="b"/>
              <a:pathLst>
                <a:path w="672" h="432">
                  <a:moveTo>
                    <a:pt x="0" y="0"/>
                  </a:moveTo>
                  <a:lnTo>
                    <a:pt x="192" y="0"/>
                  </a:lnTo>
                  <a:lnTo>
                    <a:pt x="192" y="432"/>
                  </a:lnTo>
                  <a:lnTo>
                    <a:pt x="672" y="43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62720" y="2286000"/>
              <a:ext cx="838080" cy="990720"/>
            </a:xfrm>
            <a:custGeom>
              <a:avLst/>
              <a:gdLst/>
              <a:ahLst/>
              <a:rect l="l" t="t" r="r" b="b"/>
              <a:pathLst>
                <a:path w="528" h="624">
                  <a:moveTo>
                    <a:pt x="0" y="624"/>
                  </a:moveTo>
                  <a:lnTo>
                    <a:pt x="240" y="624"/>
                  </a:lnTo>
                  <a:lnTo>
                    <a:pt x="240" y="0"/>
                  </a:lnTo>
                  <a:lnTo>
                    <a:pt x="5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62720" y="3581280"/>
              <a:ext cx="838080" cy="76212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0" y="0"/>
                  </a:moveTo>
                  <a:lnTo>
                    <a:pt x="240" y="0"/>
                  </a:lnTo>
                  <a:lnTo>
                    <a:pt x="240" y="480"/>
                  </a:lnTo>
                  <a:lnTo>
                    <a:pt x="528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2209680"/>
            <a:ext cx="5791320" cy="23623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create a new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ustomer table with enterprise mana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column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data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the primary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and save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54640" cy="4495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Tables with the Edi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213372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396252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76720"/>
            <a:ext cx="16765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362320" y="2895480"/>
            <a:ext cx="1676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181120" y="2286000"/>
            <a:ext cx="1752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5486400" y="312408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36232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05120" y="21337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2514600"/>
            <a:ext cx="1904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48320"/>
            <a:ext cx="16761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09680" y="365724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81160" y="1447920"/>
            <a:ext cx="4548240" cy="46101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243828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733920"/>
            <a:ext cx="2057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abl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752480"/>
            <a:ext cx="2666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constrain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2133720"/>
            <a:ext cx="3657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866920" y="380988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562720" y="281952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733920"/>
            <a:ext cx="12952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828800" y="38098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23:31Z</dcterms:modified>
  <cp:revision>34</cp:revision>
  <dc:subject/>
  <dc:title>All Powder Board and Ski</dc:title>
</cp:coreProperties>
</file>