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70E3-817D-4B18-9E47-163622DAC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5F77-3DCD-4298-9F2A-29E076C9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0684-0980-430D-A108-60D60CC41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ED54-A0DA-415F-8081-4D20E6B67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67F1-44F6-4F4F-AF54-1DDEF200F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5B19-E213-4475-9E26-DA3CF970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3C4B-E880-40EC-A9F6-F0E38EEA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2832-65FF-43FC-A18E-1540F879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1F85-F59A-49CF-9B4D-E976C13D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34C9-E8F1-4A8C-86B6-24CD99B8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1FA1-08DC-4D72-94F4-9B72038E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E3D9-650F-4554-8B1F-DDF1112C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DFBE-E3BF-43EE-8147-3A5C4845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AFC8-B426-4C80-8A73-1B9822EA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BCB2-87A8-4EBC-BAF8-1AEEA3BD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5E9F-2BD5-425E-95A6-2D140AA19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3A32-F7D5-40A1-AC41-0E8704CD9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0DA2-8D50-4139-8C97-FAC3A7B1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C6C9-CAA6-43A9-9BB4-25A065F6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D8B0-AD6E-44FC-BA16-083028B2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3A5F-C117-4AE2-ACEB-79BF1FDD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B15E-A53A-44D1-88AF-753B9D42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BAD1-79D1-4619-97A6-B9FF1822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ECFB-6FF6-4A6E-B1F3-EABC9DC9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E09C-01B2-4A74-BF6A-8E80660C77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F643-389B-4BF9-86E1-1C48AED3C2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L Server Work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6: Forms and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FE2C7-BDAE-49EE-9B8E-89CBAC8E654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isual Studio Form Structu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248520" y="1600200"/>
            <a:ext cx="2133360" cy="419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27240" y="1905120"/>
            <a:ext cx="1752840" cy="1369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684840" y="2442240"/>
            <a:ext cx="139248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84840" y="3052080"/>
            <a:ext cx="139248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934320" y="4045680"/>
            <a:ext cx="137160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934320" y="4652280"/>
            <a:ext cx="137160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2590920"/>
            <a:ext cx="218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2590920"/>
            <a:ext cx="21891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3352680"/>
            <a:ext cx="762120" cy="15264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276720"/>
            <a:ext cx="762120" cy="15228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3200400"/>
            <a:ext cx="762120" cy="15228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3124080"/>
            <a:ext cx="762120" cy="15264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3048120"/>
            <a:ext cx="762120" cy="15228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2971800"/>
            <a:ext cx="762120" cy="15228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2895480"/>
            <a:ext cx="762120" cy="15264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6400" y="365760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52680" y="4191120"/>
            <a:ext cx="2667240" cy="1523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Adapter (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/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0" y="3886200"/>
            <a:ext cx="2666880" cy="1523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Adapter (Custom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/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1523520" y="3580920"/>
            <a:ext cx="16002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52480" y="350532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87520" y="2666880"/>
            <a:ext cx="889200" cy="1676520"/>
          </a:xfrm>
          <a:custGeom>
            <a:avLst/>
            <a:gdLst/>
            <a:ahLst/>
            <a:rect l="l" t="t" r="r" b="b"/>
            <a:pathLst>
              <a:path w="560" h="1056">
                <a:moveTo>
                  <a:pt x="368" y="1056"/>
                </a:moveTo>
                <a:cubicBezTo>
                  <a:pt x="184" y="904"/>
                  <a:pt x="0" y="752"/>
                  <a:pt x="32" y="576"/>
                </a:cubicBezTo>
                <a:cubicBezTo>
                  <a:pt x="64" y="400"/>
                  <a:pt x="312" y="200"/>
                  <a:pt x="5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971800"/>
            <a:ext cx="25146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19720" y="2971800"/>
            <a:ext cx="25146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8DCB-87FA-4141-8EC5-98043925E6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1828800"/>
            <a:ext cx="4495680" cy="25146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new blank form with Add/New I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it Menu.v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button to open the Customer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it and sav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B6AD-5F86-43A8-84E6-88975E4C4D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334120" cy="4599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bo Box and Data Bind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28800" y="3809880"/>
            <a:ext cx="10666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o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486400" y="3200400"/>
            <a:ext cx="15238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B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895480" y="40381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72200" y="358128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5181480"/>
            <a:ext cx="9144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048120" y="518112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048120" y="5181120"/>
            <a:ext cx="3352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89D6-4949-482A-B495-E40080D20B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itial Grid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4628880" cy="35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28B2-6E6A-4335-8318-03A54A58C2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1828800"/>
            <a:ext cx="5257800" cy="19810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new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new Data Source using the SkiBoardStyl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 the SkiBoardStyle table onto the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A642-58E7-460E-BF0A-B235EF25F8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the Grid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5334120" cy="459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5E44-BAE0-4D66-B381-051F597732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81080" y="1676520"/>
            <a:ext cx="5105520" cy="17524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Menu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button for Ski Board Sty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code to show the new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he Ski Board Style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5726-8F61-49B1-9296-9B1361E743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47920" y="1676520"/>
            <a:ext cx="5867280" cy="26668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SkiBoardStyleDataSet in the Data Sources wind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Configure DataSet with Wizard butt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ProductCategory table to the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Code 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the ProductCategoryTableAdap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Fill command in the Load Su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1AF0-F9D2-4C88-9B1D-ECFFFCC406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dit Grid Colum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752480" y="1523880"/>
          <a:ext cx="512784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523880"/>
                    <a:ext cx="512784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4724280" y="1981080"/>
            <a:ext cx="12193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rt t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419720" y="22096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38280" y="3429000"/>
            <a:ext cx="16002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038480" y="304776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352320" y="365760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C998-6EB5-45C4-B39A-FA07B60F74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1676520"/>
            <a:ext cx="5867280" cy="26668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Design 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grid’s smart tag to edit the colum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the Category ColumnType to Combo Bo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its DataSource to the SkiBoardStyleData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he DisplayMember and ValueMember to ProductCategory.Categ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verything and test the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8063-D0D5-4961-959C-EC5AF50C13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orm Typ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429000" y="1739880"/>
          <a:ext cx="3886200" cy="1460520"/>
        </p:xfrm>
        <a:graphic>
          <a:graphicData uri="http://schemas.openxmlformats.org/drawingml/2006/table">
            <a:tbl>
              <a:tblPr/>
              <a:tblGrid>
                <a:gridCol w="727200"/>
                <a:gridCol w="1992240"/>
                <a:gridCol w="1166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y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yle 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533520" y="1676520"/>
            <a:ext cx="22860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69200" y="18288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5440" y="2246400"/>
            <a:ext cx="129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5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26478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293364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3219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3505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98200" y="137160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 Board 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3809880"/>
            <a:ext cx="49528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61800" y="38466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000" y="42051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65960" y="420516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s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505320" y="4572000"/>
          <a:ext cx="4701960" cy="1187280"/>
        </p:xfrm>
        <a:graphic>
          <a:graphicData uri="http://schemas.openxmlformats.org/drawingml/2006/table">
            <a:tbl>
              <a:tblPr/>
              <a:tblGrid>
                <a:gridCol w="857160"/>
                <a:gridCol w="1326960"/>
                <a:gridCol w="704880"/>
                <a:gridCol w="1035360"/>
                <a:gridCol w="777600"/>
              </a:tblGrid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748440" y="42274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920" y="2133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12560" y="4952880"/>
            <a:ext cx="1118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Main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ub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4DD3-34C7-4B1B-A8C1-6F4AF965F7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in Form for Sa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257800" cy="453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405C-3AC2-47F7-B4A7-C87D961CEF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676520"/>
            <a:ext cx="7543800" cy="33526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form called Sale.v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DataSource using the Sale and SaleItem t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he form type to Details for the Sal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he column type to ComboBox for EmployeeID, CustomerID, and PaymentMeth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 the Sale table onto the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ze and rearrange the controls to create space at the bottom of the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button to the Menu form to open the Sale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B132-BC6C-4C1A-BEA4-E47F5A8A11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1676520"/>
            <a:ext cx="5410080" cy="21333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SaleItem table in the Data Sources window that is within the Sal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 it onto the Sale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he form to ensure the grid values change as new sales are sele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3B5C-6FFF-4930-B738-D66E47AD70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itial Form Desig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971960" cy="41054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029200" y="1981080"/>
            <a:ext cx="12193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48320" y="4952880"/>
            <a:ext cx="12189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0" y="5105520"/>
            <a:ext cx="2133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ID values match main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3352320" y="45720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835D-B70E-4F93-887E-1396B0F508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95280" y="1828800"/>
            <a:ext cx="6324840" cy="24382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 the grid’s colum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the SaleID from the gr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DataSet Designer for the SaleItem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new column in the SaleItem table named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he DataType to System.Decim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he Expression to QuantitySold*SalePr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2E3C-0A52-4FF4-A1A3-D8BE236EA22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ataset Designer to Add Colum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5214960" cy="44956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267080" y="3276720"/>
            <a:ext cx="990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495680" y="274320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09880" y="4343400"/>
            <a:ext cx="16765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DataType and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486400" y="4419720"/>
            <a:ext cx="9144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724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6274-69FF-41D4-97B9-90708363706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66680" y="1676520"/>
            <a:ext cx="6858000" cy="2743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 the grid’s colum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Value column as Read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 the DefaultCellStyle for the SalePrice and Value colum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he Format to Numer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he Alignment to Middle-R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verything and test the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BABD-F7FD-43F8-98FC-FB322F459A5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e Form with Value Colum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4971960" cy="410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6F71-AC74-4F4C-BC9A-FDC87E5EFFF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76520" y="1676520"/>
            <a:ext cx="5943600" cy="28191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a Label below the gr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the Text to Subto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a Label beneath the Value colum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it SubtotalLabel and set its value to 0.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code subroutine to compute the to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two events that need to call the ComputeSaleTotal rout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94C0-002D-4600-9EDF-3DBCEBFEAAB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form Subtotal Colum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90720" y="1447920"/>
            <a:ext cx="716256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7960"/>
                <a:tab algn="l" pos="4572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Public Sub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ComputeSaleTotal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7960"/>
                <a:tab algn="l" pos="4572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Dim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sum </a:t>
            </a:r>
            <a:r>
              <a:rPr b="0" lang="pt-BR" sz="1800" spc="-1" strike="noStrike">
                <a:solidFill>
                  <a:srgbClr val="0000ff"/>
                </a:solidFill>
                <a:latin typeface="Arial"/>
              </a:rPr>
              <a:t>As Dec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7960"/>
                <a:tab algn="l" pos="4572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i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gvr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ndows.Forms.DataGridView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7960"/>
                <a:tab algn="l" pos="4572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or Ea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gvr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SaleItemDataGridView.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7960"/>
                <a:tab algn="l" pos="4572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+= dgvr.Cells("Value").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7960"/>
                <a:tab algn="l" pos="4572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gv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7960"/>
                <a:tab algn="l" pos="4572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.SubtotalLabel.Text = sum.ToString("$ #,##0.00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7960"/>
                <a:tab algn="l" pos="4572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d Su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E5AF-85B5-4BE4-816C-C9F946024C1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324480" cy="47862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Main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2133720"/>
            <a:ext cx="22100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 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505320" y="312372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38680" y="4038480"/>
            <a:ext cx="12193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419720" y="25146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66880" y="3429000"/>
            <a:ext cx="10670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5334120" y="380952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32B2-DB81-4A5A-B71D-4C1A561400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alls to Compute Tot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1523880"/>
            <a:ext cx="8001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7920"/>
                <a:tab algn="l" pos="695160"/>
                <a:tab algn="l" pos="1093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ivate Su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aleItemDataGridView_CellEndEdit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7920"/>
                <a:tab algn="l" pos="695160"/>
                <a:tab algn="l" pos="1093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yV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nder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s Obj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7920"/>
                <a:tab algn="l" pos="695160"/>
                <a:tab algn="l" pos="1093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yV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.Windows.Forms.DataGridViewCellEventArg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7920"/>
                <a:tab algn="l" pos="695160"/>
                <a:tab algn="l" pos="1093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and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aleItemDataGridView.CellE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7920"/>
                <a:tab algn="l" pos="695160"/>
                <a:tab algn="l" pos="1093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SaleTotal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7920"/>
                <a:tab algn="l" pos="695160"/>
                <a:tab algn="l" pos="1093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d 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7920"/>
                <a:tab algn="l" pos="695160"/>
                <a:tab algn="l" pos="1093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7920"/>
                <a:tab algn="l" pos="695160"/>
                <a:tab algn="l" pos="1093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ivate Su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aleBindingSource_PositionChanged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7920"/>
                <a:tab algn="l" pos="695160"/>
                <a:tab algn="l" pos="1093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yV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nder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s Obj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7920"/>
                <a:tab algn="l" pos="695160"/>
                <a:tab algn="l" pos="1093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yV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.EventArg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7920"/>
                <a:tab algn="l" pos="695160"/>
                <a:tab algn="l" pos="1093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and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aleBindingSource.Position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7920"/>
                <a:tab algn="l" pos="695160"/>
                <a:tab algn="l" pos="1093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SaleTotal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7920"/>
                <a:tab algn="l" pos="695160"/>
                <a:tab algn="l" pos="1093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d Su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324480" y="1600200"/>
            <a:ext cx="12956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324480" y="3429000"/>
            <a:ext cx="16002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2EB8-A69D-4948-9081-E67A8CF3CBB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81080" y="1905120"/>
            <a:ext cx="5410440" cy="2743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he form and recognize that it does not save changes in the gr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-click the Save ic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wo lines of code to save the changes from the gr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he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veryt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DB1A-D664-4C62-9836-969798A4767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de to Save Grid Chang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96480" y="1812240"/>
            <a:ext cx="71701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ivate Su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aleBindingNavigatorSaveItem_Click_1(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Validat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SaleBindingSource.EndEdi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M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SaleTableAdapter.Update(</a:t>
            </a: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M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SaleFormDataSet.S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M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SaleItemBindingSource.EndEdi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M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SaleItemTableAdapter.Update(</a:t>
            </a: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M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SaleFormDataSet.SaleIt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End Su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F148-8107-4E5E-B52B-79CE07B1F6F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e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4971960" cy="410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9E78-22DF-454C-99B7-CC7EC34FB25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1676520"/>
            <a:ext cx="6553080" cy="37335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 to create the CustomerList 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Data Source that retrieves the rows from the 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ustomer Combo Box, Data Bindings, remove the binding for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DataSource, select the CustomerListDataSet/Customer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DisplayMember to CustomerN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ValueMember to Customer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SelectedValue to SaleBindingSource/Customer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he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15BB-6C3D-43C1-85E4-3A1E55925A8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38080" y="3048120"/>
            <a:ext cx="67820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VIEW CustomerList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ustomerID, LastName + N', ' + FirstN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N' (' + Phone + N')' AS Customer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Custom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14600" y="1676520"/>
            <a:ext cx="39625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o Boxes only support two columns: Key Value and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7135-0DDD-4318-BB08-7E0EBD0C371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3610080" cy="439092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Combo Box Propert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72200" y="3200400"/>
            <a:ext cx="18288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72200" y="3886200"/>
            <a:ext cx="18288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72200" y="4419720"/>
            <a:ext cx="18288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72200" y="2666880"/>
            <a:ext cx="18288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d to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5562360" y="28195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5257800" y="342900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5257800" y="388584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5562360" y="434304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141F-EE70-47A6-86E5-9DB5E27D48B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inal Sale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4972320" cy="410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6E16-FC72-4F5B-A89F-2F2E6F3FA3F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19320" y="1676520"/>
            <a:ext cx="6553080" cy="33526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report project with File/Add/Report Ser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Shared Data Source to the reports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new report with the wiz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Customer, Sale, and SaleItem tables to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basic columns from each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Value column to compute QuantitySold*SalePr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the Tabular report 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6389-16E9-4C6D-952D-2A053A4A713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 Server Report Structu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1600200"/>
            <a:ext cx="312408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743200" y="5334120"/>
            <a:ext cx="31240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43200" y="1600200"/>
            <a:ext cx="31240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1600200"/>
            <a:ext cx="18288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" y="5410080"/>
            <a:ext cx="18288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foo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3200400"/>
            <a:ext cx="762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2133720"/>
            <a:ext cx="3124080" cy="2590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400800" y="2209680"/>
            <a:ext cx="198108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048120" y="2895480"/>
            <a:ext cx="2514600" cy="1371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400800" y="2895480"/>
            <a:ext cx="14479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29000" y="3358440"/>
            <a:ext cx="1676520" cy="3682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 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400800" y="4343400"/>
            <a:ext cx="198108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foo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3809880"/>
            <a:ext cx="144792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 foo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1752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5562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1219320" y="2285640"/>
            <a:ext cx="13716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219320" y="3429000"/>
            <a:ext cx="144756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92A7-1016-4DF2-9A39-185CFAA2B36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1828800"/>
            <a:ext cx="7391520" cy="3886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Visual Studio and create a new Windows-based Project using Visual Bas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-click the Form1.vb entry and rename it to Customer.v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Data Sou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ecessary, add a new data conn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your login credenti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k the Customer table and click the Finish butt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ata Sources, change the Customer table type to Detai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 the Customer table onto the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veryt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form to tes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EFCA-3A03-4F5C-8282-6A2B51C67E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Sales Report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4800600" cy="431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9066-D199-4263-9F3A-B154C507942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3520" y="1828800"/>
            <a:ext cx="79246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Customer.CustomerID, Customer.LastName, Customer.FirstName, Customer.Phone, Customer.EMail, Sale.SaleID, Sale.SaleDate, Sale.ShipCity,                       Sale.ShipState, Sale.PaymentMethod, SaleItem.SKU, SaleItem.QuantitySold, SaleItem.SalePrice,                       SaleItem.QuantitySold * SaleItem.SalePrice AS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Custom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ER JOIN Sale ON Customer.CustomerID = Sale.Custome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ER JOIN SaleItem ON Sale.SaleID = SaleItem.Sal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 BY Customer.CustomerID, Sale.SaleDate, SaleItem.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A2D2-D2A0-4490-B959-6D0F8D0C26E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1676520"/>
            <a:ext cx="7543800" cy="24382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the grouping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 only CustomerID at the page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only SaleID at the Group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all SaleItem data at the Details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Stepped layout, include subtotals and enable drilld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he name to Customer S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3622-03EE-494B-B4FF-067BCD574EE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port Structu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4572000" cy="430848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4648320" y="1676520"/>
            <a:ext cx="16002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ID columns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800600" y="22860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724280" y="2286000"/>
            <a:ext cx="6098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622A-A1AD-4404-A90B-AA3A2456316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295280" y="1384200"/>
            <a:ext cx="6324840" cy="4788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itial Preview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800600" y="2514600"/>
            <a:ext cx="15238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or one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4419720" y="26668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752480" y="3886200"/>
            <a:ext cx="12193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lldown/Roll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1599840" y="320004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800600" y="3429000"/>
            <a:ext cx="12193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4495320" y="3200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4495320" y="36576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1828800" y="35053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5CBE-DC0E-4397-AEC3-0B25BC50B42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133720" y="1676520"/>
            <a:ext cx="4800600" cy="25146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Layout ta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DataSet wind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ust the CustomerID TextBo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 LastName, FirstName, Phone, and EMail columns next to the Customer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iew the Re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53FE-72DB-4E2A-A7FD-5AC05F10CA2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dding More Colum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6248160" cy="47289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3657600" y="3886200"/>
            <a:ext cx="14479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Box1 defines the Pag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105520" y="358092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05520" y="4343400"/>
            <a:ext cx="14475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A113-5B35-4721-9DE0-3E09075C206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371600" y="1676520"/>
            <a:ext cx="6248520" cy="23619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SaleID TextBo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-click the icon to the left of the SaleID TextBo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Insert Row Ab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 SaleDate, PaymentMethod, ShipCity, and ShipState onto the new r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iew the Re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D834-C998-4D77-AB08-0BE35BC5B02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019920" cy="45561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dding Group-Level Colum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809880" y="3809880"/>
            <a:ext cx="24386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SaleID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 flipV="1">
            <a:off x="3276360" y="350532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09880" y="4343400"/>
            <a:ext cx="20574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: Insert Row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 flipV="1">
            <a:off x="2514600" y="3504960"/>
            <a:ext cx="12952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523880" y="4419720"/>
            <a:ext cx="16765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2133360" y="3200040"/>
            <a:ext cx="5331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B74D-D243-4955-9C1A-B1D1A704765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133720" y="1752480"/>
            <a:ext cx="4800600" cy="2743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t price items to 0.00 or #,##0.00 for larger num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t the date to dd-MMM-yyy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the Value property for Sum of SalePrice text bo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iew the re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veryt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3E4F-5802-41B7-8169-7E6A47E740A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477040" cy="42958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ata Source Configu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3048120"/>
            <a:ext cx="16002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3276720" y="3124080"/>
            <a:ext cx="1295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71800" y="4876920"/>
            <a:ext cx="14479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B287-D710-48AF-AB36-BEB8591B5A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inal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1523880" y="1428840"/>
            <a:ext cx="6267600" cy="474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10D7-8C6F-4939-93F3-D328D9175CF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splay Sty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4952880" cy="43452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43400" y="2514600"/>
            <a:ext cx="2057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s/Main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580920" y="2666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0411-9908-47C9-9262-D311894AA7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5410080" cy="47052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sign View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19920" y="3048120"/>
            <a:ext cx="14475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7086240" y="342900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5257800"/>
            <a:ext cx="15242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2895480" y="3657240"/>
            <a:ext cx="4572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5257800"/>
            <a:ext cx="11430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2133360" y="2361960"/>
            <a:ext cx="533160" cy="28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325C-3CD4-45D5-A17F-D2FBA94331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1828800"/>
            <a:ext cx="7543800" cy="41911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the text box for Gen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a combo box from the Tool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 the Property wind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it GenderComob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Items property and enter Female, Male, and Unidentifi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 the DataBindings s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SelectedItem and SelectedValue properties select CustomerBindingSource – Gen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form and test the combo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3C79-7B58-45D8-881F-BFED6BDAEB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3867120" cy="3571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952880" y="2590920"/>
            <a:ext cx="16002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4419720" y="2285640"/>
            <a:ext cx="1295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EF75-0FAA-487E-B0FF-C353FB1829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7-01-12T22:40:50Z</dcterms:modified>
  <cp:revision>123</cp:revision>
  <dc:subject/>
  <dc:title>All Powder Board and Ski</dc:title>
</cp:coreProperties>
</file>