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49DE-015A-4C38-87D4-33824843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E940-C70A-4C2E-8DD6-884086BC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22E-4208-4757-BD4C-409EECA9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165-6988-4726-AF16-3B6CF8FF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6567-76A2-4027-B450-F0C988A2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15B0-E89B-4CAA-B98F-A3272DAC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09C-A4D2-4E76-8354-F7BD0240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F412-DC9F-4E6C-97F2-E6D40D98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45D3-723D-4534-9D7C-BFD230C0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EA39-9BA0-4012-8622-6172D19A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ECE2-5AD9-49F7-BDEA-F48B1C79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C74-922B-4EC2-AF1C-0DDB080F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39DD-443F-4896-8873-1588FE3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08EA-C59F-4284-9CC2-F56B778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683D-D4ED-4E81-B6C4-C49109F4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8164-B8AF-46C3-B680-7EB65C3BE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A114-1E4A-4595-9F11-F3FF9356E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946-529B-45AD-853F-179F0557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99C-EF06-4C93-85E6-B4406034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FE2-D1FA-454E-BB12-FEE77312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7D0-202C-426F-A00D-E47C69DD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5C7-2775-40B1-B9F3-5459CC4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231-8B0D-45CF-9AD3-88F88CB5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2CB3-C7FA-486E-B806-0154014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0EDC-E18D-4B0D-A4B2-1D9BAE23B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EC57-4F48-48D9-A636-9DBF4CA88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time-post.com/dbdesign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2: Databas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106C-112D-4009-81E7-3343E432F5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19904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Examp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191120"/>
            <a:ext cx="12952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colum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2286000"/>
            <a:ext cx="9144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3276720"/>
            <a:ext cx="12193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181480"/>
            <a:ext cx="1447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114800"/>
            <a:ext cx="14479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905120" y="24382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09552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4956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523880" y="5105160"/>
            <a:ext cx="6098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156-4901-4ABC-89C1-D38888664F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2057400"/>
            <a:ext cx="6629400" cy="2819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Customer and Sale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GenerateKey to Customer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 it to Custome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new CustomerID from right side into Sa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CustomerID from Customer and drop it on CustomerID in Sal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out relationship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94E-1F1A-4D9C-A9BC-FDDF925DC1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33520" y="2162160"/>
            <a:ext cx="3409920" cy="362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157320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-and-drop colu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3443400"/>
            <a:ext cx="175284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min and max for both sides of the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3962160" y="3900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257440" y="39006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1855800"/>
            <a:ext cx="1828800" cy="977760"/>
          </a:xfrm>
          <a:custGeom>
            <a:avLst/>
            <a:gdLst/>
            <a:ahLst/>
            <a:rect l="l" t="t" r="r" b="b"/>
            <a:pathLst>
              <a:path w="1152" h="616">
                <a:moveTo>
                  <a:pt x="1152" y="376"/>
                </a:moveTo>
                <a:cubicBezTo>
                  <a:pt x="1104" y="188"/>
                  <a:pt x="1056" y="0"/>
                  <a:pt x="864" y="40"/>
                </a:cubicBezTo>
                <a:cubicBezTo>
                  <a:pt x="672" y="80"/>
                  <a:pt x="336" y="348"/>
                  <a:pt x="0" y="6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257800" y="22240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F57-1413-4F16-A6FE-9C2D5141ED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2362320"/>
            <a:ext cx="6705720" cy="16002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Grade/Grade and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click messages 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errors by removing columns and adding new t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109E-C333-485B-9EB2-311D517DE1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sign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838760" cy="36482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438280" y="1447920"/>
            <a:ext cx="1600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KU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20574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286000"/>
            <a:ext cx="19814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the Inventory table to the Sal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51460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8098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click the diagnostic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7242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40384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errors are highl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562360" y="2971440"/>
            <a:ext cx="5331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C5B-1A87-4150-B018-C93D559132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re Erro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4915080" cy="38768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8080" y="167652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setting SKU as a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6880" y="205740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3809880"/>
            <a:ext cx="3200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till causes problems because SaleDate does not depend on the 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800600" y="26668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343400" y="41911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ADC-8034-4667-AA2A-95D849048E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plit Many-to-Many Relation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22906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666880"/>
            <a:ext cx="16002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290680"/>
            <a:ext cx="13716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6668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24080" y="1995480"/>
            <a:ext cx="3948120" cy="477720"/>
          </a:xfrm>
          <a:custGeom>
            <a:avLst/>
            <a:gdLst/>
            <a:ahLst/>
            <a:rect l="l" t="t" r="r" b="b"/>
            <a:pathLst>
              <a:path w="2487" h="301">
                <a:moveTo>
                  <a:pt x="0" y="301"/>
                </a:moveTo>
                <a:cubicBezTo>
                  <a:pt x="205" y="251"/>
                  <a:pt x="816" y="0"/>
                  <a:pt x="1230" y="0"/>
                </a:cubicBezTo>
                <a:cubicBezTo>
                  <a:pt x="1644" y="0"/>
                  <a:pt x="2225" y="238"/>
                  <a:pt x="2487" y="301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15680" y="163656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427212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6483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ity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1219320" cy="1905120"/>
          </a:xfrm>
          <a:custGeom>
            <a:avLst/>
            <a:gdLst/>
            <a:ahLst/>
            <a:rect l="l" t="t" r="r" b="b"/>
            <a:pathLst>
              <a:path w="768" h="1200">
                <a:moveTo>
                  <a:pt x="768" y="0"/>
                </a:moveTo>
                <a:lnTo>
                  <a:pt x="384" y="0"/>
                </a:lnTo>
                <a:lnTo>
                  <a:pt x="384" y="1200"/>
                </a:lnTo>
                <a:lnTo>
                  <a:pt x="0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895480"/>
            <a:ext cx="1143000" cy="2286000"/>
          </a:xfrm>
          <a:custGeom>
            <a:avLst/>
            <a:gdLst/>
            <a:ahLst/>
            <a:rect l="l" t="t" r="r" b="b"/>
            <a:pathLst>
              <a:path w="720" h="1440">
                <a:moveTo>
                  <a:pt x="0" y="0"/>
                </a:moveTo>
                <a:lnTo>
                  <a:pt x="384" y="0"/>
                </a:lnTo>
                <a:lnTo>
                  <a:pt x="384" y="1440"/>
                </a:lnTo>
                <a:lnTo>
                  <a:pt x="72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600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02600" y="4800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55040" y="4419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64880" y="25509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B03-B736-4C71-9AC3-AE034A5409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ki Shop 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41680" y="640080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: www.rossigno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317680" y="2286000"/>
            <a:ext cx="561960" cy="2676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470320" y="2590920"/>
            <a:ext cx="498240" cy="2371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622600" y="2819520"/>
            <a:ext cx="449280" cy="2143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754360" y="3048120"/>
            <a:ext cx="401760" cy="1914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149560" y="1981080"/>
            <a:ext cx="625320" cy="2981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1981080" y="1905120"/>
            <a:ext cx="641520" cy="30574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251240" y="209376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 shops carry multiple lengths of each ski or board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51240" y="342900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formation refers to the overall type of board or s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51240" y="4572000"/>
            <a:ext cx="344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 information refers to an individual ski or board—defined by its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3800" y="5334120"/>
            <a:ext cx="18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ignol Ax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4800600"/>
            <a:ext cx="129528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0"/>
                </a:moveTo>
                <a:lnTo>
                  <a:pt x="0" y="192"/>
                </a:lnTo>
                <a:lnTo>
                  <a:pt x="816" y="192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496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9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96920" y="15238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: 18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182880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590560" y="18288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136-A663-4492-A529-AE3BF7C845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2057400"/>
            <a:ext cx="426708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SaleIte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ItemMode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proper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data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/Grade and 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151-BD7E-4856-980D-89EBD1AE4F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ls and I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429520" cy="25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82C-671C-4C8B-90E3-663CEA6937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Design: An Expert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time-post.com/db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easy to create databas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data in central location, so changes can be made from almost any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immediate detailed feedback on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must ask for a free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ors and students need a Java-enabled Web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CCD-0C5C-4665-AB3E-D4B4AC9CE9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kill Leve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16560" y="167652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Style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16560" y="2173320"/>
            <a:ext cx="46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8400" y="2706840"/>
            <a:ext cx="66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customer can have one skill in many sty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siness rule: Each style can apply to more than on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a table with both attributes as k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32400" y="3711600"/>
            <a:ext cx="46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astName, …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43000" y="4230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t you cannot include LastName, FirstName and so on, because then you would have to re-enter that data for each customer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FE8-5E10-451B-B8E8-6DA6E41D35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Style Skil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75248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213372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2438280"/>
            <a:ext cx="18288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28195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168120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00800" y="205740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00800" y="3814920"/>
            <a:ext cx="19051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4191120"/>
            <a:ext cx="1905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kill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2286000"/>
            <a:ext cx="106704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lnTo>
                  <a:pt x="192" y="0"/>
                </a:lnTo>
                <a:lnTo>
                  <a:pt x="192" y="432"/>
                </a:lnTo>
                <a:lnTo>
                  <a:pt x="672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28600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240" y="624"/>
                </a:lnTo>
                <a:lnTo>
                  <a:pt x="24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3581280"/>
            <a:ext cx="838080" cy="7621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240" y="0"/>
                </a:lnTo>
                <a:lnTo>
                  <a:pt x="24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53A-3E0A-4BA3-A242-327AD5B302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QL Server Data Types (Domains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295280"/>
          <a:ext cx="7723440" cy="4795920"/>
        </p:xfrm>
        <a:graphic>
          <a:graphicData uri="http://schemas.openxmlformats.org/drawingml/2006/table">
            <a:tbl>
              <a:tblPr/>
              <a:tblGrid>
                <a:gridCol w="1712880"/>
                <a:gridCol w="2438640"/>
                <a:gridCol w="2685960"/>
                <a:gridCol w="88596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 (character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/Unico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 or nch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ch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varch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 or ntex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0 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ga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eri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yte (8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er (16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 (32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64 bi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xed preci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rr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/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ny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all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g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(p,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oa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e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25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^15 to 2^15 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^31 to 2^31 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2^63 to 2^63 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: 1...38,  s: 0...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dig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 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/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etime, smalldatetim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1/1753 to 12/31/9999 (3.33m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1/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gigabyt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dec" pos="290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28600" y="632376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hel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598-A7B0-42E7-BCD6-AD62912CD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itial Business Objec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C1D-0205-44D8-9D64-6A19FDB09A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sociations or Relationshi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5100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886200"/>
            <a:ext cx="16002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xpay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16002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981080"/>
            <a:ext cx="160020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452600"/>
            <a:ext cx="160020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182880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l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3124080"/>
            <a:ext cx="19047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05320"/>
            <a:ext cx="19047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213372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432" y="288"/>
                </a:lnTo>
                <a:lnTo>
                  <a:pt x="432" y="0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29520" y="21700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…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976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…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8BD-7141-4A66-A98D-743435D683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514600"/>
            <a:ext cx="5334120" cy="16765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: http://time-post.com/db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in with your book account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udent who has two key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770-54B2-4B3E-8FDE-56D9306CB0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4111560" cy="4419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1981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key numbers you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6668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124080"/>
            <a:ext cx="18288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username and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5812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4495680"/>
            <a:ext cx="182880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your correct name, e-mail address and Student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666880" y="426672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286-705D-4888-B897-26C2FF1EE3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ass Regis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4111560" cy="4419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638680" y="1940040"/>
            <a:ext cx="20574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ful accoun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159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your university an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403848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admi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76360" y="2438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038120" y="3505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285640" y="3962160"/>
            <a:ext cx="3352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870-8799-4700-AD2E-FB864C3ED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286000"/>
            <a:ext cx="4876560" cy="22096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/Open, choose All Powder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/Add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header/Renam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columns from right onto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name/set data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E93-3535-472B-B156-93B2E62600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20:15Z</dcterms:modified>
  <cp:revision>19</cp:revision>
  <dc:subject/>
  <dc:title>All Powder Board and Ski</dc:title>
</cp:coreProperties>
</file>