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7BB-7EC7-474A-ACD9-FD1E05F4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21E-74DC-4311-A175-3CC8336D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5E4-B362-4EFF-A378-DBC2FACE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AC7-7975-43A6-9A74-80DAC3DA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9F73-9BBE-4361-A0A7-FDAF0FC6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9D93-548E-4C23-B023-5A07CE82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B3B9-7074-4F3B-ABE1-B95290A8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DA73-7B24-4AFD-A069-86D03811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1209-8E3F-433D-AEA7-EFFAA4FF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60F0-EABD-4F20-9C6F-7C0D1A8A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80F6-BD01-4F16-988F-777CBA37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79D-57B0-485B-974C-ADDEBF76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4680-65B6-4E86-992E-8B50A26D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FE62-B471-446D-A1CE-8E8E748F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A8CA-A757-45F8-9F44-68B32EC9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0686-350F-41AC-8ED9-FBEB62E6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1AE6-566C-436F-A6AD-845D32A6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01B-B885-4EC5-9BA4-241B7BF0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B60-FE2B-44D5-B6A1-B2B3B62F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679-8A23-4C71-A671-B982F05F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2F0-7010-4A92-8F7F-4653925A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54F-5012-4EDA-B56C-19D2ABC5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EAF-88DF-461D-B502-53DBBD4C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5FC-CC0A-4D31-BBFC-5FA97C28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6318-C52A-4A71-ACCA-F53628687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83C8-A431-4D82-8B0E-A6CBDCA3EB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4: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D2D8-E2B8-4EF6-8A2F-0528AAA8B8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600200"/>
            <a:ext cx="7925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ECT     Category, ListPrice, WeightMax, Color,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FROM        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HERE     (ListPrice &lt; 300) AND (WeightMax &gt; 150) AND (Category = N'Board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D2C-9553-4309-8605-DAD3245944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200" y="1295280"/>
            <a:ext cx="34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for jum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site mate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or Yellow main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skis must be under $3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 skis must be under $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920" y="4062240"/>
            <a:ext cx="296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HERE Category=‘Ski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D ItemMaterial=‘Composit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ND Style=‘Jump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9880" y="2514600"/>
            <a:ext cx="4648320" cy="3521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62520" y="1371600"/>
            <a:ext cx="4319640" cy="3330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20" y="2819520"/>
            <a:ext cx="2666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ai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2004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3200400"/>
            <a:ext cx="5562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B3C-F41E-40CD-B18C-9827D5025E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752480"/>
            <a:ext cx="723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ECT     Category, Color, ItemMaterial, Style, List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FROM        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HERE     (Category = N'Ski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ItemMaterial = N'Composite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Style = N'Jump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BDA3-965B-46EE-B72E-9525673EDD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752480"/>
            <a:ext cx="693432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ItemModel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ategory, Color, ItemMaterial, Style, List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nditions: Category=’Ski’ And Style=’Jump’ And ItemMaterial=’Composite’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to ensure it 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nditions for Color=’Yellow’ and ListPrice&lt;3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nditions for Color=’Red’ and ListPrice&lt;4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rrect parenthe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 and te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C4E-BD15-4AFB-BD96-E693D8306D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486400" cy="4599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lor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52680" y="41148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362320" y="1371600"/>
            <a:ext cx="4319640" cy="3065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267080" y="167652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llow and price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4800600"/>
            <a:ext cx="3276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5 conditions must hold, so only one row m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286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43D-B26E-419E-B329-96CF040953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981080"/>
            <a:ext cx="6781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ECT     Category, Color, ItemMaterial, Style, List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FROM        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WHERE     (Category = N'Ski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ItemMaterial = N'Composite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Style = N'Jump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Color = N'Yellow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AND (ListPrice &lt; 3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834-D881-4644-A097-9C1B8A75D9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ultiple Condi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86400" cy="4599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86000" y="1066680"/>
            <a:ext cx="4624560" cy="33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0BE-EC0B-452F-86C0-5EA422CA2A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371600"/>
            <a:ext cx="6782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    Category, Color, ItemMaterial, Style,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       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    (Category=N'Ski' AND Style=N'Jump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ItemMaterial=N'Composite'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Color='Yellow' AND ListPrice&lt;3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Color='Red' AND ListPrice&lt;4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4290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    Category, Color, ItemMaterial, Style, List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        Item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   (Category = N'Ski') AND (Style = N'Jump') AND (ItemMaterial = N'Composite'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Color = 'Yellow') AND (ListPrice &lt; 30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tegory = N'Ski') AND (Style = N'Jump') AND (ItemMaterial = N'Composite'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Color = 'Red') AND (ListPrice &lt; 4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89B-BEF6-42CB-B201-46EF01EB25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5572080" cy="4670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471680" y="1352520"/>
            <a:ext cx="4395600" cy="2944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Query: 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175248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65760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h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21337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724280" y="3200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853-85DF-4059-9439-FA0D7A4808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905120"/>
            <a:ext cx="7391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SaleID, SaleDate, CustomerID, 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(SaleDate BETWEEN '05/01/2006' and '05/31/2006'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(PaymentMethod=N'Cash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F9A-A1BC-4B29-B2A8-47DFA9637C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mar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71560" y="1828800"/>
            <a:ext cx="739944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404-2585-4AFD-9090-681F555CED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1600200"/>
            <a:ext cx="6629400" cy="3962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a blank qu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nly the Sal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SaleID, SaleDate, CustomerID, and Payment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SaleDate between 1/5/2004 AND 5/31/200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PaymentMethod to C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he query to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38C-E558-4A52-BB51-81CC783493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1712880"/>
            <a:ext cx="5410440" cy="4535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471680" y="1285920"/>
            <a:ext cx="4624200" cy="31971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 Tables: Sale + Custom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28640" y="32004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2133720"/>
            <a:ext cx="2133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047760" y="220968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657600" y="24382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657600" y="24382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757F-FFBF-4F08-A963-E27092B6A1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940040"/>
            <a:ext cx="7696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    Sale.SaleID, Sale.SaleDate, Sale.CustomerID, Sale.PaymentMethod, Customer.LastName, Customer.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        Sale INNER 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ON Sale.CustomerID =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    (Sale.SaleDate BETWEEN '05/01/2006' AND '05/31/2006') AND (Sale.PaymentMethod = N'Cash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6D4-EAA1-4BE8-92B9-0774A11337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752480"/>
            <a:ext cx="784872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the Customer tab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eck the join condition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 Sale.CustomerID = Customer.CustomerI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 Customer LastName and FirstName to the SELECT stat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un the query to test 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474-EC7F-4467-803C-A6C81650FB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00988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aleID, SaleDate, Sale.CustomerID, LastName, FirstName, Payment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 JOIN Customer ON Sale.CustomerID =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aleDate Between ’01/05/2004' AND '31/05/2004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PaymentMethod='Cash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C95-F470-4F84-987D-0C4A70E4E1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uilding a more complex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523880"/>
            <a:ext cx="6553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ustomers bought Atomic skis in January or Februa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14400" y="2128680"/>
          <a:ext cx="6933960" cy="1699920"/>
        </p:xfrm>
        <a:graphic>
          <a:graphicData uri="http://schemas.openxmlformats.org/drawingml/2006/table">
            <a:tbl>
              <a:tblPr/>
              <a:tblGrid>
                <a:gridCol w="3112920"/>
                <a:gridCol w="382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want to se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names, Sale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know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 name, SaleDate range, Category is 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ables are involv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are they join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… Sale … ItemModel, Manufactur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914400" y="41860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, FirstName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ustomer, …, Sale, …, ItemModel,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Manufacturer.Name=N‘Atomic”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ale.SaleDate BETWEEN ’01/01/2006’ AND ’29/02/2006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temModel.Category = N‘Sk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49760" y="2286000"/>
            <a:ext cx="2934000" cy="2073240"/>
          </a:xfrm>
          <a:custGeom>
            <a:avLst/>
            <a:gdLst/>
            <a:ahLst/>
            <a:rect l="l" t="t" r="r" b="b"/>
            <a:pathLst>
              <a:path w="1848" h="1306">
                <a:moveTo>
                  <a:pt x="968" y="0"/>
                </a:moveTo>
                <a:cubicBezTo>
                  <a:pt x="1088" y="79"/>
                  <a:pt x="1588" y="308"/>
                  <a:pt x="1688" y="476"/>
                </a:cubicBezTo>
                <a:cubicBezTo>
                  <a:pt x="1788" y="644"/>
                  <a:pt x="1848" y="873"/>
                  <a:pt x="1567" y="1011"/>
                </a:cubicBezTo>
                <a:cubicBezTo>
                  <a:pt x="1286" y="1149"/>
                  <a:pt x="326" y="1245"/>
                  <a:pt x="0" y="13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819520"/>
            <a:ext cx="2298960" cy="2361960"/>
          </a:xfrm>
          <a:custGeom>
            <a:avLst/>
            <a:gdLst/>
            <a:ahLst/>
            <a:rect l="l" t="t" r="r" b="b"/>
            <a:pathLst>
              <a:path w="1448" h="1488">
                <a:moveTo>
                  <a:pt x="672" y="0"/>
                </a:moveTo>
                <a:cubicBezTo>
                  <a:pt x="908" y="136"/>
                  <a:pt x="1153" y="266"/>
                  <a:pt x="1248" y="432"/>
                </a:cubicBezTo>
                <a:cubicBezTo>
                  <a:pt x="1343" y="598"/>
                  <a:pt x="1448" y="821"/>
                  <a:pt x="1240" y="997"/>
                </a:cubicBezTo>
                <a:cubicBezTo>
                  <a:pt x="1032" y="1173"/>
                  <a:pt x="258" y="1386"/>
                  <a:pt x="0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C31-14EA-426D-B935-75D6F5D5B7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Join: Many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19920" cy="48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608-9D04-4F4C-9585-5ED922116A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Many Table JOI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447920"/>
            <a:ext cx="83059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Name, FirstName, ItemModel.Category, Name, 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factur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ItemMo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Manufacturer.ManufacturerID = ItemModel.Manufacturer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Inven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temModel.ModelID = Inventory.Mode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SaleI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Inventory.SKU = SaleItem.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aleItem.SaleID = Sale.Sale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JOIN Custom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ale.CustomerID = Customer.Custome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emModel.Category = N'Ski'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ame = N'Atomic'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63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ale.SaleDate BETWEEN '1/1/2006' and '2/28/2006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AC3-5821-494F-92E5-051352FE1A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438280" y="1523880"/>
            <a:ext cx="5762880" cy="33624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lder JOIN Meth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752480"/>
            <a:ext cx="167616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tables separated by com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209680" y="19807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200400"/>
            <a:ext cx="16761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join condition in the WHERE cl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209680" y="2742840"/>
            <a:ext cx="762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541-858E-4C8A-A9F6-4C0881E339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9810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LastName, FirstName, ItemModel.Category, Name, 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Manufacturer, ItemModel, Inventory, SaleItem, Sale,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Manufacturer.ManufacturerID = ItemModel.Manufacture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ItemModel.ModelID = Inventory.Model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Inventory.SKU = SaleItem.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SaleItem.SaleID = Sale.Sale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Sale.CustomerID = Customer.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ItemModel.Category = N'Ski'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Name = N'Atomic'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(Sale.SaleDate BETWEEN '1/1/2006' and '2/28/2006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677-901F-4752-BA7D-1F22FA7872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1981080"/>
            <a:ext cx="548640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files from BuildAllPow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or rename conflicting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command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batch file BuildAllPowderSQL server username pass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B7E-B5F3-4026-9EAB-E9FE8EE69C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71680" y="1490760"/>
            <a:ext cx="6200640" cy="38764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429000" y="4648320"/>
            <a:ext cx="2486160" cy="1780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alcul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1981080"/>
            <a:ext cx="2133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4648320"/>
            <a:ext cx="533520" cy="1828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971440" y="2362320"/>
            <a:ext cx="2895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572000" y="236232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562720" y="2362320"/>
            <a:ext cx="3045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21A-1D6F-4195-A372-4FFADF34D2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981080"/>
            <a:ext cx="80773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SELECT Category, ItemMaterial, ListPrice, ListPrice-Cost As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FROM Item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ORDER BY Category, ListPrice DE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4A29-72C8-4AE9-A01A-01A2445912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2057400"/>
            <a:ext cx="6324840" cy="31240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 using only the ItemModel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LECT row, add a new pseudo column to compute ListPrice-Cost As Pro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ORDER BY line to sort by Category and List Price desce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0AC-3BC1-40FF-8F30-FFB24442146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mon Func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447920"/>
            <a:ext cx="73152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w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/number of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ub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Trim, RTr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leading and trailing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pper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umber to a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D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two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detailed forma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, Month, Yea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P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parts of a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ine, all common trig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, drop decim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-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8840" y="62085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Books Online: Transact-SQL Reference/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7EB-D968-42D7-8B32-F9022F0F1E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ormat Dates: Conve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471680" y="1366920"/>
            <a:ext cx="6200640" cy="4124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124080" y="4495680"/>
            <a:ext cx="2676600" cy="1791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181480" y="4495680"/>
            <a:ext cx="609840" cy="1752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A227-DEE6-48DF-B437-09ADA0DC701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1828800"/>
            <a:ext cx="6933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    SaleID, Sale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Left(Convert(nvarchar, SaleDate, 120), 7) AS Sal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      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283-3AC3-49A7-8084-DC28DF1C67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201000" cy="3790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819520" y="4419720"/>
            <a:ext cx="4543200" cy="17809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dd Days and DateAd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8680" y="320040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one 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1905120"/>
            <a:ext cx="2286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 + 30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2286000"/>
            <a:ext cx="30456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19520" y="2286000"/>
            <a:ext cx="228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352680" y="3505320"/>
            <a:ext cx="2286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350532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6E0-ABA3-4729-B4C3-F0A1A746727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2057400"/>
            <a:ext cx="7239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SaleID, Sal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te, SaleDate+30 AS Late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DateAdd(Month, 1, SaleDate) As LateMon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D5D-419B-4E70-A9BD-0CA7043D79E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1981080"/>
            <a:ext cx="5410080" cy="3657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aleID and Sal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30 days to the SaleDate to get Late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DateAdd to add one month to the SaleDate to get Sale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CFA-4349-4701-BD50-5A99BC6901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200640" cy="44766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S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243828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276720" y="5181480"/>
            <a:ext cx="1971720" cy="6573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38480" y="3276720"/>
            <a:ext cx="1600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171840" y="2819520"/>
            <a:ext cx="304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3657600"/>
            <a:ext cx="10670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372-92CD-4E6B-8A23-FE43AD013F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le/Get External Data/Im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676520"/>
            <a:ext cx="69343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BuildAllPowder folder to machine running 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 or rename any conflic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QL Plus, run the file DropAllPowderTablesSQL.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 to command mode: Start/All Programs/Accessories/Command Pro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AllPowderSQL server username 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537-8112-4C4D-8DCF-7136B5868B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1981080"/>
            <a:ext cx="556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LECT Sum(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WHERE (ShipState='C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6DA-F8AC-4D3E-94AF-919896F4080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1523880"/>
            <a:ext cx="6019560" cy="4648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ShipState and Sales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ShipState = ‘CA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correct states are displa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heck ShipState as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Sum option for Sales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0E6-3D21-4C72-B39B-0F915EB9B67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200640" cy="44769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ry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1981080"/>
            <a:ext cx="26672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produces subtotals for all values in the specified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37920" y="2895480"/>
            <a:ext cx="304812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895480"/>
            <a:ext cx="5335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28954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1791000" cy="178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E24-541C-4D23-A26A-573AEF736EC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: Group B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228600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hipState, Sum(SalesTax) AS SumOfSales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ShipSt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346-AF89-4979-A41A-693F1AB78E6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981080"/>
            <a:ext cx="502920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Sal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s: ShipState and Sum(SalesTax) AS SumOfSales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row at the bottom: GROUP BY Ship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A08-BE43-4394-AB72-6DAEFD75C05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271520" y="1471680"/>
            <a:ext cx="6600960" cy="39146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tal Sales Value in Colorad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52880" y="4343400"/>
            <a:ext cx="26672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on each row and sum across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3352320" y="350496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4952880"/>
            <a:ext cx="905040" cy="381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H="1" flipV="1">
            <a:off x="3809520" y="44956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177-1CD7-4410-88F3-C68BEF38D9A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VIEW—Save a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2590920"/>
            <a:ext cx="7848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IEW ColoradoSales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um(QuantitySold*SalePrice) AS Sale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ale INNER JOIN SaleItem ON Sale.SaleID = SaleItem.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ShipState=’C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305-2DE8-40FD-87D1-4CE3899390E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ll Powder Tables After Im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48640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76D-D26D-42A2-9D89-F3FFC53424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562720" cy="4662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arting a Query: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819520"/>
            <a:ext cx="1752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5257800"/>
            <a:ext cx="1143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429000" y="4800600"/>
            <a:ext cx="965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1528920"/>
            <a:ext cx="175284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809520" y="1676520"/>
            <a:ext cx="1143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266688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276720"/>
            <a:ext cx="1523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/ New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35053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962520" y="25146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62320" y="21333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A74-704B-4624-9B78-8845B17DCF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153040" cy="441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terprise Manager 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648320"/>
            <a:ext cx="11430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2819160" y="4495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213372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and J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504960" y="20570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411480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638680" y="34286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CBE-AF4D-4161-BAE0-A562101C0E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676520"/>
            <a:ext cx="6400800" cy="3886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new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and Add the ItemModel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s: Category, ListPrice, WeightMax, Color, and Graph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nditions: Category=’Board’ AND ListPrice&lt;300 AND WeightMax&gt;1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SQL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qu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C05-45B2-4770-9B65-908186ABCD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4810320" cy="4032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mple Que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371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Display snowboards with a list price under $300 and max weight over 150 po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4495680" cy="2982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76920" y="4419720"/>
            <a:ext cx="7617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5334120"/>
            <a:ext cx="10666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590920"/>
            <a:ext cx="914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35053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866D-13AC-4FC9-90FF-9C0389CB4E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28:36Z</dcterms:modified>
  <cp:revision>62</cp:revision>
  <dc:subject/>
  <dc:title>All Powder Board and Ski</dc:title>
</cp:coreProperties>
</file>