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6EBD-E6B2-465E-A44E-2BEAEC28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0880-B0BD-47A8-963A-181B6657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0448-D403-4648-A47E-CFD23C4D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C1D6-0E9F-4710-BE90-F43BF1CE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3596-4BAD-41DC-91D0-52F46E42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FEDC-9FB4-4D8F-9BE5-947581B2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A093-FC0D-4B0D-BF39-452893F9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A727-BDD9-44EA-871B-7B25BCD9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30B8-3EA0-40AC-8658-8E7A0894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D54D-75C8-4D6B-A387-410A0793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CA40-0BD7-475E-9BA7-FF71766B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A0EA-A83B-4653-896C-424121C6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CB3A-A055-4C5B-B153-950F865E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CCDB-8A04-4105-82AE-0886CC82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2BF0-3FFE-4769-986E-4F02BDFA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27E6-9D90-4C92-AF2D-A13C43B1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1AC6-77C2-41A3-8D38-6B413C65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89EF-936C-43DD-9B15-C0922882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79AC-318A-47EA-9BA6-3DABB75D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047-A14E-40B8-90B5-69E59288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56DC-C159-4F18-984B-F9553F0B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4B2F-C0B4-44AE-A95A-30332B2B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8C92-953C-4043-B5D5-1EB78647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E01B-0D1C-4AC1-98B8-69756FD7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B1C7-8392-4D16-8082-B4D10ADC17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2891-A0A5-49E4-81AD-5B796885E0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 Server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blespaces and Fi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1066680" y="3048120"/>
            <a:ext cx="304812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k 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1219320" y="3505320"/>
            <a:ext cx="13716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2666880" y="3505320"/>
            <a:ext cx="13716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4572000" y="3048120"/>
            <a:ext cx="304812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k 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4"/>
          <p:cNvSpPr/>
          <p:nvPr/>
        </p:nvSpPr>
        <p:spPr>
          <a:xfrm>
            <a:off x="4724280" y="3505320"/>
            <a:ext cx="13716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5"/>
          <p:cNvSpPr/>
          <p:nvPr/>
        </p:nvSpPr>
        <p:spPr>
          <a:xfrm>
            <a:off x="6172200" y="3505320"/>
            <a:ext cx="13716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6"/>
          <p:cNvSpPr/>
          <p:nvPr/>
        </p:nvSpPr>
        <p:spPr>
          <a:xfrm>
            <a:off x="1143000" y="1600200"/>
            <a:ext cx="28954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1219320" y="19810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bl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8"/>
          <p:cNvSpPr/>
          <p:nvPr/>
        </p:nvSpPr>
        <p:spPr>
          <a:xfrm>
            <a:off x="4572000" y="1600200"/>
            <a:ext cx="28954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4648320" y="198108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llback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o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0"/>
          <p:cNvSpPr/>
          <p:nvPr/>
        </p:nvSpPr>
        <p:spPr>
          <a:xfrm>
            <a:off x="1295280" y="28195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1"/>
          <p:cNvSpPr/>
          <p:nvPr/>
        </p:nvSpPr>
        <p:spPr>
          <a:xfrm>
            <a:off x="1295280" y="281952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2"/>
          <p:cNvSpPr/>
          <p:nvPr/>
        </p:nvSpPr>
        <p:spPr>
          <a:xfrm>
            <a:off x="4800600" y="28195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3"/>
          <p:cNvSpPr/>
          <p:nvPr/>
        </p:nvSpPr>
        <p:spPr>
          <a:xfrm>
            <a:off x="4800600" y="281952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1905120" y="1752480"/>
            <a:ext cx="5105160" cy="2743200"/>
          </a:xfrm>
          <a:prstGeom prst="rect">
            <a:avLst/>
          </a:prstGeom>
          <a:gradFill rotWithShape="0">
            <a:gsLst>
              <a:gs pos="0">
                <a:srgbClr val="d3d3d3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ree new filegroups with one new file in e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partition function based on an integer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partition sche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a new ItemModel table that assigns data to the partitions based on Model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New Filegrou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143000" y="1523880"/>
          <a:ext cx="6629400" cy="4419720"/>
        </p:xfrm>
        <a:graphic>
          <a:graphicData uri="http://schemas.openxmlformats.org/drawingml/2006/table">
            <a:tbl>
              <a:tblPr/>
              <a:tblGrid>
                <a:gridCol w="6629400"/>
              </a:tblGrid>
              <a:tr h="441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ER Database AllPow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FileGroup fgModel01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ER Database AllPow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FileGroup fgModel02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ER Database AllPow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FileGroup fgModel03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22860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New Fi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685800" y="1694160"/>
            <a:ext cx="7696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TER Database AllPow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= Item0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name = 'C:\Program Files\Microsoft SQL Server\MSSQL10.MSSQLSERVER\MSSQL\DATA\AP_Item01.ndf'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ze = 20MB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leGrowth = 5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TO FileGroup fgModel0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em02, fgModel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em03, fgModel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artition Function and Schem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295280" y="1752480"/>
          <a:ext cx="6324840" cy="2846520"/>
        </p:xfrm>
        <a:graphic>
          <a:graphicData uri="http://schemas.openxmlformats.org/drawingml/2006/table">
            <a:tbl>
              <a:tblPr/>
              <a:tblGrid>
                <a:gridCol w="6324840"/>
              </a:tblGrid>
              <a:tr h="284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E PARTITION FUNCTION ItemModelPF (i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 RANGE LEFT FOR VALUES (2000, 2006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E PARTITION SCHEME ItemModelPS 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ITION ItemModelPF TO (fgModel01, fgModel02, fgModel03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ssign Partition to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38080" y="1600200"/>
          <a:ext cx="6934320" cy="350532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350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E TABLE ItemModel2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ID nvarchar(50) NOT NULL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ufacturerID int NULL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egory nvarchar(50) NULL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or nvarchar(50) NULL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money NULL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Year int not NULL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ntalRate money NU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 </a:t>
                      </a:r>
                      <a:r>
                        <a:rPr b="0" lang="en-US" sz="18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ON ItemModelPS (ModelYear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114480"/>
                          <a:tab algn="l" pos="237960"/>
                          <a:tab algn="l" pos="1143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Clustered Inde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90720" y="1752480"/>
          <a:ext cx="6095880" cy="19051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EATE CLUSTERED INDEX idxInven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 Inventory (SKU, ModelI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Error: Only one clustered index per table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8-07-28T19:30:50Z</dcterms:modified>
  <cp:revision>12</cp:revision>
  <dc:subject/>
  <dc:title>All Powder Board and Ski</dc:title>
</cp:coreProperties>
</file>