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64E-D2A3-4235-A691-FE85FD34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E9E-AC54-4C96-A6FF-051A1D44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336F-F993-4931-9520-0AE89359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FD6-3FB6-4046-BE9D-C7BC6A2C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1340-8B66-4C7E-94AE-1A554BB0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B0F7-0647-4D5E-A4A1-716DC9FC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620A-03AC-4824-A6B7-F15AA28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E54D-A737-4FEE-85AE-06819129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48D7-AF2A-4527-9C9A-0BA85507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93D5-A600-4331-9393-5974FE8B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5890-A8BA-4BFE-97D6-2A972BD6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862-4AAD-4D8E-986A-F55AEEFE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F744-D9D1-495A-B583-5C5BC398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DF36-2239-409C-962E-BDD9D0CF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EB6F-44B4-4CF0-9382-EA5132C8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976F-2DA3-4E93-80F7-7A62554D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AD1A-7060-4CD3-B40C-2E2602F4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80E-6C0F-4D3B-9DBF-9BF5C44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D8D-0E81-416E-8714-B51B5C49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37B-17F7-4990-9A2C-0F745C68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D23-BB73-47D4-B6D5-9A6F5C41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CF1E-3541-4707-8D8A-AD46F30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247-1C09-4D50-9D85-FB891169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78B-E724-4C02-8AEE-46EEA41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A88-6720-44B0-812C-80C6E0795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E40-17E0-49BE-9A9D-AFA3B7A82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All Powder Board and Ski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 Server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: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rry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right ©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A52E-0A16-417A-A718-B24AEA12A0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09720" y="1447920"/>
            <a:ext cx="6191280" cy="4655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Menu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10120" y="1600200"/>
            <a:ext cx="1676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 top-leve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0400" y="289548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62000" y="31240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62000" y="2590560"/>
            <a:ext cx="17528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53120" y="2819520"/>
            <a:ext cx="13716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86080" y="30481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24120" y="3962520"/>
            <a:ext cx="13716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29040" y="2819160"/>
            <a:ext cx="7617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29040" y="312372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09572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171-7FB5-4CBB-901C-03B8DB1D82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1752480"/>
            <a:ext cx="6858000" cy="335304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 Menu Strip onto the menu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op-level links for at least Customers, Close, and Hel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Customers, add the Customer and Sale forms, and the two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ame each menu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the Customer and Sale entries and add the code to open the 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ode to open the two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, compile, and test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D78-61E3-4186-BC03-FB1337CC01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95600" y="1547640"/>
            <a:ext cx="3952800" cy="3762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 Menu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2514600"/>
            <a:ext cx="15238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.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266720" y="205704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5181480"/>
            <a:ext cx="44197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.Diagnostics.Process.Start(s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886200" y="2742840"/>
            <a:ext cx="13716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2F23-2AC0-4455-B059-FCD84789E3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807360"/>
            <a:ext cx="1600200" cy="162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70240" y="2059200"/>
            <a:ext cx="1701720" cy="785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211680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320436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4271040"/>
            <a:ext cx="91440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ML To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4923000"/>
            <a:ext cx="2667240" cy="107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File: AllPowder.c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 Context ID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0240" y="3205080"/>
            <a:ext cx="11577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Topic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opic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opic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opic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opi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Topic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486400" y="2590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56272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9625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75040" y="1225440"/>
            <a:ext cx="4749840" cy="4683240"/>
          </a:xfrm>
          <a:custGeom>
            <a:avLst/>
            <a:gdLst/>
            <a:ahLst/>
            <a:rect l="l" t="t" r="r" b="b"/>
            <a:pathLst>
              <a:path w="2992" h="2950">
                <a:moveTo>
                  <a:pt x="1554" y="340"/>
                </a:moveTo>
                <a:cubicBezTo>
                  <a:pt x="1154" y="445"/>
                  <a:pt x="621" y="717"/>
                  <a:pt x="375" y="996"/>
                </a:cubicBezTo>
                <a:cubicBezTo>
                  <a:pt x="129" y="1275"/>
                  <a:pt x="0" y="1707"/>
                  <a:pt x="79" y="2012"/>
                </a:cubicBezTo>
                <a:cubicBezTo>
                  <a:pt x="158" y="2317"/>
                  <a:pt x="415" y="2740"/>
                  <a:pt x="847" y="2828"/>
                </a:cubicBezTo>
                <a:cubicBezTo>
                  <a:pt x="1279" y="2916"/>
                  <a:pt x="2350" y="2950"/>
                  <a:pt x="2671" y="2540"/>
                </a:cubicBezTo>
                <a:cubicBezTo>
                  <a:pt x="2992" y="2130"/>
                  <a:pt x="2959" y="734"/>
                  <a:pt x="2773" y="367"/>
                </a:cubicBezTo>
                <a:cubicBezTo>
                  <a:pt x="2587" y="0"/>
                  <a:pt x="1933" y="237"/>
                  <a:pt x="1554" y="34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209680" y="2819160"/>
            <a:ext cx="121932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94000" y="190512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114800" y="22860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214-C958-4992-83EB-FB8856F534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828800"/>
            <a:ext cx="708660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t least three HTML help files for the All Powder forms using an HTML editor or Word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download and install the HTML Help work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new project in the work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HTML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 the HTML files to add key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mapping file with a text editor and add it to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roject options to build the TOC and index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test the help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3CC-A12B-4B23-B00D-D64395BBB9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TML Help Fi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371600"/>
            <a:ext cx="71629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Object type="application/x-oleobject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d="clsid:1e2a7bd0-dab9-11d0-b93a-00c04fc99f9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Content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Introduction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Star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ARAM name="Keyword" value="Management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OBJECT&gt;&lt;HTML&gt;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ITLE&gt;All Powder Board and Ski Shop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rel="stylesheet" type="text/css" href="Styles.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HEAD&gt;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1&gt;Introduction to the All Powder Board and Ski Shop&lt;/H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&gt;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&lt;IMG SRC='BoardLogo1.gif' border='0'&gt;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All Powder Board and Ski Shop sells and rents snowboards and skis for all levels of riders and skiers.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&lt;/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2&gt;The Board and Ski Shop&lt;/H2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L&gt;&lt;LI&gt;&lt;A HREF=’Customers.html'&gt;Customers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&gt;&lt;A HREF=’Sales.html'&gt;Sales &lt;/A&gt;&lt;/LI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UL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C5F-6590-4FA8-A376-C2B32DC594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opics Map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05740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AllPow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Custom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679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define Sa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038480"/>
            <a:ext cx="48006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required for SQL Server, but create it anyway so that you can use the same help file with other applications if necessa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C4C7-FB43-4C39-8715-A9CC1D5899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Compiler and 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57B-8C45-4814-BE65-D7FE9092F9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828800"/>
            <a:ext cx="7086600" cy="342900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HelpProvider object to the main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its HelpNamespace property to AllPowder.c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Form object, set the HelpNavigator property to TableOf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ustomer button, set the HelpKeyword to Customer and HelpNavigator to Keyword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code for the Help menu i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test ever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EFA-CC42-4C4A-BD83-D5A1BE24E1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6814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File on Visual Basic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4191120"/>
            <a:ext cx="27432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Keyword: 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34340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48006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428640" y="32767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4952880"/>
            <a:ext cx="19810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Namespace: AllPowder.c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20040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057040" y="388584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4191120"/>
            <a:ext cx="11430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3FF-8C7A-4976-8778-533ED9FB6F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3533760" cy="2890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3581280" cy="3571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62120" y="1447920"/>
            <a:ext cx="2814480" cy="2679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3048120"/>
            <a:ext cx="990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1295280"/>
            <a:ext cx="685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1371600"/>
            <a:ext cx="990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343400" y="3200400"/>
            <a:ext cx="3429000" cy="283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81280" y="4343400"/>
            <a:ext cx="12956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forms an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FA6-A069-4B35-9A80-A47F9884AE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Menu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80324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ivate Sub mnuHelp_Click(ByVal sender As System.Object, 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yVal e As System.EventArgs) Handles mnuHelp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' Tell the Help system to open the 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.ShowHelp(Me.btnCustomer, "AllPowder.chm", 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Navigator.TableOfContents)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4267080"/>
            <a:ext cx="63244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also use HelpNavigator.KeywordIndex, “MainMen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5DE-3DC1-424F-9D3D-0466EEB7CC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lp In 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662440" cy="42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A94-274F-4D96-9DEC-B52D1F9B25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ploy an Appl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795320" cy="272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248520" y="4038480"/>
            <a:ext cx="1503360" cy="1203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8760" y="460836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23520" y="52578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495680" y="1828800"/>
            <a:ext cx="898560" cy="1359000"/>
            <a:chOff x="4495680" y="1828800"/>
            <a:chExt cx="898560" cy="1359000"/>
          </a:xfrm>
        </p:grpSpPr>
        <p:sp>
          <p:nvSpPr>
            <p:cNvPr id="198" name=""/>
            <p:cNvSpPr/>
            <p:nvPr/>
          </p:nvSpPr>
          <p:spPr>
            <a:xfrm>
              <a:off x="4994280" y="1835280"/>
              <a:ext cx="399960" cy="1339920"/>
            </a:xfrm>
            <a:custGeom>
              <a:avLst/>
              <a:gdLst/>
              <a:ahLst/>
              <a:rect l="l" t="t" r="r" b="b"/>
              <a:pathLst>
                <a:path w="252" h="844">
                  <a:moveTo>
                    <a:pt x="222" y="82"/>
                  </a:moveTo>
                  <a:cubicBezTo>
                    <a:pt x="234" y="198"/>
                    <a:pt x="248" y="620"/>
                    <a:pt x="252" y="746"/>
                  </a:cubicBezTo>
                  <a:cubicBezTo>
                    <a:pt x="138" y="786"/>
                    <a:pt x="90" y="808"/>
                    <a:pt x="6" y="844"/>
                  </a:cubicBezTo>
                  <a:cubicBezTo>
                    <a:pt x="8" y="710"/>
                    <a:pt x="0" y="142"/>
                    <a:pt x="4" y="0"/>
                  </a:cubicBezTo>
                  <a:cubicBezTo>
                    <a:pt x="62" y="22"/>
                    <a:pt x="75" y="33"/>
                    <a:pt x="98" y="40"/>
                  </a:cubicBezTo>
                  <a:cubicBezTo>
                    <a:pt x="121" y="47"/>
                    <a:pt x="133" y="40"/>
                    <a:pt x="144" y="44"/>
                  </a:cubicBezTo>
                  <a:cubicBezTo>
                    <a:pt x="155" y="48"/>
                    <a:pt x="149" y="58"/>
                    <a:pt x="162" y="64"/>
                  </a:cubicBezTo>
                  <a:cubicBezTo>
                    <a:pt x="175" y="70"/>
                    <a:pt x="178" y="64"/>
                    <a:pt x="222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9595d4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75360" y="1901880"/>
              <a:ext cx="95040" cy="1181160"/>
            </a:xfrm>
            <a:custGeom>
              <a:avLst/>
              <a:gdLst/>
              <a:ahLst/>
              <a:rect l="l" t="t" r="r" b="b"/>
              <a:pathLst>
                <a:path w="60" h="744">
                  <a:moveTo>
                    <a:pt x="50" y="17"/>
                  </a:moveTo>
                  <a:cubicBezTo>
                    <a:pt x="53" y="40"/>
                    <a:pt x="53" y="82"/>
                    <a:pt x="52" y="140"/>
                  </a:cubicBezTo>
                  <a:cubicBezTo>
                    <a:pt x="51" y="198"/>
                    <a:pt x="46" y="267"/>
                    <a:pt x="46" y="366"/>
                  </a:cubicBezTo>
                  <a:cubicBezTo>
                    <a:pt x="46" y="465"/>
                    <a:pt x="56" y="673"/>
                    <a:pt x="55" y="736"/>
                  </a:cubicBezTo>
                  <a:cubicBezTo>
                    <a:pt x="42" y="739"/>
                    <a:pt x="60" y="737"/>
                    <a:pt x="41" y="744"/>
                  </a:cubicBezTo>
                  <a:cubicBezTo>
                    <a:pt x="33" y="661"/>
                    <a:pt x="14" y="363"/>
                    <a:pt x="8" y="239"/>
                  </a:cubicBezTo>
                  <a:cubicBezTo>
                    <a:pt x="2" y="115"/>
                    <a:pt x="0" y="41"/>
                    <a:pt x="4" y="2"/>
                  </a:cubicBezTo>
                  <a:cubicBezTo>
                    <a:pt x="25" y="8"/>
                    <a:pt x="27" y="0"/>
                    <a:pt x="35" y="2"/>
                  </a:cubicBezTo>
                  <a:cubicBezTo>
                    <a:pt x="43" y="4"/>
                    <a:pt x="37" y="0"/>
                    <a:pt x="50" y="17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d7d7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95680" y="1828800"/>
              <a:ext cx="511200" cy="1359000"/>
            </a:xfrm>
            <a:custGeom>
              <a:avLst/>
              <a:gdLst/>
              <a:ahLst/>
              <a:rect l="l" t="t" r="r" b="b"/>
              <a:pathLst>
                <a:path w="322" h="856">
                  <a:moveTo>
                    <a:pt x="322" y="850"/>
                  </a:moveTo>
                  <a:cubicBezTo>
                    <a:pt x="284" y="856"/>
                    <a:pt x="245" y="851"/>
                    <a:pt x="220" y="842"/>
                  </a:cubicBezTo>
                  <a:cubicBezTo>
                    <a:pt x="195" y="833"/>
                    <a:pt x="183" y="805"/>
                    <a:pt x="170" y="796"/>
                  </a:cubicBezTo>
                  <a:cubicBezTo>
                    <a:pt x="157" y="787"/>
                    <a:pt x="162" y="793"/>
                    <a:pt x="142" y="788"/>
                  </a:cubicBezTo>
                  <a:cubicBezTo>
                    <a:pt x="122" y="783"/>
                    <a:pt x="72" y="779"/>
                    <a:pt x="48" y="768"/>
                  </a:cubicBezTo>
                  <a:cubicBezTo>
                    <a:pt x="24" y="757"/>
                    <a:pt x="32" y="756"/>
                    <a:pt x="0" y="722"/>
                  </a:cubicBezTo>
                  <a:cubicBezTo>
                    <a:pt x="8" y="610"/>
                    <a:pt x="22" y="194"/>
                    <a:pt x="36" y="84"/>
                  </a:cubicBezTo>
                  <a:cubicBezTo>
                    <a:pt x="80" y="56"/>
                    <a:pt x="72" y="67"/>
                    <a:pt x="94" y="60"/>
                  </a:cubicBezTo>
                  <a:cubicBezTo>
                    <a:pt x="116" y="53"/>
                    <a:pt x="150" y="47"/>
                    <a:pt x="168" y="42"/>
                  </a:cubicBezTo>
                  <a:cubicBezTo>
                    <a:pt x="186" y="37"/>
                    <a:pt x="188" y="37"/>
                    <a:pt x="202" y="32"/>
                  </a:cubicBezTo>
                  <a:cubicBezTo>
                    <a:pt x="216" y="27"/>
                    <a:pt x="232" y="15"/>
                    <a:pt x="252" y="10"/>
                  </a:cubicBezTo>
                  <a:cubicBezTo>
                    <a:pt x="272" y="5"/>
                    <a:pt x="276" y="0"/>
                    <a:pt x="320" y="4"/>
                  </a:cubicBezTo>
                  <a:cubicBezTo>
                    <a:pt x="320" y="156"/>
                    <a:pt x="322" y="706"/>
                    <a:pt x="322" y="85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50000">
                  <a:srgbClr val="000096"/>
                </a:gs>
                <a:gs pos="100000">
                  <a:srgbClr val="000099"/>
                </a:gs>
              </a:gsLst>
              <a:lin ang="10800000"/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7520" y="1838520"/>
              <a:ext cx="81000" cy="1332000"/>
            </a:xfrm>
            <a:custGeom>
              <a:avLst/>
              <a:gdLst/>
              <a:ahLst/>
              <a:rect l="l" t="t" r="r" b="b"/>
              <a:pathLst>
                <a:path w="51" h="839">
                  <a:moveTo>
                    <a:pt x="34" y="32"/>
                  </a:moveTo>
                  <a:cubicBezTo>
                    <a:pt x="29" y="43"/>
                    <a:pt x="24" y="0"/>
                    <a:pt x="19" y="116"/>
                  </a:cubicBezTo>
                  <a:cubicBezTo>
                    <a:pt x="14" y="232"/>
                    <a:pt x="7" y="617"/>
                    <a:pt x="4" y="728"/>
                  </a:cubicBezTo>
                  <a:cubicBezTo>
                    <a:pt x="1" y="839"/>
                    <a:pt x="1" y="750"/>
                    <a:pt x="1" y="785"/>
                  </a:cubicBezTo>
                  <a:cubicBezTo>
                    <a:pt x="24" y="789"/>
                    <a:pt x="0" y="782"/>
                    <a:pt x="3" y="783"/>
                  </a:cubicBezTo>
                  <a:cubicBezTo>
                    <a:pt x="6" y="784"/>
                    <a:pt x="13" y="788"/>
                    <a:pt x="18" y="791"/>
                  </a:cubicBezTo>
                  <a:cubicBezTo>
                    <a:pt x="23" y="794"/>
                    <a:pt x="15" y="794"/>
                    <a:pt x="34" y="801"/>
                  </a:cubicBezTo>
                  <a:cubicBezTo>
                    <a:pt x="38" y="733"/>
                    <a:pt x="44" y="501"/>
                    <a:pt x="46" y="372"/>
                  </a:cubicBezTo>
                  <a:cubicBezTo>
                    <a:pt x="48" y="243"/>
                    <a:pt x="51" y="84"/>
                    <a:pt x="49" y="27"/>
                  </a:cubicBezTo>
                  <a:cubicBezTo>
                    <a:pt x="24" y="32"/>
                    <a:pt x="37" y="31"/>
                    <a:pt x="34" y="32"/>
                  </a:cubicBez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50000">
                  <a:srgbClr val="c7c7fe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65640" y="21513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65640" y="220824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5640" y="228132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65640" y="234180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65640" y="2417760"/>
              <a:ext cx="85680" cy="23760"/>
            </a:xfrm>
            <a:custGeom>
              <a:avLst/>
              <a:gdLst/>
              <a:ahLst/>
              <a:rect l="l" t="t" r="r" b="b"/>
              <a:pathLst>
                <a:path w="54" h="15">
                  <a:moveTo>
                    <a:pt x="0" y="7"/>
                  </a:moveTo>
                  <a:cubicBezTo>
                    <a:pt x="6" y="6"/>
                    <a:pt x="27" y="0"/>
                    <a:pt x="36" y="1"/>
                  </a:cubicBezTo>
                  <a:cubicBezTo>
                    <a:pt x="45" y="2"/>
                    <a:pt x="50" y="12"/>
                    <a:pt x="54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0000" y="210996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80000" y="21700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0000" y="224640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80000" y="2319480"/>
              <a:ext cx="326880" cy="4932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80000" y="2392560"/>
              <a:ext cx="326880" cy="48960"/>
            </a:xfrm>
            <a:custGeom>
              <a:avLst/>
              <a:gdLst/>
              <a:ahLst/>
              <a:rect l="l" t="t" r="r" b="b"/>
              <a:pathLst>
                <a:path w="206" h="31">
                  <a:moveTo>
                    <a:pt x="0" y="31"/>
                  </a:moveTo>
                  <a:cubicBezTo>
                    <a:pt x="9" y="30"/>
                    <a:pt x="39" y="29"/>
                    <a:pt x="54" y="27"/>
                  </a:cubicBezTo>
                  <a:cubicBezTo>
                    <a:pt x="69" y="25"/>
                    <a:pt x="79" y="23"/>
                    <a:pt x="92" y="19"/>
                  </a:cubicBezTo>
                  <a:cubicBezTo>
                    <a:pt x="105" y="15"/>
                    <a:pt x="115" y="2"/>
                    <a:pt x="134" y="1"/>
                  </a:cubicBezTo>
                  <a:cubicBezTo>
                    <a:pt x="153" y="0"/>
                    <a:pt x="194" y="9"/>
                    <a:pt x="206" y="11"/>
                  </a:cubicBezTo>
                </a:path>
              </a:pathLst>
            </a:custGeom>
            <a:noFill/>
            <a:ln w="28440">
              <a:solidFill>
                <a:srgbClr val="0000ff">
                  <a:alpha val="7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11560" y="2125800"/>
              <a:ext cx="152640" cy="33480"/>
            </a:xfrm>
            <a:custGeom>
              <a:avLst/>
              <a:gdLst/>
              <a:ahLst/>
              <a:rect l="l" t="t" r="r" b="b"/>
              <a:pathLst>
                <a:path w="96" h="21">
                  <a:moveTo>
                    <a:pt x="96" y="21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1560" y="2190960"/>
              <a:ext cx="150840" cy="28440"/>
            </a:xfrm>
            <a:custGeom>
              <a:avLst/>
              <a:gdLst/>
              <a:ahLst/>
              <a:rect l="l" t="t" r="r" b="b"/>
              <a:pathLst>
                <a:path w="95" h="18">
                  <a:moveTo>
                    <a:pt x="95" y="1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03640" y="2266920"/>
              <a:ext cx="158760" cy="22320"/>
            </a:xfrm>
            <a:custGeom>
              <a:avLst/>
              <a:gdLst/>
              <a:ahLst/>
              <a:rect l="l" t="t" r="r" b="b"/>
              <a:pathLst>
                <a:path w="100" h="14">
                  <a:moveTo>
                    <a:pt x="100" y="14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00760" y="2336760"/>
              <a:ext cx="161640" cy="16200"/>
            </a:xfrm>
            <a:custGeom>
              <a:avLst/>
              <a:gdLst/>
              <a:ahLst/>
              <a:rect l="l" t="t" r="r" b="b"/>
              <a:pathLst>
                <a:path w="102" h="10">
                  <a:moveTo>
                    <a:pt x="102" y="1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00760" y="2413080"/>
              <a:ext cx="17280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9" y="8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99ccff">
                  <a:alpha val="71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49880" y="2171880"/>
              <a:ext cx="112680" cy="19080"/>
            </a:xfrm>
            <a:custGeom>
              <a:avLst/>
              <a:gdLst/>
              <a:ahLst/>
              <a:rect l="l" t="t" r="r" b="b"/>
              <a:pathLst>
                <a:path w="71" h="12">
                  <a:moveTo>
                    <a:pt x="0" y="0"/>
                  </a:moveTo>
                  <a:lnTo>
                    <a:pt x="71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53120" y="2233800"/>
              <a:ext cx="114120" cy="14400"/>
            </a:xfrm>
            <a:custGeom>
              <a:avLst/>
              <a:gdLst/>
              <a:ahLst/>
              <a:rect l="l" t="t" r="r" b="b"/>
              <a:pathLst>
                <a:path w="72" h="9">
                  <a:moveTo>
                    <a:pt x="0" y="0"/>
                  </a:moveTo>
                  <a:lnTo>
                    <a:pt x="72" y="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53120" y="2301840"/>
              <a:ext cx="1191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48440" y="236232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53120" y="2433600"/>
              <a:ext cx="12384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0" y="0"/>
                  </a:moveTo>
                  <a:lnTo>
                    <a:pt x="78" y="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975120" y="316080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584880" y="4724280"/>
            <a:ext cx="19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iled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344">
                <a:moveTo>
                  <a:pt x="0" y="0"/>
                </a:moveTo>
                <a:cubicBezTo>
                  <a:pt x="352" y="48"/>
                  <a:pt x="704" y="96"/>
                  <a:pt x="768" y="288"/>
                </a:cubicBezTo>
                <a:cubicBezTo>
                  <a:pt x="832" y="480"/>
                  <a:pt x="392" y="976"/>
                  <a:pt x="384" y="1152"/>
                </a:cubicBezTo>
                <a:cubicBezTo>
                  <a:pt x="376" y="1328"/>
                  <a:pt x="548" y="1336"/>
                  <a:pt x="720" y="13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69760" y="2057400"/>
            <a:ext cx="18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3695760"/>
            <a:ext cx="3886200" cy="1257120"/>
          </a:xfrm>
          <a:custGeom>
            <a:avLst/>
            <a:gdLst/>
            <a:ahLst/>
            <a:rect l="l" t="t" r="r" b="b"/>
            <a:pathLst>
              <a:path w="2448" h="792">
                <a:moveTo>
                  <a:pt x="0" y="168"/>
                </a:moveTo>
                <a:cubicBezTo>
                  <a:pt x="320" y="84"/>
                  <a:pt x="640" y="0"/>
                  <a:pt x="912" y="72"/>
                </a:cubicBezTo>
                <a:cubicBezTo>
                  <a:pt x="1184" y="144"/>
                  <a:pt x="1376" y="480"/>
                  <a:pt x="1632" y="600"/>
                </a:cubicBezTo>
                <a:cubicBezTo>
                  <a:pt x="1888" y="720"/>
                  <a:pt x="2352" y="688"/>
                  <a:pt x="2448" y="7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2666880"/>
            <a:ext cx="1904760" cy="1295640"/>
          </a:xfrm>
          <a:custGeom>
            <a:avLst/>
            <a:gdLst/>
            <a:ahLst/>
            <a:rect l="l" t="t" r="r" b="b"/>
            <a:pathLst>
              <a:path w="1200" h="816">
                <a:moveTo>
                  <a:pt x="0" y="816"/>
                </a:moveTo>
                <a:cubicBezTo>
                  <a:pt x="156" y="768"/>
                  <a:pt x="312" y="720"/>
                  <a:pt x="336" y="624"/>
                </a:cubicBezTo>
                <a:cubicBezTo>
                  <a:pt x="360" y="528"/>
                  <a:pt x="0" y="344"/>
                  <a:pt x="144" y="240"/>
                </a:cubicBezTo>
                <a:cubicBezTo>
                  <a:pt x="288" y="136"/>
                  <a:pt x="744" y="68"/>
                  <a:pt x="12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039-0E5B-4071-8278-B34A6F97AE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828800"/>
            <a:ext cx="7086600" cy="243828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Build/Publish option to create an installation file for your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it to a new computer and tes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uninstall o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5FD-1F38-483A-8ECC-07D79F519D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600200"/>
            <a:ext cx="655344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ew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it Templat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the BackColor to Window (wh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logo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form ti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Close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MessageLabel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523-EEF9-4B1F-A29C-A5DFC41D5A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5943600" cy="4674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mplate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04812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895480"/>
            <a:ext cx="83808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2743200"/>
            <a:ext cx="762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191120"/>
            <a:ext cx="182880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6BF-66EC-45BE-8831-81A95D9771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600200"/>
            <a:ext cx="655344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he Templat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te a new form and name it Custome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ecessary, create a new Customer dataset in the Data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Customer table to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the Menu to open Custome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2E5-D086-43A4-BD37-F6639BCEA3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ustomer Form from Templ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686480" cy="387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B86-3032-4143-9BE1-3BDE55D9A8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172200" cy="464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reating a Switchboard For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523880"/>
            <a:ext cx="18288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image with Picture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648320"/>
            <a:ext cx="26668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forms and submenus with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29000" y="3885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581280"/>
            <a:ext cx="129528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report link with Link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2096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2209680"/>
            <a:ext cx="4572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34286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2133360" y="25905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9AE-D53B-46A1-B3BE-C5D7ADE6AA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600200"/>
            <a:ext cx="6553440" cy="4191120"/>
          </a:xfrm>
          <a:prstGeom prst="rect">
            <a:avLst/>
          </a:prstGeom>
          <a:gradFill rotWithShape="0">
            <a:gsLst>
              <a:gs pos="0">
                <a:srgbClr val="d1d1d1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 image or logo to the menu form (try clip 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nge the form butt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LinkLabel to open a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VisitLink subroutine to your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 the code to call the VisitLink with the appropriate URL to open the desire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e and test the li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60E-D5B3-4F0B-84DE-F64503EDF3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pen SQL Reports from For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600200"/>
            <a:ext cx="8229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isitLink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nk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inkLabel,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RL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t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' Change the color of the link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nk.LinkVisited =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' Call the Process.Start method to open the default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.Diagnostics.Process.Start(sU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Priv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nkCustomerSalesReport_LinkClicked(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nder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stem.Object,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stem.Windows.Forms.LinkLabelLinkClickedEventArgs)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and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lnkCustomerSalesReport.LinkClic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Link(sender,  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http://localhost/Reports/Pages/Report.aspx?ItemPath=/Reports06/CustomerSales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Box.Show("Unable to open the report.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465120"/>
                <a:tab algn="l" pos="681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BEE-9E8C-40F9-BABA-5E83D63A63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22:44:22Z</dcterms:created>
  <dc:creator>Jerry Post</dc:creator>
  <dc:description/>
  <dc:language>en-US</dc:language>
  <cp:lastModifiedBy>Jerry Post</cp:lastModifiedBy>
  <dcterms:modified xsi:type="dcterms:W3CDTF">2007-01-12T22:48:18Z</dcterms:modified>
  <cp:revision>120</cp:revision>
  <dc:subject/>
  <dc:title>All Powder Board and Ski</dc:title>
</cp:coreProperties>
</file>