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BE8-7732-4795-9533-F4ECB950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303-BF57-44C8-B9BA-879495D9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CE7-6595-46D6-BCB8-CBB0D399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F32-B7A2-43C2-A601-1F85D4F1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2D55-085F-4257-8132-C62836CF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7CA4-B8AB-4EA2-B6CF-81D046E0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B831-08DE-4FBF-B192-C5A9B2BE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7E59-3A03-4472-AA01-9A87F6D8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C4A5-FC16-4FDA-9F24-0833A68F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1829-B11D-4627-BF3D-1418D53D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44A6-D619-45C3-AA93-2620FDE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961-910E-4ED8-A2B7-30C4BE3D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5883-E877-492D-BF02-7A96D798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6F49-8D49-45EB-A9B1-64F36EF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9F30-E1FE-4F38-8A3A-5C04D945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3212-2669-4546-A2CF-F8029AE0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369B-18B9-439A-958E-BEDFD42B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898-D32B-4BC2-A4A1-FCCAEA1B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4C1-794F-4345-92E7-C7B1B62D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9420-CF50-4DD2-9332-88CF7A7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E06-504B-4CBB-894E-B2F5E7F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812-FEBC-4B52-A4E8-E4EED20F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354-FF13-4A8B-AB76-C1DC285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6AF-FABC-455B-84A1-72FEAF79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68B2-C7AD-4D80-AF10-AA25E1CD0D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F036-C04A-4A67-9CB9-14BF5BC5B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sdnaa.net/" TargetMode="External"/><Relationship Id="rId2" Type="http://schemas.openxmlformats.org/officeDocument/2006/relationships/hyperlink" Target="http://www.msdnaa.net/" TargetMode="External"/><Relationship Id="rId3" Type="http://schemas.openxmlformats.org/officeDocument/2006/relationships/hyperlink" Target="http://msdn.microsoft.com/" TargetMode="External"/><Relationship Id="rId4" Type="http://schemas.openxmlformats.org/officeDocument/2006/relationships/hyperlink" Target="http://msdn.microsoft.com/" TargetMode="External"/><Relationship Id="rId5" Type="http://schemas.openxmlformats.org/officeDocument/2006/relationships/hyperlink" Target="http://www.microsoft.com/sql" TargetMode="External"/><Relationship Id="rId6" Type="http://schemas.openxmlformats.org/officeDocument/2006/relationships/hyperlink" Target="http://www.microsoft.com/sq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Server 2005 Work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©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BM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Academic Al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/www.msdnaa.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Developers N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8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msdn.microsoft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SQL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www.microsoft.com/sq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Server Management Studi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724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3341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752480"/>
            <a:ext cx="5562360" cy="32767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SQL Server Management 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the SQL Server Group and log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database assigned to you, or create it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on Tables, select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column names and da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CustomerID 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the Identity value to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key icon in the main toolb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he form and name the table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QL Create Tab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196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2133720"/>
            <a:ext cx="4343400" cy="17524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 click the table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pen Table/Return all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sampl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Add Dat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4390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1676520"/>
            <a:ext cx="6705720" cy="38098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Visual Studio and select File/New Project to choose a VB Windows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Data/Add New Data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New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Microsoft SQL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he server name, and use your SQL Server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the box to save your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your database and test the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option to include sensitiv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the Table list and select the Customer table with a check m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 Design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676520"/>
            <a:ext cx="6705360" cy="25146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the Data Sources window and click the Refresh but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Customer table and click the drop-down arr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layout to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the Customer table onto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Debug button to run the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ento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7925040" cy="4491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ven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owbo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re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fg 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phic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st Pric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l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sk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ss country-tr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esty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60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wnhill/r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actice: Create a Simpl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2464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oots and Bindin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362320"/>
            <a:ext cx="731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ot-Binding Compat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uf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fg.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oard/Sk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nding/Sty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l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17400"/>
                <a:tab algn="l" pos="1246320"/>
                <a:tab algn="l" pos="1989000"/>
                <a:tab algn="l" pos="2560680"/>
                <a:tab algn="l" pos="2903400"/>
                <a:tab algn="l" pos="330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76720" y="3200400"/>
          <a:ext cx="1752480" cy="158436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23960"/>
                          <a:tab algn="l" pos="1752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1600200"/>
          <a:ext cx="7925040" cy="4329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a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per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50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/Us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nt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1600200"/>
          <a:ext cx="7925040" cy="443700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23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Renta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sto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tal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cted Retu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-Ma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r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ipping 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, State  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/Fema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/Bo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/Date of Bir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y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ill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388800"/>
                          <a:tab algn="l" pos="1131840"/>
                          <a:tab algn="l" pos="1589040"/>
                          <a:tab algn="l" pos="2046240"/>
                          <a:tab algn="l" pos="2846520"/>
                          <a:tab algn="l" pos="3532320"/>
                          <a:tab algn="l" pos="4167360"/>
                          <a:tab algn="l" pos="5433840"/>
                          <a:tab algn="l" pos="668196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Da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D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ed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r" pos="31320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od of Pay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Struc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7924320" cy="4419000"/>
        </p:xfrm>
        <a:graphic>
          <a:graphicData uri="http://schemas.openxmlformats.org/drawingml/2006/table">
            <a:tbl>
              <a:tblPr/>
              <a:tblGrid>
                <a:gridCol w="7924320"/>
              </a:tblGrid>
              <a:tr h="44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Title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Sales System for Boards and Sk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ustomer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All Powder Board and Ski Sho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Contact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Ka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oal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oject Description: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Form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Primary Reports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ead Develop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Time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stimated Development Cos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ate Prepared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ject Pla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00200"/>
          <a:ext cx="7925040" cy="4489560"/>
        </p:xfrm>
        <a:graphic>
          <a:graphicData uri="http://schemas.openxmlformats.org/drawingml/2006/table">
            <a:tbl>
              <a:tblPr/>
              <a:tblGrid>
                <a:gridCol w="7925040"/>
              </a:tblGrid>
              <a:tr h="45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the project and obtain approval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nalyze the user needs and identify all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Desig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termine the tables and relationship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he tables and load basic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queries needed for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Build forms and repor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transaction element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fine security and access control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Additional Featu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reate data warehouse to analyze data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andle distributed database elements as needed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Implemen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Convert and load dat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Train user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0000"/>
                        <a:buFont typeface="Century Schoolbook"/>
                        <a:buAutoNum type="alphaL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Load testing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80000"/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System review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5040" cy="401940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nual discoun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life/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e-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BMS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easibility-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1346040"/>
          <a:ext cx="7925040" cy="5359320"/>
        </p:xfrm>
        <a:graphic>
          <a:graphicData uri="http://schemas.openxmlformats.org/drawingml/2006/table">
            <a:tbl>
              <a:tblPr/>
              <a:tblGrid>
                <a:gridCol w="3191040"/>
                <a:gridCol w="982440"/>
                <a:gridCol w="2332080"/>
                <a:gridCol w="1419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grades/an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l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e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 Savin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ter inventory contr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wer cle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g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ased s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Present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18:01Z</dcterms:modified>
  <cp:revision>14</cp:revision>
  <dc:subject/>
  <dc:title>All Powder Board and Ski</dc:title>
</cp:coreProperties>
</file>