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8703-50BA-4818-8973-4C4E7027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F3D3-8FFE-46F9-A5AF-A544223D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32D2-5A20-4EFD-8F69-0B044856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C2C2-B7E0-4F9A-8621-B791E106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3D92-D354-4CB6-A620-09E1333D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4E49-E90C-46F4-BEB2-D4763069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561C-5B05-471D-91C5-C09D8E1C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E5F0-19CD-456B-BD6E-0D63BE10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4B1B-60FE-4BF1-9AFA-F5BEFC1E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C5D2-99DC-4F54-9CA8-44718738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6B6D-6EDA-4C64-9CF1-6F7130CC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0143-19F1-4B4B-ADF4-BADCE395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4DCD-1F80-4615-B277-082FD2CF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D755-01C0-4FC5-8EC4-42FFF54F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2A9D-A496-4BC2-A09D-0BE3997D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22C3-338C-4F88-ABA0-7C300BEC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C628-B29A-40BE-9129-7AA050DB6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1DB1-D2A0-425F-8A2C-2841BD25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E1C0-740E-4A4F-9E36-B5DFF579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5C0A-A453-4C24-A9E6-6A558707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0FCD-AC7A-4E8F-8A1B-E90134A0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CC86-E47A-4A03-9360-BF93F2AD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27E4-3B63-41C0-A7B8-A32E01C4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D538-7F78-4854-B726-78FD25FF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D2E4-62A5-4C5C-B84C-1EA8E5C333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461A-35B1-4AAC-9A2C-5DE8EF26F6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 Server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5: Advanced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B84D-78B6-442A-9FBF-11FE948329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2209680"/>
            <a:ext cx="6553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LastName, FirstName, Sales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Customer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WHERE SalesValue 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(SELECT Avg(SalesValue) FROM CustomerS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ORDER BY SalesValue DE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DD8F-1E19-4CDD-8ECC-ACBC013CCC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NER JOIN: Sales and Rent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172120" cy="45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A36A-E34F-4023-BB02-410EE09B9F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36232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RentDate, Rental.CustomerID, Sale.CustomerID, 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Ren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NNER JOIN Sale ON Rental.CustomerID=Sale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E808-232E-431A-A57C-C191908DF3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1676520"/>
            <a:ext cx="7696440" cy="3886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s: Rental and S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RentDate, SaleDate, and CustomerID from both 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 the tables on Customer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join between the tables on Rental.CustomerID=Sale.Custome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39A7-425D-49E5-997B-22C0FD2225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05160" cy="45054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ft Join: Sales + Rent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604960"/>
            <a:ext cx="37339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 Join Sale+Customer to 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3429000" y="237636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4886280"/>
            <a:ext cx="2438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without ren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572000" y="404820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2000" y="427644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572000" y="3742920"/>
            <a:ext cx="1447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5B9B-F5CA-459F-AE87-41BEF1273F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1905120"/>
            <a:ext cx="7696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LastName, FirstName, Sale.CustomerID, Rental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(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NNER JOIN Sale ON Customer.CustomerID=Sale.Custom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LEFT JOIN Rental ON Sale.CustomerID=Rental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2939-539B-42E6-9C18-FF19E4A352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1752480"/>
            <a:ext cx="7848720" cy="38102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(Customer INNER JOIN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Customer.CustomerID=Sale.Customer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FT JOIN Rental ON Sale.CustomerID = Rental.Customer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LastName, FirstName, and CustomerID from Sale and R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85F6-69F0-4F36-B93E-75F0D92423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nner Join: Same Customer and Da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519960" cy="35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3379-F98B-4F2F-86FE-7A349683D2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981080"/>
            <a:ext cx="7543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RentDate, Rental.CustomerID, Sale.CustomerID, 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NNER JOIN S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ON (Rental.CustomerID=Sale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Rental.RentDate=Sale.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186D-77DB-4BB1-A179-1F91EB1B9F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752480"/>
            <a:ext cx="8001000" cy="30481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s: Customer and S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LastName, FirstName, and Customer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CustomerID Not In (SELECT CustomerID FROM Rent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C8DA-F992-4564-818F-6C496D83C6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mary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71560" y="1828800"/>
            <a:ext cx="7399440" cy="396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5976-5786-4E2D-B022-8142731C0D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162400" cy="45054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OT I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91120" y="3429000"/>
            <a:ext cx="26668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query to list those who did NOT 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181480" y="25146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6018-ADCC-4173-9B16-C62E5B43A5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1981080"/>
            <a:ext cx="76197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LastName, FirstNAme, Customer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NNER JOIN Sale ON Customer.CustomerID=Sale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WHERE Customer.CustomerID NO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(SELECT CustomerID FROM Ren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ORDER BY LastName, 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8098-27F4-4F84-AB60-BE591A31CC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1371600"/>
            <a:ext cx="7696080" cy="46483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: Inven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ModelID and Sum(QuantityOnHa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 by the Sum desce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it as ModelsOnH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table: SalesCateg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CategoryID, CategoryName, LowLimit, HighLim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data from Figure 5.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E7A5-96F8-4F17-841F-3024561936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l Quantity On Han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143320" cy="453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6841-E5F1-4335-A183-C648647405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2489040"/>
            <a:ext cx="5562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VIEW ModelsOnHan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ModelID, Sum(QuantityOnHand) As Q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GROUP BY Mode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ORDER BY Sum(QuantityOnHand) DE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F080-3A35-445B-8918-061A6BEABB3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teg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48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9E58-E72E-48B3-A475-E762ECA73D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: Create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175248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CREATE TABLE Sales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( CategoryID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NOT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CategoryName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nvarchar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LowLimit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lo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HighLimit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lo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CONSTRAINT pk_SalesCategory PRIMARY KEY (Category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A7E0-C653-4E67-9C92-3900D965B03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905120"/>
            <a:ext cx="830592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Arial"/>
              </a:rPr>
              <a:t>INSERT INTO SalesCategory (CategoryID, CategoryName, LowLimit, HighLimi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Arial"/>
              </a:rPr>
              <a:t>VALUES (1, 'Hot',0, 6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Arial"/>
              </a:rPr>
              <a:t>INSERT INTO SalesCategory (CategoryID, CategoryName, LowLimit, HighLimi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Arial"/>
              </a:rPr>
              <a:t>VALUES (2, 'Good', 6, 10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Arial"/>
              </a:rPr>
              <a:t>INSERT INTO SalesCategory (CategoryID, CategoryName, LowLimit, HighLimi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Arial"/>
              </a:rPr>
              <a:t>VALUES (3, 'OK', 10, 20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Arial"/>
              </a:rPr>
              <a:t>INSERT INTO SalesCategory (CategoryID, CategoryName, LowLimit, HighLimi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Arial"/>
              </a:rPr>
              <a:t>VALUES (4, 'Weak', 20, 40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Arial"/>
              </a:rPr>
              <a:t>INSERT INTO SalesCategory (CategoryID, CategoryName, LowLimit, HighLimi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Arial"/>
              </a:rPr>
              <a:t>VALUES (5, 'Slow', 40, 1000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DC8B-8024-4241-A998-B17F0F564DD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1828800"/>
            <a:ext cx="6172200" cy="32004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ModelID, SumOfQuantityOnHand, CategoryID, and Category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s: ModelsOnHand and SalesCateg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inequality jo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BD0E-C870-412E-803F-BA431D08FA3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4991040" cy="44863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equality Joi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952880" y="3124080"/>
            <a:ext cx="24386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quality (theta) joins assign the proper categor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4038480" y="25909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342900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C287-D45C-42EC-90EE-B669B512EFF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d Best Customers: 1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0280" y="579132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sales by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695840" cy="450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F16A-0B30-4438-B15B-218D5D988B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2008080"/>
            <a:ext cx="74674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ModelID, QOH, SalesCategory.CategoryID, Category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Models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NNER JOIN Sales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ON (ModelsOnHand.QOH &gt;= SalesCategory.LowLim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(ModelsOnHand.QOH &lt; SalesCategory.HighLim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D19F-DBA7-4030-8EFB-DF578739308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4257720" cy="32004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s Categ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505320"/>
            <a:ext cx="213372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number of models in each sales 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4419720" y="2514600"/>
            <a:ext cx="7617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571640" y="38098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385B-38E3-4E8B-A1C2-A0E86556D2C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752480"/>
            <a:ext cx="60958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SalesCategory.CategoryID, CategoryNa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Count(ModelID) As Count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ModelsOn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NNER JOIN Sales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ON (ModelsOnHand.QOH &gt;= SalesCategory.LowLim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(ModelsOnHand.QOH &lt; SalesCategory.HighLim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GROUP BY SalesCategory.CategoryID, Category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C8CD-AFD6-4798-BCE2-18ED4DC7049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1600200"/>
            <a:ext cx="7391160" cy="44956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CustomerID, LastName, FirstName, and Sale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s: Customer and S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January sale date in 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the entire sta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word Un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te the SELECT statement and change the date condition and name to M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D207-2522-41AC-B151-9CBACD5688A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523880" y="1571760"/>
            <a:ext cx="5524560" cy="44481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ION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05520" y="3429000"/>
            <a:ext cx="2590560" cy="2157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customers who bought items in January or in M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e: it could be done with simple conditions, but it is good practice for UN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4266720" y="3962160"/>
            <a:ext cx="838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266720" y="4191120"/>
            <a:ext cx="8384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0860-B2CF-44A1-A534-4D4137F0BA5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1676520"/>
            <a:ext cx="80769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Customer.CustomerID, LastName, FirstName, 'Jan' As Sale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NNER JOIN Sale ON Customer.CustomerID=Sale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WHERE SaleDate Between '01-Jan-2006' AND '31-Jan-2006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Customer.CustomerID, LastName, FirstName, 'Mar' As Sale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NNER JOIN Sale ON Customer.CustomerID=Sale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WHERE SaleDate Between '01-Mar-2006' AND '31-Mar-2006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C6B6-642D-450B-A661-F0D132DBBA7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1905120"/>
            <a:ext cx="5257800" cy="21333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CREATE TABL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381B-D447-4A95-A0CE-D70ECDD1CA9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TABLE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75248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25)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25)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 (15)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 (120)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pk_Contacts PRIMARY KEY (ContactID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fk_ContactsManufacturer FOREIGN KEY (Manufactur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 Manufacturer(Manufacture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DELETE CASC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04640"/>
                <a:tab algn="l" pos="193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0CBA-CD74-47CD-A848-443CD519313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a Temporary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1905120"/>
            <a:ext cx="5639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MyTe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pk_MyTemp PRIMARY KEY (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2437-DFA2-4D7E-8970-194EFB013F0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1828800"/>
            <a:ext cx="7239240" cy="25909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the INSERT command: INSERT INTO Customer (CustomerID, LastName, FirstName, City, Gender) VALUES (4000, 'Jones', 'Jack', 'Nowhere', 'Male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956E-4973-4DF3-880F-92C957E4636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1676520"/>
            <a:ext cx="7162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Customer.CustomerID, LastName, FirstNa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Sum(QuantitySold*SalePrice) As Sales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NNER JOIN Sale ON Customer.CustomerID=Sale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INNER JOIN SaleItem ON Sale.SaleID=SaleItem.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GROUP BY Customer.CustomerID, LastName, 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3183-151B-454D-94A4-375F9326EA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ERT INTO (One Row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1981080"/>
            <a:ext cx="7924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Customer (CustomerID, LastName, FirstName, City, G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S (4000, 'Jones', 'Jack', 'Nowhere', 'Male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93920" y="4303800"/>
            <a:ext cx="52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b 7 shows how to create sequences so CustomerID is generated automat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932E-FE75-4E01-9F7B-F0BC9A52838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ERT INTO (Copy Rows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1981080"/>
            <a:ext cx="51814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NTO MyTemp (ID, LName, F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ustomerID, LastName, 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ity='Sacramento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6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6C5B-53EA-466F-A12A-0C266EF94BA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523880"/>
            <a:ext cx="7238880" cy="4572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Category, ModelYear, and Round(Cost*1.04,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: Item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eria: Category=’Board’ And ModelYear=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the first two lin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Item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Cost = Round(Cost*1.04,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95F9-5829-467E-AB18-FC292320E72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4295880" cy="44956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PDATE Board Co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1905120"/>
            <a:ext cx="190512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query to see new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it before running second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571640" y="22096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D385-543C-4BF5-BDBC-67F30EDA85A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1905120"/>
            <a:ext cx="68580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Category, ModelYear, Round(Cost*1.04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WHERE Category='Board' AND ModelYear=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-- run the top query first, then edit it to m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UPDATE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T Cost=Round(Cost*1.04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WHERE Category='Board' AND ModelYear=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EC99-FFBE-4EE4-8BA5-BA26C095977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1676520"/>
            <a:ext cx="6629400" cy="41148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SELECT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ID, LName, F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: MyTem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eria: ID&gt;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the SELECT row to DELE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a commit; comm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635D-61D1-4F14-86D9-FAE2F407CEA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585800" y="1447920"/>
            <a:ext cx="572940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LETE Row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33720"/>
            <a:ext cx="28191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write a SELECT query to see the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19720" y="3048120"/>
            <a:ext cx="28191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change the SELECT row to 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0509-FA4F-46D4-A037-4A6043B6655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ROP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52280" y="201780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 TABLE My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32B8-D314-4F1D-994B-C9D623FFAFD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1828800"/>
            <a:ext cx="6324480" cy="29718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Category, Sum(RentF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s: Rental, RentItem, Inventory, and Item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BY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A9FE-CF5C-41D6-8697-C6BD964D2CA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 Paramet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1676520"/>
            <a:ext cx="8076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ategory, Sum(RentFee) AS SumOfRentF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Rental INNER JOIN RentI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Rental.RentID=RentItem.R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JOIN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RentItem.SKU=Inventory.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JOIN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Inventory.ModelID=ItemModel.Mode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RentDate Between '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-Jan-200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 And '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-Mar-200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Catego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2240" y="4379760"/>
            <a:ext cx="50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ed to replace fixed dates with parameters that can be entered by a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6D4D-F701-47D6-B126-CEEFC7311E5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1600200"/>
            <a:ext cx="6248520" cy="39625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s: Customer, Sale, SaleI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CustomerID, LastName, FirstName, Sum(QuantitySold*SalePrice) AS Sales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By the other colum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as a view CustomerS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: CustomerSales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vg(SalesValue)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2F89-ADBF-4971-985E-961F46CA86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1676520"/>
            <a:ext cx="7543800" cy="3886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stored proce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the new proce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the dates to Oct-D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BB48-B6A9-4D9B-B3B2-3A454C78A19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 Parameters: Proced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1701720"/>
            <a:ext cx="7391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PROCEDURE GetCategory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Start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eti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End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e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Category, Sum(RentFee) AS SumOfRentF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Rental INNER JOIN RentI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Rental.RentID=RentItem.R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JOIN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RentItem.SKU=Inventory.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JOIN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Inventory.ModelID=ItemModel.Mode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RentDate Betwe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Start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End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23C9-34AC-4933-A7F0-5CE8B1F9652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590840" y="1552680"/>
            <a:ext cx="5962320" cy="34765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 Paramet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2514600"/>
            <a:ext cx="3352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: specify in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pecify b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4419360" y="19051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05520" y="205740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1161-7B4B-476C-8587-2440A0234FB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2627280"/>
            <a:ext cx="784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--EXECUTE GetCategoryFees '01-Jan-2006', '31-Mar-2006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EXECUTE GetCategoryFees @StartDate='01-Jan-2006'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@EndDate='31-Mar-2006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E5C7-4489-40DF-8289-B99D17E12AC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erage Customer 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685960" y="1890720"/>
            <a:ext cx="3772080" cy="30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833C-A03C-4091-B889-5D0E6ED257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981080"/>
            <a:ext cx="457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Avg(SalesValue) As AvgOfSales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CustomerS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CC93-3F26-480D-B7A2-68192E0C96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905120"/>
            <a:ext cx="6933960" cy="327636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: CustomerSales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umns: LastName, FirstName, Sales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eria for SalesVal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(SELECT Avg(SalesValue) FROM CustomerSa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7350-CD1D-4F55-AAD7-B7F10BDA6D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3990960" cy="45910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est Custom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2666880"/>
            <a:ext cx="1295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4876560" y="22860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BF49-547D-47B7-A522-8251682BA9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01-12T22:33:33Z</dcterms:modified>
  <cp:revision>53</cp:revision>
  <dc:subject/>
  <dc:title>All Powder Board and Ski</dc:title>
</cp:coreProperties>
</file>