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BA1-A35B-4A8C-8D72-001E24A2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2AD-F218-4B58-8C16-813BBF6A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B5C7-022D-4BD6-8300-A877B2F5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993-4DD7-4EB7-8574-43D69699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EA11-02C4-48A5-A3B1-1B9EE4AB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D885-2AF6-49DE-8ED7-9F383F18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7382-F37F-4360-AF22-7C44E3CD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86D2-0401-4556-8DD4-7E829D1B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04C6-CF9D-4BF4-8469-5E54FF2E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7FA2-031F-4957-A907-5C431F0B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E41D-E9DD-40BE-BC13-018258CF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8182-9F7D-426A-9081-B3E6D3DB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43E1-B0F0-444A-8BE4-CD78C73F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937E-826D-47C1-A918-5CF80385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EB47-97BC-4173-9A8A-B9ABD0D1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D89B-B01B-4273-80EA-70C2F9EA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F57E-3D2C-4930-9C76-C388B601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9AA-B440-4797-A3A2-19265ADD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B455-F864-421A-AD45-92462CE3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1B8D-9399-4104-B4AD-BC09E338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230E-8B4C-49B0-B3E7-63ED9584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1CFD-9163-42B6-BE63-BFC75F2B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51A6-5E07-4681-983F-AE455E0E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287B-972A-43CE-852C-FAA251A3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6551-4243-402C-97B0-BA50A1147F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0EFE-75AC-4E9F-AFC2-85761884FF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F808-CAE0-4A68-8CB7-AA729E55EB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 Server 2008/2005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9: Data Warehouses and Data 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2485-4547-4728-BC03-852611E459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e New/Temp Sales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533520" y="1752480"/>
            <a:ext cx="3429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TABLE Old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Sale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ti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Z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ment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ySo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e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2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Siz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facturer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4495680" y="2590920"/>
            <a:ext cx="3581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Ye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Materi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e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ll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stWid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ding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SV Column Data Typ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FD35-18E8-4018-8234-AE18B3C1FE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133720" y="1295280"/>
            <a:ext cx="601956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I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(DT_I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 timestamp (DT_TIMESTAM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Z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ment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tySo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(DT_I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e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cy (DT_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250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(DT_R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facturer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(DT_I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Ye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(DT_I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Materi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cy (DT_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ll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(DT_I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(DT_R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stWid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(DT_R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ding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ode string (DT_WST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tegration Services Proje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314C-E25D-4460-BE75-19E7930EC5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286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D005-2DB5-4A03-A6B7-19F5EE5ADA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Customer and Employe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838080" y="1636560"/>
            <a:ext cx="763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 and EmployeeID are missing from the old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f relying on blank cell values, create a new customer called “Walk-in” and a new employee called “Employe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down the ID numbers generated for these anonymous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use SQL, you can assign a value of zero to these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838080" y="3429000"/>
            <a:ext cx="5715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Customer (CustomerID, Last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0,'Walk-in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838080" y="4343400"/>
            <a:ext cx="5791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Employee (EmployeeID, Last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0,'Staff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17B8-72C9-4631-9DDC-7964375954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tract Model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08720" cy="29527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1143000" y="4495680"/>
            <a:ext cx="7010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DISTINCT OldSale.ModelID, OldSale.ManufacturerID, OldSale.Category, OldSale.Color, OldSale.ModelYear, OldSale.Graphics, OldSale.ItemMaterial,  OldSale.ListPrice, OldSale.Style, OldSale.SkillLevel, OldSale.WeightMax, OldSale.WaistWidth, OldSale.BindingSty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ldSa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9045-B83F-4B0E-941E-01AE6A5CCC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ION Query for Mod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85800" y="1828800"/>
            <a:ext cx="6324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ManufacturerID, Categor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ManufacturerID, Category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9113-000E-4F43-9A47-1518D12F39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762120" y="1523880"/>
            <a:ext cx="7391160" cy="44197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 that retrieves DISTINCT values from the saved UNION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that it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 INSERT INTO statement above the SELECT statement to copy the data to the ItemModel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similar process to add SKU, ModelID, and Size to the Inventory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 a similar process to copy the Sale, Rental, SalesItem, and RentalItems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3BEF-09EF-4B29-B7A4-417DF44868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sert Model Data into ItemMod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533520" y="20574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ItemModel (ModelID, ManufacturerID, Category, Color, ModelYe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ics, ItemMaterial, ListPrice, Style, SkillLevel, WeightMax, WaistWidth, BindingSty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qryOldModels.ModelID, qryOldModels.ManufacturerID, qryOldModels.Catego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ryOldModels.Color, qryOldModels.ModelYear, qryOldModels.Graphics, qryOldModels.ItemMateri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ryOldModels.ListPrice, qryOldModels.Style, qryOldModels.SkillLevel, qryOldModels.WeightMax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ryOldModels.WaistWidth, qryOldModels.BindingSty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qryOldMode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DC6D-4049-42CF-BA7D-2FCC0BBE32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SKU Data into 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685800" y="35686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Inventory (ModelID, SKU, ItemSize, QuantityOnH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qryOldInventory.ModelID, qryOldInventory.SKU, qryOldInventory.ItemSiz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As QuantityOnH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qryOldInvento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962520" y="5170320"/>
            <a:ext cx="32763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e use of the column alias to force a zero value for QuantityOnHand for each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 flipV="1">
            <a:off x="4114440" y="448416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85800" y="144792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qryOldInventory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SKU, Item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ModelID, SKU, Item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Rent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24BA-C9C8-4DE4-815C-E4A0C281E1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py Sales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33520" y="1600200"/>
            <a:ext cx="815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Sale (SaleID, SaleDate, ShipState, ShipZIP, PaymentMeth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DISTINCT OldSale.SaleID, OldSale.SaleDate, OldSale.ShipState, OldSale.ShipZIP, OldSale.Payment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ldSa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914400" y="3067200"/>
            <a:ext cx="32767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if you have added data to your Sales table, your existing SaleID values might conflict with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48320" y="3067200"/>
            <a:ext cx="32763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solve the problem by adding a number to these values so they are all larger than your highest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33520" y="4800600"/>
            <a:ext cx="815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INTO Sale (SaleID, SaleDate, ShipState, ShipZIP, PaymentMeth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DISTINCT OldSale.SaleI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50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OldSale.SaleDate, OldSale.ShipState, OldSale.ShipZIP, OldSale.Payment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ldSa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 flipV="1">
            <a:off x="990720" y="1523520"/>
            <a:ext cx="3581280" cy="1295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1752480" y="1447920"/>
            <a:ext cx="182880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DFE3-BA47-4532-8F14-5936376F59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 Server Relational Approac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24"/>
          <p:cNvGrpSpPr/>
          <p:nvPr/>
        </p:nvGrpSpPr>
        <p:grpSpPr>
          <a:xfrm>
            <a:off x="1219320" y="2973240"/>
            <a:ext cx="1371600" cy="1827000"/>
            <a:chOff x="1219320" y="2973240"/>
            <a:chExt cx="1371600" cy="1827000"/>
          </a:xfrm>
        </p:grpSpPr>
        <p:sp>
          <p:nvSpPr>
            <p:cNvPr id="97" name="Rectangle 5"/>
            <p:cNvSpPr/>
            <p:nvPr/>
          </p:nvSpPr>
          <p:spPr>
            <a:xfrm>
              <a:off x="1219320" y="2973240"/>
              <a:ext cx="1076760" cy="888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6"/>
            <p:cNvSpPr/>
            <p:nvPr/>
          </p:nvSpPr>
          <p:spPr>
            <a:xfrm>
              <a:off x="1278000" y="3268800"/>
              <a:ext cx="1076760" cy="888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7"/>
            <p:cNvSpPr/>
            <p:nvPr/>
          </p:nvSpPr>
          <p:spPr>
            <a:xfrm>
              <a:off x="1396080" y="3565440"/>
              <a:ext cx="1076760" cy="888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aleI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1514160" y="3911400"/>
              <a:ext cx="1076760" cy="888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13"/>
          <p:cNvSpPr/>
          <p:nvPr/>
        </p:nvSpPr>
        <p:spPr>
          <a:xfrm>
            <a:off x="1371600" y="1752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3"/>
          <p:cNvGrpSpPr/>
          <p:nvPr/>
        </p:nvGrpSpPr>
        <p:grpSpPr>
          <a:xfrm>
            <a:off x="4267080" y="2743200"/>
            <a:ext cx="3428640" cy="2436480"/>
            <a:chOff x="4267080" y="2743200"/>
            <a:chExt cx="3428640" cy="2436480"/>
          </a:xfrm>
        </p:grpSpPr>
        <p:sp>
          <p:nvSpPr>
            <p:cNvPr id="103" name="Rectangle 12"/>
            <p:cNvSpPr/>
            <p:nvPr/>
          </p:nvSpPr>
          <p:spPr>
            <a:xfrm>
              <a:off x="5464440" y="3623400"/>
              <a:ext cx="1020960" cy="675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ct Meas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5"/>
            <p:cNvSpPr/>
            <p:nvPr/>
          </p:nvSpPr>
          <p:spPr>
            <a:xfrm>
              <a:off x="6485760" y="2743200"/>
              <a:ext cx="1209960" cy="676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6"/>
            <p:cNvSpPr/>
            <p:nvPr/>
          </p:nvSpPr>
          <p:spPr>
            <a:xfrm>
              <a:off x="4267080" y="2743200"/>
              <a:ext cx="1209960" cy="676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7"/>
            <p:cNvSpPr/>
            <p:nvPr/>
          </p:nvSpPr>
          <p:spPr>
            <a:xfrm>
              <a:off x="4267080" y="4503960"/>
              <a:ext cx="1209960" cy="675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8"/>
            <p:cNvSpPr/>
            <p:nvPr/>
          </p:nvSpPr>
          <p:spPr>
            <a:xfrm>
              <a:off x="6485760" y="4503960"/>
              <a:ext cx="1209960" cy="675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im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AutoShape 19"/>
            <p:cNvCxnSpPr>
              <a:stCxn id="106" idx="0"/>
              <a:endCxn id="103" idx="1"/>
            </p:cNvCxnSpPr>
            <p:nvPr/>
          </p:nvCxnSpPr>
          <p:spPr>
            <a:xfrm flipV="1">
              <a:off x="4871520" y="3961440"/>
              <a:ext cx="592920" cy="54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9" name="AutoShape 20"/>
            <p:cNvCxnSpPr>
              <a:stCxn id="105" idx="2"/>
              <a:endCxn id="103" idx="1"/>
            </p:cNvCxnSpPr>
            <p:nvPr/>
          </p:nvCxnSpPr>
          <p:spPr>
            <a:xfrm>
              <a:off x="4871520" y="3419280"/>
              <a:ext cx="592920" cy="54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0" name="AutoShape 21"/>
            <p:cNvCxnSpPr>
              <a:stCxn id="104" idx="2"/>
              <a:endCxn id="103" idx="3"/>
            </p:cNvCxnSpPr>
            <p:nvPr/>
          </p:nvCxnSpPr>
          <p:spPr>
            <a:xfrm flipH="1">
              <a:off x="6485400" y="3419280"/>
              <a:ext cx="605520" cy="54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1" name="AutoShape 22"/>
            <p:cNvCxnSpPr>
              <a:stCxn id="107" idx="0"/>
              <a:endCxn id="103" idx="3"/>
            </p:cNvCxnSpPr>
            <p:nvPr/>
          </p:nvCxnSpPr>
          <p:spPr>
            <a:xfrm flipH="1" flipV="1">
              <a:off x="6485400" y="3961440"/>
              <a:ext cx="605520" cy="54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12" name="Text Box 25"/>
          <p:cNvSpPr/>
          <p:nvPr/>
        </p:nvSpPr>
        <p:spPr>
          <a:xfrm>
            <a:off x="5257800" y="1905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53341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AP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9"/>
          <p:cNvSpPr/>
          <p:nvPr/>
        </p:nvSpPr>
        <p:spPr>
          <a:xfrm flipV="1">
            <a:off x="2590920" y="327636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 flipV="1">
            <a:off x="2666880" y="3962160"/>
            <a:ext cx="1676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E522-7AC6-46F4-8758-257F08F12A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py SaleItem Ro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33520" y="2057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Item (SaleID, SKU, QuantitySold, Sale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Sale.Sale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5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ldSale.SKU, OldSale.QuantitySold, OldSale.SalePr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S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648320" y="3809880"/>
            <a:ext cx="327636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transformed the SaleID in the prior step for the Sale data, you must do the exact same calculation for SaleID in the SaleItem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 flipH="1" flipV="1">
            <a:off x="4876920" y="266652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B427-E370-40BD-A3CD-443AE0EA6F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py Rental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533520" y="1781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Rental (RentID, RentDate, ExpectedReturn, PaymentMeth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Rental.RentID+5000, OldRental.RentDate, OldRental.ExpectedReturn, OldRental.PaymentMeth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Rent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33520" y="38098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RentItem (RentID, SKU, RentFee, Return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ISTINCT OldRental.RentID+5000, OldRental.SKU, OldRental.RentFee, OldRental.Return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OldRent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5D38-5477-4DAD-AB9B-DE88A47F0F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143000" y="1676520"/>
            <a:ext cx="6629400" cy="35812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Business Intelligence Studio to create a new Analysis Services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Data Source (server conne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Data Source View using: Sale, SaleItem, Inventory, ItemModel, Manufacturer tables. For lookups, include BindingStyle, Customer, PaymentMethod, ProductCategory, SkiBoardStyle, and Skill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 Data Source 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EFB5-DD8D-423F-9ABE-CE1F6C1457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278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4E21-6B32-431A-8FCB-7A8E6849A2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143000" y="1676520"/>
            <a:ext cx="6629400" cy="35812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extra (cycle) connections in the Data Source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aleItem table, add a concatenated key: Convert(nvarchar, SaleID) + ‘-‘ + 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Value=SalePrice*QuantitySold to SaleI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SaleYear and SaleMonth to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mprove Data Source 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AE14-DD41-470C-9998-DC3E0D4E10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172200" cy="44434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0"/>
          <p:cNvSpPr/>
          <p:nvPr/>
        </p:nvSpPr>
        <p:spPr>
          <a:xfrm>
            <a:off x="2514600" y="4876920"/>
            <a:ext cx="16002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unneeded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6"/>
          <p:cNvSpPr/>
          <p:nvPr/>
        </p:nvSpPr>
        <p:spPr>
          <a:xfrm flipV="1">
            <a:off x="4114800" y="3429000"/>
            <a:ext cx="121932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6"/>
          <p:cNvSpPr/>
          <p:nvPr/>
        </p:nvSpPr>
        <p:spPr>
          <a:xfrm flipV="1">
            <a:off x="4114800" y="396252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6"/>
          <p:cNvSpPr/>
          <p:nvPr/>
        </p:nvSpPr>
        <p:spPr>
          <a:xfrm flipV="1">
            <a:off x="4114800" y="47242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d Calculations/Colum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9021-DA8A-42B9-83DD-0EE03B5C43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470240" y="2133720"/>
            <a:ext cx="5409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 tab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D_SKU: Convert(nvarchar, SaleID) + ‘-‘ +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: SalePrice*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466280" y="3733920"/>
            <a:ext cx="3121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tabl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Year: Year(Sale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Month: Month(Sale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EAEC-71F7-4A39-BCD9-C25048E97F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143000" y="1676520"/>
            <a:ext cx="6629400" cy="358128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Dimension based on the Sale table using only SaleDate, SaleYear, and Sale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Year, Month, and Date data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hierarchy starting with SaleYear, then SaleMonth, and SaleDate. Save the dimension as SaleDateH and te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dimension with at least Color, ItemMaterial, Manufacturer Name, ShipState, and Gen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SaleDate Dim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0AF6-FAE7-447C-B416-2A4C25704E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476760" cy="46670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2666880" y="4800600"/>
            <a:ext cx="1447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5"/>
          <p:cNvSpPr/>
          <p:nvPr/>
        </p:nvSpPr>
        <p:spPr>
          <a:xfrm flipV="1">
            <a:off x="4114800" y="4038120"/>
            <a:ext cx="2286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5"/>
          <p:cNvSpPr/>
          <p:nvPr/>
        </p:nvSpPr>
        <p:spPr>
          <a:xfrm flipV="1">
            <a:off x="4114800" y="4724280"/>
            <a:ext cx="2666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600200" y="350532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5"/>
          <p:cNvSpPr/>
          <p:nvPr/>
        </p:nvSpPr>
        <p:spPr>
          <a:xfrm flipH="1" flipV="1">
            <a:off x="2057040" y="28954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5"/>
          <p:cNvSpPr/>
          <p:nvPr/>
        </p:nvSpPr>
        <p:spPr>
          <a:xfrm flipV="1">
            <a:off x="2286000" y="28954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FD46-2F97-4408-86CD-AF66A919D2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143000" y="1676520"/>
            <a:ext cx="6629400" cy="36576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the new Cube name and choose Brow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SaleDateH as the column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Product Category as the row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Value in the total s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Color, Manufacturer Name, and Ship State to the filter fie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 with the cube to test the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AD82-ACEE-4595-B3B3-43428B2B34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sired Sales Cube Dimens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1600200" y="182880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(sh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ding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Max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Materi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stWid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LAP Cube Struc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4E48-E0F8-4443-A474-CE2F797E27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32484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be Brows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B76E-CFF8-430E-8916-C96D36A0D9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5530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: Time-Series Analy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B1AA-DC8B-41EE-82DE-EDD5F1144E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143000" y="1676520"/>
            <a:ext cx="6629400" cy="36576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 new BI Analysis Services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data source, but you can reuse the existing conn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Data Source View, but do not add any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amed Query that totals SalePrice*QuantitySold and computes a date sequence: (Year(SaleDate)-2003)*12+Month(SaleDa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8CFC-E210-4DC9-8C90-16B4C32D01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609480" y="2514600"/>
            <a:ext cx="76201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(Year(SaleDate)-2003)*12+Month(SaleDate) As MonthSeq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(SaleItem.QuantitySold*SaleItem.SalePrice) As 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Sale ON SaleItem.SaleID = Sale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(Year(SaleDate)-2003)*12+Month(Sale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4114800" y="160020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sequence of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Straight Arrow Connector 6"/>
          <p:cNvCxnSpPr>
            <a:stCxn id="238" idx="2"/>
          </p:cNvCxnSpPr>
          <p:nvPr/>
        </p:nvCxnSpPr>
        <p:spPr>
          <a:xfrm flipH="1">
            <a:off x="3657240" y="2246040"/>
            <a:ext cx="1448640" cy="26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9EA4-D765-4F89-BD98-EDFAFE0E5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066680" y="1523880"/>
            <a:ext cx="6934320" cy="31244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mining structure choosing the Time Series techn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Monthly Sales data 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SaleYearMonth as the K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alesValue, check the options for Input and Predic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he new structure and Brows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3300-D445-4CA9-9A04-DD1B11D6F7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ime Series Analysis: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55308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00800" cy="4573440"/>
          </a:xfrm>
          <a:prstGeom prst="rect">
            <a:avLst/>
          </a:prstGeom>
          <a:ln w="0">
            <a:noFill/>
          </a:ln>
        </p:spPr>
      </p:pic>
      <p:sp>
        <p:nvSpPr>
          <p:cNvPr id="24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944D-D1A5-45E1-B5BB-37B02CB847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ime Series Foreca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 flipV="1">
            <a:off x="3962520" y="388584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2819520" y="46483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, but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5304-5289-483B-9B42-F9442B3990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066680" y="1523880"/>
            <a:ext cx="6934320" cy="18288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Algorithm Parameters to use only the ARIMA model and suggest a 12-month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ocess and browse the model to evaluate the foreca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D918-B0DF-49FE-A389-7254F2F64B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ime Series Improved Foreca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4767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D5D9-557F-4DCD-A353-74291D4580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: Regres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066680" y="1523880"/>
            <a:ext cx="6934320" cy="41911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database studio to import the demographic data from Ex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view to compute sales by state for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view to list the state, sales, population, and inc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 new BI project and build a Data Source View from the database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Mining Structure to apply Linear Regression to the Sale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F321-129B-4192-BE33-F6F374C8ED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arly Data: Spreadshee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3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4848480" cy="3657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53337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Vie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205B-E8AC-4FC9-AF42-C98B8D731F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990720" y="1447920"/>
            <a:ext cx="640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StateSales2006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ale.ShipState, SUM(SaleItem.SalePrice*SaleItem.QuantitySold) A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SaleItem ON Sale.SaleID=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.SaleDate between '1/1/2006' and '12/31/2006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Sale.Ship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990720" y="373392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StateSalesFactors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tateDemographics$.State, StateDemographics$.Pop2006, StateDemographics$.Income2006, StateSales2006.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tateDemographic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StateSales2006 ON StateDemographics$.State=StateSales2006.Ship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7A4C-ACD3-4C9A-BFBC-318DA315EA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: Regres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066680" y="1523880"/>
            <a:ext cx="6934320" cy="46483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Data Mining Structure using the Linear Regression techn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State as the Key, Income2006 and Pop2006 as Input types, and Value needs the Input and Predictable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percentage of testing data to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he model and Browse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the Data Mining Legend to see the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Model Viewer, set the Algorithm Parameters to Force_Regressor={Income2006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ocess and Browse the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gression Set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62C8-7E7A-4F52-A117-EC9C9F4E92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57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F9A7-FB56-4867-B586-068C5526C0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Regression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7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2485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9D9C-593D-4EC9-9182-13598665C7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: Regres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066680" y="1523880"/>
            <a:ext cx="6934320" cy="18288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Model Viewer, set the Algorithm Parameters to Force_Regressor = {Income2006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ocess and Browse the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6DE0-37C2-4DE6-819A-0382AF6ACA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gression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11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508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C467-7F08-4EB7-8565-F3DB9C5D9F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: Association Ru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1066680" y="1523880"/>
            <a:ext cx="6934320" cy="35053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Analysis Services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ew Data Source, reusing the existing conn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Data Source View with just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amed Query to the View using SaleItem, Inventory, and ItemModel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primary keys and connect the NamedQuery to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845E-21C4-42F3-B0A8-267A7CD367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amed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990720" y="1905120"/>
            <a:ext cx="7010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aleItem.SaleID, SaleItem.S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Model.Category + '_' + Coalesce(ItemModel.Style,'') A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Inventory ON SaleItem.SKU=Inventory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ItemModel ON Inventory.ModelID=ItemModel.Mode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33C3-B1B0-4710-83FE-F85D8EFBBE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838080" y="1828800"/>
            <a:ext cx="7315200" cy="39625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Mining Structure and choose the Microsoft Association R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Sales table and mark the Case o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aleModel and select the Nested o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the SaleID attribute and set the Key o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the Model attribute and set the Key, Input, and Predictable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Allow drill through option at th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F547-9A78-49BA-9459-B224755FD7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hoose Attribut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6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543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8560-5464-4B60-8A94-655B923D1F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371600" y="1981080"/>
            <a:ext cx="5486400" cy="37339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all sales with SaleID&gt;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two CSV files to your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wo SQL tables to hold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and run the SQL BULK INSERT command to import the early rental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CustomerID 0 and EmployeeID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EA4D-8052-45EE-BBD9-029B8EF446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Association Resul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400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FE36-8B75-4F91-9AA6-85654BEBCD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838080" y="1828800"/>
            <a:ext cx="7315200" cy="396252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he rules and brows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minimum probability and importance to reduce the number of rules displa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out the list of items in the itemset t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the Dependence Network t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node and move the slider to remove the weaker r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about what the results would mean in terms of sales and mark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54D4-8C67-4332-8E7E-A68CBE8359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ronger Result Li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440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7BC4-1578-4AAC-962C-34E4D7F0E9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temset Li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6" descr=""/>
          <p:cNvPicPr/>
          <p:nvPr/>
        </p:nvPicPr>
        <p:blipFill>
          <a:blip r:embed="rId1"/>
          <a:srcRect l="3420" t="13152" r="55556" b="8868"/>
          <a:stretch/>
        </p:blipFill>
        <p:spPr>
          <a:xfrm>
            <a:off x="2514600" y="1523880"/>
            <a:ext cx="32767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pendency Networ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6608-0333-4524-A934-52649C77CA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311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468E-4CB5-4899-AE7A-EE190F9F10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IS: Microsoft MapPoi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4746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0CBD-08DB-47E6-B7F7-32FF8B5E6A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pPoint Data Wizar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Picture 5" descr=""/>
          <p:cNvPicPr/>
          <p:nvPr/>
        </p:nvPicPr>
        <p:blipFill>
          <a:blip r:embed="rId1"/>
          <a:stretch/>
        </p:blipFill>
        <p:spPr>
          <a:xfrm>
            <a:off x="609480" y="1849320"/>
            <a:ext cx="3886200" cy="39211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"/>
          <p:cNvPicPr/>
          <p:nvPr/>
        </p:nvPicPr>
        <p:blipFill>
          <a:blip r:embed="rId2"/>
          <a:stretch/>
        </p:blipFill>
        <p:spPr>
          <a:xfrm>
            <a:off x="4648320" y="1849320"/>
            <a:ext cx="3886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D923-A982-460C-BB22-23145420B4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IS Analysis of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588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E1B4-7848-43E9-9ED0-CD9CABAA4F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e New/Temp Rental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766440" y="6262560"/>
            <a:ext cx="70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arning: currency columns cannot have $ symbols or com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533520" y="1752480"/>
            <a:ext cx="3429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TABLE OldRe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ti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ctedRetur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ti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ment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F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e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ti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2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Siz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facturer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4495680" y="2590920"/>
            <a:ext cx="3581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Ye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Materi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e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ill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ight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stWid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ding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archar (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02B4-59D1-4CBA-838A-06794775A3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ULK INSE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685800" y="1752480"/>
            <a:ext cx="6705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LK INSERT OldRe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'&lt;folder name&gt;\Lab 09-01 Early Rentals.csv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ELDTERMINATOR = ','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WTERMINATOR = '\n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83D8-F3FE-4E48-8417-7CBC7AFC79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371600" y="1981080"/>
            <a:ext cx="6553080" cy="381024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Excel spreadsheet and save the Sales data as a CSV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OldSale table in SQL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SSIS, use File/New/Project to create a new Integration Services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a Data Flow Task object onto the Control Flow p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click this object to open the Data Flow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C85F-B747-4BDB-BF54-061AE6D0AC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914400" y="1523880"/>
            <a:ext cx="7391520" cy="43434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a Flat File Source onto this p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it and attach it to the CSV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data types for the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an ADO .NET destination object onto the Data Flow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the arrow from the Flat File source object to the ADO destination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the destination object and assign it to the OldSale table in your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and run the project to transfer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8-07-26T23:01:19Z</dcterms:modified>
  <cp:revision>136</cp:revision>
  <dc:subject/>
  <dc:title>All Powder Board and Ski</dc:title>
</cp:coreProperties>
</file>